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572-D526-4983-A1D6-086787DB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994-75D6-482A-A6A6-0C1B5F0C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86A-722C-4CBE-9A3F-FCF88AAC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DBD-E5E8-4B15-901A-C9EC64B1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2A0-AFDC-48F6-A7E4-BD931E9C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8AB-3CDA-4A37-A78F-8FF78A72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D0A-4747-4235-BDA4-D605EFF9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180-E778-44C0-846B-52D7DF49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E5F-4782-4011-B198-ED42543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F02-AE35-409A-BC05-B9B34EBE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136-E15C-4D6D-862F-EF0B2425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48B-18D8-4F70-A6C9-CB2EE18A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41F3-560F-4554-BAFB-66621D623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4356000" y="2637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 с поздравлением нужно разместить зде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6:06:43Z</dcterms:created>
  <dc:creator>vasiliev</dc:creator>
  <dc:description/>
  <dc:language>en-US</dc:language>
  <cp:lastModifiedBy>Слава</cp:lastModifiedBy>
  <dcterms:modified xsi:type="dcterms:W3CDTF">2019-08-25T19:54:03Z</dcterms:modified>
  <cp:revision>3</cp:revision>
  <dc:subject/>
  <dc:title>Презентация PowerPoint</dc:title>
</cp:coreProperties>
</file>