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6.xml.rels" ContentType="application/vnd.openxmlformats-package.relationships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29D1-43F2-4589-A655-4E0639C877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3452-BB05-4963-B9DE-DFD7E4B215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E99-7236-4503-887D-C0D93FE4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3E7-8C4C-4F91-B364-A860CA1D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94D-1EF8-4D8E-89B6-0089EFD4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485-2352-4778-BD18-0C94115E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4DF9-5236-4521-9EFC-8A8D71D6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8B24-F0E0-4C55-B008-78241954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DBBA-B486-4240-8D3B-65E41CB0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4C40-1871-49D4-8CDC-B712DD1E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8134-DC21-4D67-9DAF-8F6693A7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1EE2-6966-4049-9321-50A43F47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1BFB-0AAF-4DED-96D7-C702AC8B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569-27BB-49F5-BF45-F0C0613C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1756-E7A5-4BB3-AD61-06B6ABA4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A08E-CEA3-495E-8683-DFF53946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08B7-6FBB-4645-92B3-6EB554EB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17F2-2966-42B9-BBB3-DAEEEAF0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0164-4889-448E-A009-CE8CA407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E42A-F12E-41CE-8485-7D96FED3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81127-CEAF-4D72-8EA1-8B6B5DC7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5167-7FD1-48C3-93AD-45EE94D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6C2B-4E32-4A7A-9953-BB730C2B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2B97-65E2-41F5-99F2-BD3E7B2D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8DE-B1E4-4AAB-A8CB-3157C7A8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1B20F-1101-4C0D-9A29-55BE040E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6A2E-B4A3-469E-A0B6-AD978702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56A62-EE43-4F43-B2F0-7BACECF3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B680-4F78-4224-912C-96C82B74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C032-D429-4F5D-857C-27F8778C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E784-840B-4655-9611-5BC776A9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86BA-3B3E-440E-9F8A-6BE25BAE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0F0-D2A4-4C2D-B5D0-F94D59D5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123-055A-458A-88E4-4CED5AB1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DD1-0548-4620-85B3-F178EEDF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53D-87F6-4B88-AD7D-5DE971E5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A66-1113-4157-B3A6-DE901861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961-E06D-4A0C-9A06-878784B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3487-3327-4416-8DA1-6F1C011AA722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 Поляков, 2012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           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                                                                        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narod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53C8-5136-4505-842A-0FE9389D56E2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Исполнитель Роб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 Поляков, 2012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                                                                                              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narod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82A2-866A-43D3-9ADE-9B93AD3944F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4FC1-03AA-440C-9FF3-FA57E07804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. Знакомство с исполнителем Ро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230B-F52A-4760-B035-B859457987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E427-AE8C-4016-9439-4413A35DAE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4. Вложенные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1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4299-84AE-42D0-88ED-575D862B5B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ложенные 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77"/>
          <p:cNvSpPr/>
          <p:nvPr/>
        </p:nvSpPr>
        <p:spPr>
          <a:xfrm>
            <a:off x="5234040" y="906480"/>
            <a:ext cx="359892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57120" y="876240"/>
            <a:ext cx="4413240" cy="38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544680" y="1643040"/>
            <a:ext cx="441144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730080" y="2409840"/>
            <a:ext cx="441360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4" name="Прямоугольник 13"/>
          <p:cNvSpPr/>
          <p:nvPr/>
        </p:nvSpPr>
        <p:spPr>
          <a:xfrm>
            <a:off x="5592600" y="1992240"/>
            <a:ext cx="24228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ая прямоугольная выноска 14"/>
          <p:cNvSpPr/>
          <p:nvPr/>
        </p:nvSpPr>
        <p:spPr>
          <a:xfrm>
            <a:off x="6222960" y="4940280"/>
            <a:ext cx="2673360" cy="579600"/>
          </a:xfrm>
          <a:prstGeom prst="wedgeRoundRectCallout">
            <a:avLst>
              <a:gd name="adj1" fmla="val -47421"/>
              <a:gd name="adj2" fmla="val -10531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5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5"/>
          <p:cNvGrpSpPr/>
          <p:nvPr/>
        </p:nvGrpSpPr>
        <p:grpSpPr>
          <a:xfrm>
            <a:off x="5292720" y="5621400"/>
            <a:ext cx="3413160" cy="663480"/>
            <a:chOff x="5292720" y="5621400"/>
            <a:chExt cx="3413160" cy="663480"/>
          </a:xfrm>
        </p:grpSpPr>
        <p:sp>
          <p:nvSpPr>
            <p:cNvPr id="237" name="Text Box 56"/>
            <p:cNvSpPr/>
            <p:nvPr/>
          </p:nvSpPr>
          <p:spPr>
            <a:xfrm>
              <a:off x="5759640" y="5727600"/>
              <a:ext cx="294624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останови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57"/>
            <p:cNvSpPr/>
            <p:nvPr/>
          </p:nvSpPr>
          <p:spPr>
            <a:xfrm>
              <a:off x="5292720" y="5621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ложенные 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0557-062F-47D7-9DA7-D4428234FB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57120" y="876240"/>
            <a:ext cx="3400560" cy="29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2" name="Прямоугольник 4"/>
          <p:cNvSpPr/>
          <p:nvPr/>
        </p:nvSpPr>
        <p:spPr>
          <a:xfrm>
            <a:off x="3862440" y="906480"/>
            <a:ext cx="497052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4581360" y="2362320"/>
            <a:ext cx="3443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5"/>
          <p:cNvGrpSpPr/>
          <p:nvPr/>
        </p:nvGrpSpPr>
        <p:grpSpPr>
          <a:xfrm>
            <a:off x="142920" y="4362480"/>
            <a:ext cx="3681000" cy="1663200"/>
            <a:chOff x="142920" y="4362480"/>
            <a:chExt cx="3681000" cy="1663200"/>
          </a:xfrm>
        </p:grpSpPr>
        <p:sp>
          <p:nvSpPr>
            <p:cNvPr id="245" name="Text Box 56"/>
            <p:cNvSpPr/>
            <p:nvPr/>
          </p:nvSpPr>
          <p:spPr>
            <a:xfrm>
              <a:off x="609480" y="4468680"/>
              <a:ext cx="3214440" cy="15570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ложенный цикл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это цикл внутр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другого цикл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57"/>
            <p:cNvSpPr/>
            <p:nvPr/>
          </p:nvSpPr>
          <p:spPr>
            <a:xfrm>
              <a:off x="142920" y="4362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Полилиния 9"/>
          <p:cNvSpPr/>
          <p:nvPr/>
        </p:nvSpPr>
        <p:spPr>
          <a:xfrm>
            <a:off x="3551400" y="2801880"/>
            <a:ext cx="1371600" cy="1673280"/>
          </a:xfrm>
          <a:prstGeom prst="pie">
            <a:avLst/>
          </a:prstGeom>
          <a:noFill/>
          <a:ln w="28440">
            <a:solidFill>
              <a:srgbClr val="3f3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10"/>
          <p:cNvSpPr/>
          <p:nvPr/>
        </p:nvSpPr>
        <p:spPr>
          <a:xfrm>
            <a:off x="3822840" y="4454640"/>
            <a:ext cx="826920" cy="593640"/>
          </a:xfrm>
          <a:prstGeom prst="pie">
            <a:avLst/>
          </a:prstGeom>
          <a:noFill/>
          <a:ln w="28440">
            <a:solidFill>
              <a:srgbClr val="3f3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A1A3-9B00-4543-B93D-0A205A071F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579A-DDF6-45AD-A40E-C499033E0B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5. Циклы с услов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BA48-8658-4969-BC9E-B45FEA8A83D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88800" y="903240"/>
            <a:ext cx="3583080" cy="378000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55"/>
          <p:cNvGrpSpPr/>
          <p:nvPr/>
        </p:nvGrpSpPr>
        <p:grpSpPr>
          <a:xfrm>
            <a:off x="579600" y="4900680"/>
            <a:ext cx="2955240" cy="1663200"/>
            <a:chOff x="579600" y="4900680"/>
            <a:chExt cx="2955240" cy="1663200"/>
          </a:xfrm>
        </p:grpSpPr>
        <p:sp>
          <p:nvSpPr>
            <p:cNvPr id="259" name="Text Box 56"/>
            <p:cNvSpPr/>
            <p:nvPr/>
          </p:nvSpPr>
          <p:spPr>
            <a:xfrm>
              <a:off x="1046160" y="5006880"/>
              <a:ext cx="2488680" cy="15570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тояния 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длины стенок  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еизвестн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7"/>
            <p:cNvSpPr/>
            <p:nvPr/>
          </p:nvSpPr>
          <p:spPr>
            <a:xfrm>
              <a:off x="579600" y="4900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Прямоугольник 7"/>
          <p:cNvSpPr/>
          <p:nvPr/>
        </p:nvSpPr>
        <p:spPr>
          <a:xfrm>
            <a:off x="4095720" y="906480"/>
            <a:ext cx="478476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379440" y="912960"/>
            <a:ext cx="3581280" cy="37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3" name="Скругленная прямоугольная выноска 9"/>
          <p:cNvSpPr/>
          <p:nvPr/>
        </p:nvSpPr>
        <p:spPr>
          <a:xfrm>
            <a:off x="6383160" y="1494000"/>
            <a:ext cx="1511640" cy="502920"/>
          </a:xfrm>
          <a:prstGeom prst="wedgeRoundRectCallout">
            <a:avLst>
              <a:gd name="adj1" fmla="val -85671"/>
              <a:gd name="adj2" fmla="val 61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8D01-CBF7-457E-89FD-D562FDCDAE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4095720" y="906480"/>
            <a:ext cx="478476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41200" y="947880"/>
            <a:ext cx="3656160" cy="385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A0C0-D1B6-4391-B6C6-9F4F909C91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779B-EF5F-4C2E-912A-F7BC8FE3E7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6.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1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8581-DDEA-4FD0-9C64-433582F83C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а исполнителя Роб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3" descr=""/>
          <p:cNvPicPr/>
          <p:nvPr/>
        </p:nvPicPr>
        <p:blipFill>
          <a:blip r:embed="rId1"/>
          <a:stretch/>
        </p:blipFill>
        <p:spPr>
          <a:xfrm>
            <a:off x="617400" y="941400"/>
            <a:ext cx="314964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Скругленная прямоугольная выноска 5"/>
          <p:cNvSpPr/>
          <p:nvPr/>
        </p:nvSpPr>
        <p:spPr>
          <a:xfrm>
            <a:off x="3581280" y="1382760"/>
            <a:ext cx="946440" cy="507960"/>
          </a:xfrm>
          <a:prstGeom prst="wedgeRoundRectCallout">
            <a:avLst>
              <a:gd name="adj1" fmla="val -81217"/>
              <a:gd name="adj2" fmla="val 16309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ая прямоугольная выноска 6"/>
          <p:cNvSpPr/>
          <p:nvPr/>
        </p:nvSpPr>
        <p:spPr>
          <a:xfrm>
            <a:off x="1100160" y="4167360"/>
            <a:ext cx="1163520" cy="507960"/>
          </a:xfrm>
          <a:prstGeom prst="wedgeRoundRectCallout">
            <a:avLst>
              <a:gd name="adj1" fmla="val 42398"/>
              <a:gd name="adj2" fmla="val -223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ая прямоугольная выноска 7"/>
          <p:cNvSpPr/>
          <p:nvPr/>
        </p:nvSpPr>
        <p:spPr>
          <a:xfrm>
            <a:off x="322200" y="1236600"/>
            <a:ext cx="1149480" cy="507960"/>
          </a:xfrm>
          <a:prstGeom prst="wedgeRoundRectCallout">
            <a:avLst>
              <a:gd name="adj1" fmla="val 82828"/>
              <a:gd name="adj2" fmla="val 2158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ая прямоугольная выноска 8"/>
          <p:cNvSpPr/>
          <p:nvPr/>
        </p:nvSpPr>
        <p:spPr>
          <a:xfrm>
            <a:off x="3046320" y="3065400"/>
            <a:ext cx="2193840" cy="1339920"/>
          </a:xfrm>
          <a:prstGeom prst="wedgeRoundRectCallout">
            <a:avLst>
              <a:gd name="adj1" fmla="val -64277"/>
              <a:gd name="adj2" fmla="val -667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у клетку надо 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76"/>
          <p:cNvSpPr/>
          <p:nvPr/>
        </p:nvSpPr>
        <p:spPr>
          <a:xfrm>
            <a:off x="396720" y="4952880"/>
            <a:ext cx="8396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 для Роб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закрасить все отмеченные клетки и придти на Баз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5462640" y="941400"/>
            <a:ext cx="314964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" name="Стрелка вправо 12"/>
          <p:cNvSpPr/>
          <p:nvPr/>
        </p:nvSpPr>
        <p:spPr>
          <a:xfrm>
            <a:off x="4329000" y="2382840"/>
            <a:ext cx="582840" cy="2919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0000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94CC-FF84-40E4-8A9A-8A8D3635AD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282760" y="1047600"/>
            <a:ext cx="5060880" cy="269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77" name="Group 55"/>
          <p:cNvGrpSpPr/>
          <p:nvPr/>
        </p:nvGrpSpPr>
        <p:grpSpPr>
          <a:xfrm>
            <a:off x="890640" y="4064040"/>
            <a:ext cx="7727400" cy="663480"/>
            <a:chOff x="890640" y="4064040"/>
            <a:chExt cx="7727400" cy="663480"/>
          </a:xfrm>
        </p:grpSpPr>
        <p:sp>
          <p:nvSpPr>
            <p:cNvPr id="278" name="Text Box 56"/>
            <p:cNvSpPr/>
            <p:nvPr/>
          </p:nvSpPr>
          <p:spPr>
            <a:xfrm>
              <a:off x="1357200" y="4170240"/>
              <a:ext cx="726084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тояния и количество проходов неизвестн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57"/>
            <p:cNvSpPr/>
            <p:nvPr/>
          </p:nvSpPr>
          <p:spPr>
            <a:xfrm>
              <a:off x="890640" y="4064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0B4D-36FC-48F7-8AA4-E8F37CE423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74680" y="912960"/>
            <a:ext cx="371304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Прямоугольник 4"/>
          <p:cNvSpPr/>
          <p:nvPr/>
        </p:nvSpPr>
        <p:spPr>
          <a:xfrm>
            <a:off x="4129200" y="906480"/>
            <a:ext cx="47847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4129200" y="2735280"/>
            <a:ext cx="4784760" cy="3339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74680" y="1398600"/>
            <a:ext cx="37130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6" name="Picture 3" descr=""/>
          <p:cNvPicPr/>
          <p:nvPr/>
        </p:nvPicPr>
        <p:blipFill>
          <a:blip r:embed="rId3"/>
          <a:stretch/>
        </p:blipFill>
        <p:spPr>
          <a:xfrm>
            <a:off x="274680" y="1884240"/>
            <a:ext cx="37130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7" name="Прямоугольник 8"/>
          <p:cNvSpPr/>
          <p:nvPr/>
        </p:nvSpPr>
        <p:spPr>
          <a:xfrm>
            <a:off x="144360" y="2941560"/>
            <a:ext cx="39481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олилиния 9"/>
          <p:cNvSpPr/>
          <p:nvPr/>
        </p:nvSpPr>
        <p:spPr>
          <a:xfrm>
            <a:off x="3992400" y="2801880"/>
            <a:ext cx="930600" cy="254160"/>
          </a:xfrm>
          <a:prstGeom prst="pie">
            <a:avLst/>
          </a:prstGeom>
          <a:noFill/>
          <a:ln w="28440">
            <a:solidFill>
              <a:srgbClr val="3f3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ая прямоугольная выноска 10"/>
          <p:cNvSpPr/>
          <p:nvPr/>
        </p:nvSpPr>
        <p:spPr>
          <a:xfrm>
            <a:off x="3595680" y="3724200"/>
            <a:ext cx="1511280" cy="503280"/>
          </a:xfrm>
          <a:prstGeom prst="wedgeRoundRectCallout">
            <a:avLst>
              <a:gd name="adj1" fmla="val 52976"/>
              <a:gd name="adj2" fmla="val -17739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7799-7425-4C74-9797-2DC26C14E56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30040" y="912960"/>
            <a:ext cx="371340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3" name="Прямоугольник 11"/>
          <p:cNvSpPr/>
          <p:nvPr/>
        </p:nvSpPr>
        <p:spPr>
          <a:xfrm>
            <a:off x="4129200" y="906480"/>
            <a:ext cx="4784760" cy="5534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5"/>
          <p:cNvGrpSpPr/>
          <p:nvPr/>
        </p:nvGrpSpPr>
        <p:grpSpPr>
          <a:xfrm>
            <a:off x="635040" y="3316320"/>
            <a:ext cx="2565000" cy="663480"/>
            <a:chOff x="635040" y="3316320"/>
            <a:chExt cx="2565000" cy="663480"/>
          </a:xfrm>
        </p:grpSpPr>
        <p:sp>
          <p:nvSpPr>
            <p:cNvPr id="295" name="Text Box 56"/>
            <p:cNvSpPr/>
            <p:nvPr/>
          </p:nvSpPr>
          <p:spPr>
            <a:xfrm>
              <a:off x="1101600" y="3422520"/>
              <a:ext cx="209844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57"/>
            <p:cNvSpPr/>
            <p:nvPr/>
          </p:nvSpPr>
          <p:spPr>
            <a:xfrm>
              <a:off x="635040" y="33163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оугольник 15"/>
          <p:cNvSpPr/>
          <p:nvPr/>
        </p:nvSpPr>
        <p:spPr>
          <a:xfrm>
            <a:off x="4772160" y="2820960"/>
            <a:ext cx="35240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18CE-1546-4B2C-AA5A-6DFD715AA7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6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5F3D-6FA5-4AA2-B8BF-C9CECE792C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7. Слож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9B73-BB06-4959-8867-D6A57FDFC0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400040" y="982800"/>
            <a:ext cx="6807240" cy="29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07" name="Group 55"/>
          <p:cNvGrpSpPr/>
          <p:nvPr/>
        </p:nvGrpSpPr>
        <p:grpSpPr>
          <a:xfrm>
            <a:off x="890640" y="4064040"/>
            <a:ext cx="7727400" cy="931680"/>
            <a:chOff x="890640" y="4064040"/>
            <a:chExt cx="7727400" cy="931680"/>
          </a:xfrm>
        </p:grpSpPr>
        <p:sp>
          <p:nvSpPr>
            <p:cNvPr id="308" name="Text Box 56"/>
            <p:cNvSpPr/>
            <p:nvPr/>
          </p:nvSpPr>
          <p:spPr>
            <a:xfrm>
              <a:off x="1357200" y="4170240"/>
              <a:ext cx="726084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ход на Базу там, где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верху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вободно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и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низу свобод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7"/>
            <p:cNvSpPr/>
            <p:nvPr/>
          </p:nvSpPr>
          <p:spPr>
            <a:xfrm>
              <a:off x="890640" y="4064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55"/>
          <p:cNvGrpSpPr/>
          <p:nvPr/>
        </p:nvGrpSpPr>
        <p:grpSpPr>
          <a:xfrm>
            <a:off x="890640" y="5156280"/>
            <a:ext cx="7727400" cy="931680"/>
            <a:chOff x="890640" y="5156280"/>
            <a:chExt cx="7727400" cy="931680"/>
          </a:xfrm>
        </p:grpSpPr>
        <p:sp>
          <p:nvSpPr>
            <p:cNvPr id="311" name="Text Box 56"/>
            <p:cNvSpPr/>
            <p:nvPr/>
          </p:nvSpPr>
          <p:spPr>
            <a:xfrm>
              <a:off x="1357200" y="5262480"/>
              <a:ext cx="726084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идти вправо, пока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верху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тена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или 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снизу стена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890640" y="51562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EC58-5164-4882-84AA-D656CFE290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998720" y="949320"/>
            <a:ext cx="5146560" cy="222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16" name="Прямоугольник 4"/>
          <p:cNvSpPr/>
          <p:nvPr/>
        </p:nvSpPr>
        <p:spPr>
          <a:xfrm>
            <a:off x="1035000" y="3281400"/>
            <a:ext cx="7074000" cy="3110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или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низ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5"/>
          <p:cNvGrpSpPr/>
          <p:nvPr/>
        </p:nvGrpSpPr>
        <p:grpSpPr>
          <a:xfrm>
            <a:off x="5987880" y="3527280"/>
            <a:ext cx="2565720" cy="663480"/>
            <a:chOff x="5987880" y="3527280"/>
            <a:chExt cx="2565720" cy="663480"/>
          </a:xfrm>
        </p:grpSpPr>
        <p:sp>
          <p:nvSpPr>
            <p:cNvPr id="318" name="Text Box 56"/>
            <p:cNvSpPr/>
            <p:nvPr/>
          </p:nvSpPr>
          <p:spPr>
            <a:xfrm>
              <a:off x="6454800" y="3633480"/>
              <a:ext cx="209880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7"/>
            <p:cNvSpPr/>
            <p:nvPr/>
          </p:nvSpPr>
          <p:spPr>
            <a:xfrm>
              <a:off x="5987880" y="3527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018F-6DB4-45E9-B71E-C6D8ACE5ED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85920" y="882720"/>
            <a:ext cx="6626160" cy="286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3" name="Прямоугольник 7"/>
          <p:cNvSpPr/>
          <p:nvPr/>
        </p:nvSpPr>
        <p:spPr>
          <a:xfrm>
            <a:off x="2082960" y="3000240"/>
            <a:ext cx="6715080" cy="3445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или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низ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5123-83A2-4FC6-974B-B2A8A50E75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363600" y="871560"/>
            <a:ext cx="667692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Прямоугольник 4"/>
          <p:cNvSpPr/>
          <p:nvPr/>
        </p:nvSpPr>
        <p:spPr>
          <a:xfrm>
            <a:off x="2127240" y="2252520"/>
            <a:ext cx="6715080" cy="4115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или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низ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054B-83B4-4370-A84F-1D1390DCCFD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7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1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FD05-5361-4815-B6BC-6B9C0C2CCC5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а коман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476280" y="800280"/>
            <a:ext cx="30938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рх   вниз   вправо  вле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крас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ая прямоугольная выноска 74"/>
          <p:cNvSpPr/>
          <p:nvPr/>
        </p:nvSpPr>
        <p:spPr>
          <a:xfrm>
            <a:off x="828720" y="1744560"/>
            <a:ext cx="2265480" cy="428760"/>
          </a:xfrm>
          <a:prstGeom prst="wedgeRoundRectCallout">
            <a:avLst>
              <a:gd name="adj1" fmla="val -6606"/>
              <a:gd name="adj2" fmla="val -10016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ая прямоугольная выноска 75"/>
          <p:cNvSpPr/>
          <p:nvPr/>
        </p:nvSpPr>
        <p:spPr>
          <a:xfrm>
            <a:off x="828720" y="2805120"/>
            <a:ext cx="2265480" cy="484200"/>
          </a:xfrm>
          <a:prstGeom prst="wedgeRoundRectCallout">
            <a:avLst>
              <a:gd name="adj1" fmla="val -6606"/>
              <a:gd name="adj2" fmla="val -10016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бе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3" descr=""/>
          <p:cNvPicPr/>
          <p:nvPr/>
        </p:nvPicPr>
        <p:blipFill>
          <a:blip r:embed="rId1"/>
          <a:stretch/>
        </p:blipFill>
        <p:spPr>
          <a:xfrm>
            <a:off x="482760" y="3346560"/>
            <a:ext cx="2825640" cy="310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Прямоугольник 77"/>
          <p:cNvSpPr/>
          <p:nvPr/>
        </p:nvSpPr>
        <p:spPr>
          <a:xfrm>
            <a:off x="4241880" y="878040"/>
            <a:ext cx="3987720" cy="5534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Команд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CD05-3C96-4ABE-8286-628FF09185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8. Вспомогательны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алгорит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8DC9-60EA-497F-A1C6-7F0FFCE0C3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017880" y="1027080"/>
            <a:ext cx="3286080" cy="34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37" name="Group 55"/>
          <p:cNvGrpSpPr/>
          <p:nvPr/>
        </p:nvGrpSpPr>
        <p:grpSpPr>
          <a:xfrm>
            <a:off x="1492200" y="4811760"/>
            <a:ext cx="6693120" cy="931680"/>
            <a:chOff x="1492200" y="4811760"/>
            <a:chExt cx="6693120" cy="931680"/>
          </a:xfrm>
        </p:grpSpPr>
        <p:sp>
          <p:nvSpPr>
            <p:cNvPr id="338" name="Text Box 56"/>
            <p:cNvSpPr/>
            <p:nvPr/>
          </p:nvSpPr>
          <p:spPr>
            <a:xfrm>
              <a:off x="1959120" y="4917960"/>
              <a:ext cx="622620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ложенный цикл использовать сложно,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хотя есть одинаковые ря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57"/>
            <p:cNvSpPr/>
            <p:nvPr/>
          </p:nvSpPr>
          <p:spPr>
            <a:xfrm>
              <a:off x="1492200" y="4811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алгорит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97AC-61E1-428A-A5C6-EDC5E51933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rcRect l="0" t="0" r="0" b="61167"/>
          <a:stretch/>
        </p:blipFill>
        <p:spPr>
          <a:xfrm>
            <a:off x="390600" y="880920"/>
            <a:ext cx="3286080" cy="134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390600" y="2816280"/>
            <a:ext cx="3286080" cy="13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Стрелка вниз 8"/>
          <p:cNvSpPr/>
          <p:nvPr/>
        </p:nvSpPr>
        <p:spPr>
          <a:xfrm>
            <a:off x="1922400" y="2332080"/>
            <a:ext cx="223920" cy="37944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9"/>
          <p:cNvSpPr/>
          <p:nvPr/>
        </p:nvSpPr>
        <p:spPr>
          <a:xfrm>
            <a:off x="4307040" y="998640"/>
            <a:ext cx="3484440" cy="3110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0"/>
          <p:cNvSpPr/>
          <p:nvPr/>
        </p:nvSpPr>
        <p:spPr>
          <a:xfrm>
            <a:off x="4316400" y="4062240"/>
            <a:ext cx="3484440" cy="24400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1"/>
          <p:cNvSpPr/>
          <p:nvPr/>
        </p:nvSpPr>
        <p:spPr>
          <a:xfrm>
            <a:off x="4581360" y="2413080"/>
            <a:ext cx="2111400" cy="1332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Крест 12"/>
          <p:cNvSpPr/>
          <p:nvPr/>
        </p:nvSpPr>
        <p:spPr>
          <a:xfrm rot="2700000">
            <a:off x="5029200" y="2655360"/>
            <a:ext cx="797040" cy="797040"/>
          </a:xfrm>
          <a:prstGeom prst="plus">
            <a:avLst>
              <a:gd name="adj" fmla="val 432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3"/>
          <p:cNvSpPr/>
          <p:nvPr/>
        </p:nvSpPr>
        <p:spPr>
          <a:xfrm>
            <a:off x="7011360" y="2757600"/>
            <a:ext cx="68364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трелка вниз 14"/>
          <p:cNvSpPr/>
          <p:nvPr/>
        </p:nvSpPr>
        <p:spPr>
          <a:xfrm rot="5400000">
            <a:off x="6688800" y="2783520"/>
            <a:ext cx="222120" cy="379440"/>
          </a:xfrm>
          <a:prstGeom prst="downArrow">
            <a:avLst>
              <a:gd name="adj1" fmla="val 50000"/>
              <a:gd name="adj2" fmla="val 5037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кругленная прямоугольная выноска 15"/>
          <p:cNvSpPr/>
          <p:nvPr/>
        </p:nvSpPr>
        <p:spPr>
          <a:xfrm>
            <a:off x="1057320" y="4756320"/>
            <a:ext cx="2930400" cy="914400"/>
          </a:xfrm>
          <a:prstGeom prst="wedgeRoundRectCallout">
            <a:avLst>
              <a:gd name="adj1" fmla="val 62601"/>
              <a:gd name="adj2" fmla="val 849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6"/>
          <p:cNvSpPr/>
          <p:nvPr/>
        </p:nvSpPr>
        <p:spPr>
          <a:xfrm>
            <a:off x="4292640" y="1541520"/>
            <a:ext cx="3484440" cy="21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2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8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олилиния 7"/>
          <p:cNvSpPr/>
          <p:nvPr/>
        </p:nvSpPr>
        <p:spPr>
          <a:xfrm>
            <a:off x="3160800" y="5156280"/>
            <a:ext cx="1974600" cy="13050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алгорит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6E70-6A63-43B0-AA2C-F0226209B7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4578480" y="977760"/>
            <a:ext cx="405900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На Б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635040" y="900000"/>
            <a:ext cx="2838240" cy="29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8" name="Прямоугольник 5"/>
          <p:cNvSpPr/>
          <p:nvPr/>
        </p:nvSpPr>
        <p:spPr>
          <a:xfrm>
            <a:off x="774720" y="4162320"/>
            <a:ext cx="2833560" cy="20142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олилиния 8"/>
          <p:cNvSpPr/>
          <p:nvPr/>
        </p:nvSpPr>
        <p:spPr>
          <a:xfrm>
            <a:off x="2446200" y="1600200"/>
            <a:ext cx="360" cy="49536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олилиния 9"/>
          <p:cNvSpPr/>
          <p:nvPr/>
        </p:nvSpPr>
        <p:spPr>
          <a:xfrm rot="5400000">
            <a:off x="1937160" y="1580400"/>
            <a:ext cx="360" cy="100800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олилиния 10"/>
          <p:cNvSpPr/>
          <p:nvPr/>
        </p:nvSpPr>
        <p:spPr>
          <a:xfrm>
            <a:off x="2705040" y="2095560"/>
            <a:ext cx="360" cy="49536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олилиния 11"/>
          <p:cNvSpPr/>
          <p:nvPr/>
        </p:nvSpPr>
        <p:spPr>
          <a:xfrm rot="5400000">
            <a:off x="1818720" y="1697400"/>
            <a:ext cx="360" cy="176508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олилиния 12"/>
          <p:cNvSpPr/>
          <p:nvPr/>
        </p:nvSpPr>
        <p:spPr>
          <a:xfrm>
            <a:off x="2209680" y="2590920"/>
            <a:ext cx="360" cy="49536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олилиния 13"/>
          <p:cNvSpPr/>
          <p:nvPr/>
        </p:nvSpPr>
        <p:spPr>
          <a:xfrm rot="5400000">
            <a:off x="1834560" y="2697480"/>
            <a:ext cx="360" cy="75564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B2F0-17F4-479B-BD66-8CCB78746D8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8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9CA8-83A9-40FE-BD3D-191AE10FF3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9. Перем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1671-7477-41CD-A6D4-7EEDD2A4FC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471760" y="946080"/>
            <a:ext cx="4622760" cy="24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74" name="Group 55"/>
          <p:cNvGrpSpPr/>
          <p:nvPr/>
        </p:nvGrpSpPr>
        <p:grpSpPr>
          <a:xfrm>
            <a:off x="934920" y="3584520"/>
            <a:ext cx="7651800" cy="1479960"/>
            <a:chOff x="934920" y="3584520"/>
            <a:chExt cx="7651800" cy="1479960"/>
          </a:xfrm>
        </p:grpSpPr>
        <p:sp>
          <p:nvSpPr>
            <p:cNvPr id="375" name="Text Box 56"/>
            <p:cNvSpPr/>
            <p:nvPr/>
          </p:nvSpPr>
          <p:spPr>
            <a:xfrm>
              <a:off x="1401840" y="3690720"/>
              <a:ext cx="7184880" cy="13737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асстояние до края стены неизвестно,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База расположена с другой стороны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стены на таком же расстояни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57"/>
            <p:cNvSpPr/>
            <p:nvPr/>
          </p:nvSpPr>
          <p:spPr>
            <a:xfrm>
              <a:off x="934920" y="3584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55"/>
          <p:cNvGrpSpPr/>
          <p:nvPr/>
        </p:nvGrpSpPr>
        <p:grpSpPr>
          <a:xfrm>
            <a:off x="2133720" y="5369040"/>
            <a:ext cx="4830120" cy="663480"/>
            <a:chOff x="2133720" y="5369040"/>
            <a:chExt cx="4830120" cy="663480"/>
          </a:xfrm>
        </p:grpSpPr>
        <p:sp>
          <p:nvSpPr>
            <p:cNvPr id="378" name="Text Box 56"/>
            <p:cNvSpPr/>
            <p:nvPr/>
          </p:nvSpPr>
          <p:spPr>
            <a:xfrm>
              <a:off x="2600280" y="5475240"/>
              <a:ext cx="4363560" cy="5205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поступит человек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57"/>
            <p:cNvSpPr/>
            <p:nvPr/>
          </p:nvSpPr>
          <p:spPr>
            <a:xfrm>
              <a:off x="2133720" y="5369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хранить данны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770B-0914-4C29-9A89-CAE6B14549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365040" y="8031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ая 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4"/>
          <p:cNvSpPr/>
          <p:nvPr/>
        </p:nvSpPr>
        <p:spPr>
          <a:xfrm>
            <a:off x="325440" y="1228680"/>
            <a:ext cx="8388360" cy="5396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5"/>
          <p:cNvSpPr/>
          <p:nvPr/>
        </p:nvSpPr>
        <p:spPr>
          <a:xfrm>
            <a:off x="38592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6"/>
          <p:cNvSpPr/>
          <p:nvPr/>
        </p:nvSpPr>
        <p:spPr>
          <a:xfrm>
            <a:off x="113832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188928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8"/>
          <p:cNvSpPr/>
          <p:nvPr/>
        </p:nvSpPr>
        <p:spPr>
          <a:xfrm>
            <a:off x="264168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9"/>
          <p:cNvSpPr/>
          <p:nvPr/>
        </p:nvSpPr>
        <p:spPr>
          <a:xfrm>
            <a:off x="339408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0"/>
          <p:cNvSpPr/>
          <p:nvPr/>
        </p:nvSpPr>
        <p:spPr>
          <a:xfrm>
            <a:off x="414504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1"/>
          <p:cNvSpPr/>
          <p:nvPr/>
        </p:nvSpPr>
        <p:spPr>
          <a:xfrm>
            <a:off x="489744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8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2"/>
          <p:cNvSpPr/>
          <p:nvPr/>
        </p:nvSpPr>
        <p:spPr>
          <a:xfrm>
            <a:off x="564840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3"/>
          <p:cNvSpPr/>
          <p:nvPr/>
        </p:nvSpPr>
        <p:spPr>
          <a:xfrm>
            <a:off x="640080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4"/>
          <p:cNvSpPr/>
          <p:nvPr/>
        </p:nvSpPr>
        <p:spPr>
          <a:xfrm>
            <a:off x="7153200" y="1279440"/>
            <a:ext cx="75096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5"/>
          <p:cNvSpPr/>
          <p:nvPr/>
        </p:nvSpPr>
        <p:spPr>
          <a:xfrm>
            <a:off x="7904160" y="1279440"/>
            <a:ext cx="752400" cy="438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a6a6a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ая прямоугольная выноска 16"/>
          <p:cNvSpPr/>
          <p:nvPr/>
        </p:nvSpPr>
        <p:spPr>
          <a:xfrm>
            <a:off x="4826160" y="425520"/>
            <a:ext cx="2428560" cy="549360"/>
          </a:xfrm>
          <a:prstGeom prst="wedgeRoundRectCallout">
            <a:avLst>
              <a:gd name="adj1" fmla="val -38967"/>
              <a:gd name="adj2" fmla="val 101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чейка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7"/>
          <p:cNvSpPr/>
          <p:nvPr/>
        </p:nvSpPr>
        <p:spPr>
          <a:xfrm>
            <a:off x="4865760" y="1252440"/>
            <a:ext cx="807840" cy="4971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8"/>
          <p:cNvSpPr/>
          <p:nvPr/>
        </p:nvSpPr>
        <p:spPr>
          <a:xfrm>
            <a:off x="2874960" y="1897200"/>
            <a:ext cx="339408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: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: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9"/>
          <p:cNvSpPr/>
          <p:nvPr/>
        </p:nvSpPr>
        <p:spPr>
          <a:xfrm>
            <a:off x="4925880" y="1314360"/>
            <a:ext cx="6843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20"/>
          <p:cNvSpPr/>
          <p:nvPr/>
        </p:nvSpPr>
        <p:spPr>
          <a:xfrm>
            <a:off x="4927680" y="1314360"/>
            <a:ext cx="684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2"/>
          <p:cNvSpPr/>
          <p:nvPr/>
        </p:nvSpPr>
        <p:spPr>
          <a:xfrm>
            <a:off x="4927680" y="1322280"/>
            <a:ext cx="6858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23"/>
          <p:cNvSpPr/>
          <p:nvPr/>
        </p:nvSpPr>
        <p:spPr>
          <a:xfrm>
            <a:off x="4540320" y="1765440"/>
            <a:ext cx="798480" cy="1234800"/>
          </a:xfrm>
          <a:prstGeom prst="pie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кругленная прямоугольная выноска 24"/>
          <p:cNvSpPr/>
          <p:nvPr/>
        </p:nvSpPr>
        <p:spPr>
          <a:xfrm>
            <a:off x="254160" y="2282760"/>
            <a:ext cx="2428560" cy="917640"/>
          </a:xfrm>
          <a:prstGeom prst="wedgeRoundRectCallout">
            <a:avLst>
              <a:gd name="adj1" fmla="val 75574"/>
              <a:gd name="adj2" fmla="val -174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ая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кругленная прямоугольная выноска 25"/>
          <p:cNvSpPr/>
          <p:nvPr/>
        </p:nvSpPr>
        <p:spPr>
          <a:xfrm>
            <a:off x="5921280" y="2232000"/>
            <a:ext cx="2721240" cy="917640"/>
          </a:xfrm>
          <a:prstGeom prst="wedgeRoundRectCallout">
            <a:avLst>
              <a:gd name="adj1" fmla="val -86541"/>
              <a:gd name="adj2" fmla="val 3299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значение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кругленная прямоугольная выноска 26"/>
          <p:cNvSpPr/>
          <p:nvPr/>
        </p:nvSpPr>
        <p:spPr>
          <a:xfrm>
            <a:off x="5451480" y="3456000"/>
            <a:ext cx="2720880" cy="555480"/>
          </a:xfrm>
          <a:prstGeom prst="wedgeRoundRectCallout">
            <a:avLst>
              <a:gd name="adj1" fmla="val -74638"/>
              <a:gd name="adj2" fmla="val -548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н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76"/>
          <p:cNvSpPr/>
          <p:nvPr/>
        </p:nvSpPr>
        <p:spPr>
          <a:xfrm>
            <a:off x="396720" y="4405320"/>
            <a:ext cx="8396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ерем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величина, имеющая имя, тип и значение. Значение переменной может изменяться во время работы програм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28B2-73F7-4F41-82CA-7A67345519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385920" y="846000"/>
            <a:ext cx="4657680" cy="248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385920" y="1158840"/>
            <a:ext cx="4657680" cy="24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0" name="Прямоугольник 4"/>
          <p:cNvSpPr/>
          <p:nvPr/>
        </p:nvSpPr>
        <p:spPr>
          <a:xfrm>
            <a:off x="4522680" y="888840"/>
            <a:ext cx="4308480" cy="4786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Об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:=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ерху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:= N +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N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1F47-6B5E-473D-85FA-96F029130E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9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A0D9-ED0F-40E6-A8A5-C3817F59AA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1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1-B, 1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1-B, 1-C, 1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5835-E93F-4A51-AD3E-85DC73E985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0. Алгоритмы с результа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результа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477F-2701-4FDA-86AE-39746544340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399960" y="2063880"/>
            <a:ext cx="3748320" cy="29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0" name="Прямоугольник 76"/>
          <p:cNvSpPr/>
          <p:nvPr/>
        </p:nvSpPr>
        <p:spPr>
          <a:xfrm>
            <a:off x="396720" y="836640"/>
            <a:ext cx="8396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змерить неизвестную длину стенки и вывести результат на экран, используя команду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3602160" y="2490840"/>
            <a:ext cx="511812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Изме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:=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Длина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Длина стенки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кругленная прямоугольная выноска 6"/>
          <p:cNvSpPr/>
          <p:nvPr/>
        </p:nvSpPr>
        <p:spPr>
          <a:xfrm>
            <a:off x="6121440" y="2957400"/>
            <a:ext cx="2867040" cy="917640"/>
          </a:xfrm>
          <a:prstGeom prst="wedgeRoundRectCallout">
            <a:avLst>
              <a:gd name="adj1" fmla="val -37958"/>
              <a:gd name="adj2" fmla="val 718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55"/>
          <p:cNvGrpSpPr/>
          <p:nvPr/>
        </p:nvGrpSpPr>
        <p:grpSpPr>
          <a:xfrm>
            <a:off x="934920" y="5302080"/>
            <a:ext cx="7651800" cy="1053360"/>
            <a:chOff x="934920" y="5302080"/>
            <a:chExt cx="7651800" cy="1053360"/>
          </a:xfrm>
        </p:grpSpPr>
        <p:sp>
          <p:nvSpPr>
            <p:cNvPr id="424" name="Text Box 56"/>
            <p:cNvSpPr/>
            <p:nvPr/>
          </p:nvSpPr>
          <p:spPr>
            <a:xfrm>
              <a:off x="1401840" y="5408280"/>
              <a:ext cx="7184880" cy="9471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спомогательный алгоритм возвращает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результат – число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57"/>
            <p:cNvSpPr/>
            <p:nvPr/>
          </p:nvSpPr>
          <p:spPr>
            <a:xfrm>
              <a:off x="934920" y="5302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результа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7175-5B81-4467-B202-24895F6663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399960" y="947880"/>
            <a:ext cx="3748320" cy="297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9" name="Прямоугольник 5"/>
          <p:cNvSpPr/>
          <p:nvPr/>
        </p:nvSpPr>
        <p:spPr>
          <a:xfrm>
            <a:off x="3468600" y="874800"/>
            <a:ext cx="5118120" cy="5534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1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Длина стен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вобод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 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пока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права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сте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N:=N+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знач:= 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0"/>
          <p:cNvSpPr/>
          <p:nvPr/>
        </p:nvSpPr>
        <p:spPr>
          <a:xfrm>
            <a:off x="3781080" y="5675400"/>
            <a:ext cx="1460880" cy="41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знач:= 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1"/>
          <p:cNvSpPr/>
          <p:nvPr/>
        </p:nvSpPr>
        <p:spPr>
          <a:xfrm>
            <a:off x="4109760" y="868320"/>
            <a:ext cx="660960" cy="41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ая прямоугольная выноска 12"/>
          <p:cNvSpPr/>
          <p:nvPr/>
        </p:nvSpPr>
        <p:spPr>
          <a:xfrm>
            <a:off x="657360" y="949320"/>
            <a:ext cx="2454120" cy="1380960"/>
          </a:xfrm>
          <a:prstGeom prst="wedgeRoundRectCallout">
            <a:avLst>
              <a:gd name="adj1" fmla="val 88861"/>
              <a:gd name="adj2" fmla="val -32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алгоритма – цел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ая прямоугольная выноска 13"/>
          <p:cNvSpPr/>
          <p:nvPr/>
        </p:nvSpPr>
        <p:spPr>
          <a:xfrm>
            <a:off x="668160" y="4351320"/>
            <a:ext cx="2186280" cy="1381320"/>
          </a:xfrm>
          <a:prstGeom prst="wedgeRoundRectCallout">
            <a:avLst>
              <a:gd name="adj1" fmla="val 90393"/>
              <a:gd name="adj2" fmla="val 53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алгоритма – значени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4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4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4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4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D2FC-E1AA-4C5D-A0E0-87BD62BB8C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2D95-5F81-42B1-835A-3316ED7040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1. Циклы с перемен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8A8-3A0E-4C2C-945F-9C2364F8C8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2679840" y="976320"/>
            <a:ext cx="3784320" cy="39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3" name="Прямоугольник 76"/>
          <p:cNvSpPr/>
          <p:nvPr/>
        </p:nvSpPr>
        <p:spPr>
          <a:xfrm>
            <a:off x="396720" y="4995720"/>
            <a:ext cx="612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спользовать двойной цик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55"/>
          <p:cNvGrpSpPr/>
          <p:nvPr/>
        </p:nvGrpSpPr>
        <p:grpSpPr>
          <a:xfrm>
            <a:off x="2597040" y="5526000"/>
            <a:ext cx="3949920" cy="663480"/>
            <a:chOff x="2597040" y="5526000"/>
            <a:chExt cx="3949920" cy="663480"/>
          </a:xfrm>
        </p:grpSpPr>
        <p:sp>
          <p:nvSpPr>
            <p:cNvPr id="445" name="Text Box 56"/>
            <p:cNvSpPr/>
            <p:nvPr/>
          </p:nvSpPr>
          <p:spPr>
            <a:xfrm>
              <a:off x="3063960" y="5632200"/>
              <a:ext cx="3483000" cy="5205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 чем сложност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57"/>
            <p:cNvSpPr/>
            <p:nvPr/>
          </p:nvSpPr>
          <p:spPr>
            <a:xfrm>
              <a:off x="2597040" y="5526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CEE3-5140-4818-BB51-1AA319D082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tretch/>
        </p:blipFill>
        <p:spPr>
          <a:xfrm>
            <a:off x="349200" y="841320"/>
            <a:ext cx="3116160" cy="328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349200" y="3179880"/>
            <a:ext cx="3116160" cy="328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1" name="Прямоугольник 5"/>
          <p:cNvSpPr/>
          <p:nvPr/>
        </p:nvSpPr>
        <p:spPr>
          <a:xfrm>
            <a:off x="4092480" y="952560"/>
            <a:ext cx="440532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 6"/>
          <p:cNvSpPr/>
          <p:nvPr/>
        </p:nvSpPr>
        <p:spPr>
          <a:xfrm>
            <a:off x="5364000" y="245268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Овал 7"/>
          <p:cNvSpPr/>
          <p:nvPr/>
        </p:nvSpPr>
        <p:spPr>
          <a:xfrm>
            <a:off x="5364000" y="428148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кругленная прямоугольная выноска 8"/>
          <p:cNvSpPr/>
          <p:nvPr/>
        </p:nvSpPr>
        <p:spPr>
          <a:xfrm>
            <a:off x="6467400" y="1519200"/>
            <a:ext cx="2185920" cy="544680"/>
          </a:xfrm>
          <a:prstGeom prst="wedgeRoundRectCallout">
            <a:avLst>
              <a:gd name="adj1" fmla="val -82055"/>
              <a:gd name="adj2" fmla="val 1332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кругленная прямоугольная выноска 9"/>
          <p:cNvSpPr/>
          <p:nvPr/>
        </p:nvSpPr>
        <p:spPr>
          <a:xfrm>
            <a:off x="6467400" y="3625920"/>
            <a:ext cx="2185920" cy="544320"/>
          </a:xfrm>
          <a:prstGeom prst="wedgeRoundRectCallout">
            <a:avLst>
              <a:gd name="adj1" fmla="val -83078"/>
              <a:gd name="adj2" fmla="val 79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55"/>
          <p:cNvGrpSpPr/>
          <p:nvPr/>
        </p:nvGrpSpPr>
        <p:grpSpPr>
          <a:xfrm>
            <a:off x="5675400" y="5291280"/>
            <a:ext cx="3235320" cy="1479960"/>
            <a:chOff x="5675400" y="5291280"/>
            <a:chExt cx="3235320" cy="1479960"/>
          </a:xfrm>
        </p:grpSpPr>
        <p:sp>
          <p:nvSpPr>
            <p:cNvPr id="457" name="Text Box 56"/>
            <p:cNvSpPr/>
            <p:nvPr/>
          </p:nvSpPr>
          <p:spPr>
            <a:xfrm>
              <a:off x="6142320" y="5397480"/>
              <a:ext cx="2768400" cy="13737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ужно менять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длину ряда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7"/>
            <p:cNvSpPr/>
            <p:nvPr/>
          </p:nvSpPr>
          <p:spPr>
            <a:xfrm>
              <a:off x="5675400" y="5291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4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4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4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9A16-6245-444F-9CF0-FA64B9013F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349200" y="841320"/>
            <a:ext cx="310536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2" name="Прямоугольник 5"/>
          <p:cNvSpPr/>
          <p:nvPr/>
        </p:nvSpPr>
        <p:spPr>
          <a:xfrm>
            <a:off x="4092480" y="952560"/>
            <a:ext cx="4405320" cy="545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Треуго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:= N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6"/>
          <p:cNvSpPr/>
          <p:nvPr/>
        </p:nvSpPr>
        <p:spPr>
          <a:xfrm>
            <a:off x="5240160" y="265428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7"/>
          <p:cNvSpPr/>
          <p:nvPr/>
        </p:nvSpPr>
        <p:spPr>
          <a:xfrm>
            <a:off x="5240160" y="4325760"/>
            <a:ext cx="379440" cy="37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кругленная прямоугольная выноска 8"/>
          <p:cNvSpPr/>
          <p:nvPr/>
        </p:nvSpPr>
        <p:spPr>
          <a:xfrm>
            <a:off x="6267600" y="2700360"/>
            <a:ext cx="2184120" cy="544320"/>
          </a:xfrm>
          <a:prstGeom prst="wedgeRoundRectCallout">
            <a:avLst>
              <a:gd name="adj1" fmla="val -81546"/>
              <a:gd name="adj2" fmla="val 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кругленная прямоугольная выноска 9"/>
          <p:cNvSpPr/>
          <p:nvPr/>
        </p:nvSpPr>
        <p:spPr>
          <a:xfrm>
            <a:off x="6267600" y="3714840"/>
            <a:ext cx="2184120" cy="544320"/>
          </a:xfrm>
          <a:prstGeom prst="wedgeRoundRectCallout">
            <a:avLst>
              <a:gd name="adj1" fmla="val -83078"/>
              <a:gd name="adj2" fmla="val 79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2"/>
          <a:stretch/>
        </p:blipFill>
        <p:spPr>
          <a:xfrm>
            <a:off x="349200" y="3122640"/>
            <a:ext cx="310536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8" name="Скругленная прямоугольная выноска 14"/>
          <p:cNvSpPr/>
          <p:nvPr/>
        </p:nvSpPr>
        <p:spPr>
          <a:xfrm>
            <a:off x="6556320" y="1596960"/>
            <a:ext cx="2185920" cy="889200"/>
          </a:xfrm>
          <a:prstGeom prst="wedgeRoundRectCallout">
            <a:avLst>
              <a:gd name="adj1" fmla="val -70324"/>
              <a:gd name="adj2" fmla="val 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кругленная прямоугольная выноска 15"/>
          <p:cNvSpPr/>
          <p:nvPr/>
        </p:nvSpPr>
        <p:spPr>
          <a:xfrm>
            <a:off x="6556320" y="5232240"/>
            <a:ext cx="2185920" cy="889200"/>
          </a:xfrm>
          <a:prstGeom prst="wedgeRoundRectCallout">
            <a:avLst>
              <a:gd name="adj1" fmla="val -70324"/>
              <a:gd name="adj2" fmla="val 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д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2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F0EC-9CF8-42DB-8288-548B4C888A5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349200" y="976320"/>
            <a:ext cx="3105360" cy="327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3" name="Прямоугольник 5"/>
          <p:cNvSpPr/>
          <p:nvPr/>
        </p:nvSpPr>
        <p:spPr>
          <a:xfrm>
            <a:off x="4092480" y="952560"/>
            <a:ext cx="440532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Треуго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2"/>
          <p:cNvSpPr/>
          <p:nvPr/>
        </p:nvSpPr>
        <p:spPr>
          <a:xfrm>
            <a:off x="4432320" y="2286000"/>
            <a:ext cx="31986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55"/>
          <p:cNvGrpSpPr/>
          <p:nvPr/>
        </p:nvGrpSpPr>
        <p:grpSpPr>
          <a:xfrm>
            <a:off x="255600" y="4633920"/>
            <a:ext cx="3235320" cy="1906560"/>
            <a:chOff x="255600" y="4633920"/>
            <a:chExt cx="3235320" cy="1906560"/>
          </a:xfrm>
        </p:grpSpPr>
        <p:sp>
          <p:nvSpPr>
            <p:cNvPr id="476" name="Text Box 56"/>
            <p:cNvSpPr/>
            <p:nvPr/>
          </p:nvSpPr>
          <p:spPr>
            <a:xfrm>
              <a:off x="722520" y="4740120"/>
              <a:ext cx="2768400" cy="18003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ся работа с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менной в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одной строке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57"/>
            <p:cNvSpPr/>
            <p:nvPr/>
          </p:nvSpPr>
          <p:spPr>
            <a:xfrm>
              <a:off x="25560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4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4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0BCE-4F3B-4A3F-9015-E7883E3D53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363600" y="925560"/>
            <a:ext cx="3105000" cy="32767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4"/>
          <p:cNvSpPr/>
          <p:nvPr/>
        </p:nvSpPr>
        <p:spPr>
          <a:xfrm>
            <a:off x="3701880" y="952560"/>
            <a:ext cx="515160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Треуго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шаг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6"/>
          <p:cNvSpPr/>
          <p:nvPr/>
        </p:nvSpPr>
        <p:spPr>
          <a:xfrm>
            <a:off x="4057560" y="2286000"/>
            <a:ext cx="437184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для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о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шаг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5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4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4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4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4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A3E4-B167-45BE-83B3-269724CCBC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2.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9BCC-514D-4875-A37C-EA6E28F585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1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62D4-EB4B-4D7C-BF5C-20CF216DD3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2. Алгоритмы с парамет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F342-E8D3-4890-9722-5024E1571E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"/>
          <p:cNvPicPr/>
          <p:nvPr/>
        </p:nvPicPr>
        <p:blipFill>
          <a:blip r:embed="rId1"/>
          <a:stretch/>
        </p:blipFill>
        <p:spPr>
          <a:xfrm>
            <a:off x="2973240" y="981000"/>
            <a:ext cx="3286440" cy="34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2" name="Прямоугольник 76"/>
          <p:cNvSpPr/>
          <p:nvPr/>
        </p:nvSpPr>
        <p:spPr>
          <a:xfrm>
            <a:off x="396720" y="4640400"/>
            <a:ext cx="8345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спользовать вспомогательный алгоритм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Ря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ри вызове которого можно указать длину ря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6"/>
          <p:cNvSpPr/>
          <p:nvPr/>
        </p:nvSpPr>
        <p:spPr>
          <a:xfrm>
            <a:off x="3735000" y="5697360"/>
            <a:ext cx="13694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Ряд(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9A3C-90A8-46FD-B9DE-5DC1CF7E08D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420840" y="936720"/>
            <a:ext cx="3286080" cy="34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7" name="Прямоугольник 7"/>
          <p:cNvSpPr/>
          <p:nvPr/>
        </p:nvSpPr>
        <p:spPr>
          <a:xfrm>
            <a:off x="4216320" y="2021040"/>
            <a:ext cx="4503960" cy="30801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8"/>
          <p:cNvSpPr/>
          <p:nvPr/>
        </p:nvSpPr>
        <p:spPr>
          <a:xfrm>
            <a:off x="6010200" y="2087640"/>
            <a:ext cx="1895400" cy="5238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9"/>
          <p:cNvSpPr/>
          <p:nvPr/>
        </p:nvSpPr>
        <p:spPr>
          <a:xfrm>
            <a:off x="5271840" y="286560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10"/>
          <p:cNvSpPr/>
          <p:nvPr/>
        </p:nvSpPr>
        <p:spPr>
          <a:xfrm>
            <a:off x="6267600" y="995400"/>
            <a:ext cx="2184120" cy="888840"/>
          </a:xfrm>
          <a:prstGeom prst="wedgeRoundRectCallout">
            <a:avLst>
              <a:gd name="adj1" fmla="val -32569"/>
              <a:gd name="adj2" fmla="val 7133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76"/>
          <p:cNvSpPr/>
          <p:nvPr/>
        </p:nvSpPr>
        <p:spPr>
          <a:xfrm>
            <a:off x="419040" y="5275440"/>
            <a:ext cx="834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араметр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дополнительные данные для работы вспомогательного алгорит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ы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C409-F47E-4A90-AC3E-3ED37BBF45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385920" y="903240"/>
            <a:ext cx="310500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385920" y="3211560"/>
            <a:ext cx="3105000" cy="327672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7"/>
          <p:cNvSpPr/>
          <p:nvPr/>
        </p:nvSpPr>
        <p:spPr>
          <a:xfrm>
            <a:off x="3701880" y="952560"/>
            <a:ext cx="5151600" cy="512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С парамет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5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5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13DA-EAF7-4713-AE7B-0F4BFD6FCF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B977-1E69-4561-87D4-6D75ECA6BA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4"/>
          <p:cNvSpPr/>
          <p:nvPr/>
        </p:nvSpPr>
        <p:spPr>
          <a:xfrm>
            <a:off x="162000" y="2211480"/>
            <a:ext cx="8820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.т.н., учитель информатики высшей категор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У СОШ № 163, г. Санкт-Петербур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1F47-6D72-407F-B328-C6857E3D62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65120" y="971640"/>
            <a:ext cx="4048200" cy="251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3" name="Прямоугольник 4"/>
          <p:cNvSpPr/>
          <p:nvPr/>
        </p:nvSpPr>
        <p:spPr>
          <a:xfrm>
            <a:off x="4756320" y="979560"/>
            <a:ext cx="391140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олилиния 7"/>
          <p:cNvSpPr/>
          <p:nvPr/>
        </p:nvSpPr>
        <p:spPr>
          <a:xfrm>
            <a:off x="3954600" y="1554120"/>
            <a:ext cx="1166760" cy="4525920"/>
          </a:xfrm>
          <a:prstGeom prst="pie">
            <a:avLst/>
          </a:prstGeom>
          <a:gradFill rotWithShape="0">
            <a:gsLst>
              <a:gs pos="0">
                <a:srgbClr val="ff0000">
                  <a:alpha val="57254"/>
                </a:srgbClr>
              </a:gs>
              <a:gs pos="100000">
                <a:srgbClr val="ffffff">
                  <a:alpha val="7921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1644480" y="1554120"/>
            <a:ext cx="232416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5116680" y="2060640"/>
            <a:ext cx="23256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ая прямоугольная выноска 8"/>
          <p:cNvSpPr/>
          <p:nvPr/>
        </p:nvSpPr>
        <p:spPr>
          <a:xfrm>
            <a:off x="6383160" y="1494000"/>
            <a:ext cx="1511640" cy="502920"/>
          </a:xfrm>
          <a:prstGeom prst="wedgeRoundRectCallout">
            <a:avLst>
              <a:gd name="adj1" fmla="val -50273"/>
              <a:gd name="adj2" fmla="val 95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из курса «Робо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8640-8677-4347-A51F-66BAFE42BE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6"/>
          <p:cNvSpPr/>
          <p:nvPr/>
        </p:nvSpPr>
        <p:spPr>
          <a:xfrm>
            <a:off x="396720" y="809640"/>
            <a:ext cx="8396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3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-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4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«5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A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B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C,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-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94AA-FA32-4959-A360-A187051158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49976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сполнитель Роб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952560" y="4057560"/>
            <a:ext cx="7334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3.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0CEF-D2A6-405A-857B-D8F5E68C08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361800" y="914400"/>
            <a:ext cx="4381560" cy="233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7" name="Прямоугольник 4"/>
          <p:cNvSpPr/>
          <p:nvPr/>
        </p:nvSpPr>
        <p:spPr>
          <a:xfrm>
            <a:off x="4933800" y="855720"/>
            <a:ext cx="3911760" cy="545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овать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Роб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лг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Ря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олилиния 9"/>
          <p:cNvSpPr/>
          <p:nvPr/>
        </p:nvSpPr>
        <p:spPr>
          <a:xfrm>
            <a:off x="4295880" y="2876400"/>
            <a:ext cx="1374840" cy="2989440"/>
          </a:xfrm>
          <a:prstGeom prst="pie">
            <a:avLst/>
          </a:prstGeom>
          <a:gradFill rotWithShape="0">
            <a:gsLst>
              <a:gs pos="0">
                <a:srgbClr val="ff0000">
                  <a:alpha val="57254"/>
                </a:srgbClr>
              </a:gs>
              <a:gs pos="100000">
                <a:srgbClr val="ffffff">
                  <a:alpha val="7921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1092240" y="3425760"/>
            <a:ext cx="3232080" cy="24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0" name="Прямоугольник 7"/>
          <p:cNvSpPr/>
          <p:nvPr/>
        </p:nvSpPr>
        <p:spPr>
          <a:xfrm>
            <a:off x="5600880" y="2868480"/>
            <a:ext cx="2222280" cy="24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лилиния 8"/>
          <p:cNvSpPr/>
          <p:nvPr/>
        </p:nvSpPr>
        <p:spPr>
          <a:xfrm>
            <a:off x="1684440" y="3870360"/>
            <a:ext cx="1385640" cy="861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oval" w="med"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kp</cp:lastModifiedBy>
  <dcterms:modified xsi:type="dcterms:W3CDTF">2012-02-13T17:40:52Z</dcterms:modified>
  <cp:revision>831</cp:revision>
  <dc:subject/>
  <dc:title>Программное обеспечение (ПО)</dc:title>
</cp:coreProperties>
</file>