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DF8-A07A-4345-81A4-7C8F70D0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720-BFBC-4887-A800-EEBDF71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129-D771-4F90-A479-3842D096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962-ECA5-40E7-B24A-639157D1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E5B-D14D-420C-B019-A9FD48C2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ECB-4B94-476A-AC40-4F0F2C1B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D93-F90E-4DF5-B67C-8289D0B5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542-5AE8-402E-AFA0-C9417E8D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786-D90C-4EDF-95D8-65D10846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AC6-4E71-46BB-9A05-7180763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4AA-313A-439C-86FE-56C73D2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064-AA71-4E9F-B348-64F88C1F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731D-D8C2-4262-BAC7-869765637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36640" y="2890800"/>
          <a:ext cx="4545000" cy="3130560"/>
        </p:xfrm>
        <a:graphic>
          <a:graphicData uri="http://schemas.openxmlformats.org/drawingml/2006/table">
            <a:tbl>
              <a:tblPr/>
              <a:tblGrid>
                <a:gridCol w="2082960"/>
                <a:gridCol w="2462040"/>
              </a:tblGrid>
              <a:tr h="3747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е питом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ская св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м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6521400" y="425520"/>
            <a:ext cx="5137200" cy="3390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5:54:46Z</dcterms:created>
  <dc:creator>Пользователь Windows</dc:creator>
  <dc:description/>
  <dc:language>en-US</dc:language>
  <cp:lastModifiedBy>Слава</cp:lastModifiedBy>
  <dcterms:modified xsi:type="dcterms:W3CDTF">2019-08-25T19:54:34Z</dcterms:modified>
  <cp:revision>3</cp:revision>
  <dc:subject/>
  <dc:title>Презентация PowerPoint</dc:title>
</cp:coreProperties>
</file>