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9FF3-599B-4148-9890-4AB2A7D5D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28C5-EBC8-45AC-BE0C-5BB305C7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1941-93C5-4E1E-B711-604E4648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BE31-EE91-4585-BB51-7AC9A3CB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0EE4-26C4-4806-93C7-748FC9E7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6449-9A56-4D4D-B3F9-379FF27F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322A-3BE4-4582-B80C-A9F8C0BA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0FBF-6BDE-40A6-B47F-62999A55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8144-9850-4456-BFAE-7077BF2F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36A6-ECDC-4B3E-8357-159EC775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F760-047C-41BC-98F3-46F33217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2ECF-D3A2-4E4F-94BC-82FFD9EE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FCFB-ED86-4D28-A757-790414A563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0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4600"/>
                </a:solidFill>
                <a:latin typeface="Times New Roman"/>
              </a:rPr>
              <a:t>«Что нужно знать о здоровом питании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340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5a00"/>
              </a:solidFill>
              <a:latin typeface="Times New Roman"/>
            </a:endParaRPr>
          </a:p>
        </p:txBody>
      </p:sp>
      <p:pic>
        <p:nvPicPr>
          <p:cNvPr id="44" name="Picture 40" descr="citronu_bummbas_l_0"/>
          <p:cNvPicPr/>
          <p:nvPr/>
        </p:nvPicPr>
        <p:blipFill>
          <a:blip r:embed="rId1"/>
          <a:stretch/>
        </p:blipFill>
        <p:spPr>
          <a:xfrm>
            <a:off x="6372360" y="2060640"/>
            <a:ext cx="2447640" cy="1806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2" descr="1211270276_petrushka"/>
          <p:cNvPicPr/>
          <p:nvPr/>
        </p:nvPicPr>
        <p:blipFill>
          <a:blip r:embed="rId2"/>
          <a:stretch/>
        </p:blipFill>
        <p:spPr>
          <a:xfrm>
            <a:off x="1476360" y="2276640"/>
            <a:ext cx="2736720" cy="1771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4" descr="1185319748_f"/>
          <p:cNvPicPr/>
          <p:nvPr/>
        </p:nvPicPr>
        <p:blipFill>
          <a:blip r:embed="rId3"/>
          <a:stretch/>
        </p:blipFill>
        <p:spPr>
          <a:xfrm>
            <a:off x="611280" y="4581360"/>
            <a:ext cx="2735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5a00"/>
                </a:solidFill>
                <a:latin typeface="Times New Roman"/>
              </a:rPr>
              <a:t>Пирамида здорового пит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06"/>
          <p:cNvPicPr/>
          <p:nvPr/>
        </p:nvPicPr>
        <p:blipFill>
          <a:blip r:embed="rId1"/>
          <a:stretch/>
        </p:blipFill>
        <p:spPr>
          <a:xfrm>
            <a:off x="1547640" y="1916280"/>
            <a:ext cx="6120000" cy="4468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5a00"/>
                </a:solidFill>
                <a:latin typeface="Times New Roman"/>
              </a:rPr>
              <a:t>Рекомендации правильного пит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таться нужно часто и небольшими порциями. Прием пищи через каждые 2-3 часа  не дает жиру накапливать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тром натощак нужно обязательно выпивать стакан теплой воды, так запускаются обменные процессы и пищеварительная систе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дет лучше, если вы замените черный чай на травяной. Такой чай содержит много питательных веществ и витаминов, улучшает работу желудка, оказывает желчегонный и легкий мочегонный эффек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язательно употребляйте не менее 2л воды в день, она помогает эффективно выводить шлаки и участвует во всех обменных процесс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едите за калорийностью и не переедайте. Лишние килограммы накапливаются годами, поэтому лишние калории сразу практически незаметны. Пища нужна для работы организма, поэтому не стоит давать ему ненужную нагруз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бегайте продуктов, которые не приносят никакой пользы организму: консервы, колбасу, соленья, рафинированный сахар, различные сладости, в которых содержится много вредных добавок и консерван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язательно ешьте фрукты и овощи каждый день, предпочтение лучше отдавать сезонным. Кстати, любые углеводы лучше не употреблять после 18 часов, организм не успеет к ночи переварить их,  и отправит в жировое деп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шьте несколько раз в неделю рыбу и мясо. Курицу лучше ограничить, т.к. сейчас их выращивают с использованием гормонов и антибиотиков. Правильной и полезной такую еду никак не назовеш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райтесь чаще использовать зелень и приправы, они – богатый источник витаминов, а чеснок и специи надежно защищают от парази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райтесь ограничивать употребление соли, а еще лучше заменить ее на морскую. Она содержит меньше натрия, а витаминов и минералов – значительно больш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5a00"/>
                </a:solidFill>
                <a:latin typeface="Times New Roman"/>
              </a:rPr>
              <a:t>Немного о еде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да – это топливо, на котором работает наш организм. Необходимо правильно подходить к выбору продуктов. Они должны быть не только вкусными, но и полезны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hqdefault"/>
          <p:cNvPicPr/>
          <p:nvPr/>
        </p:nvPicPr>
        <p:blipFill>
          <a:blip r:embed="rId1"/>
          <a:stretch/>
        </p:blipFill>
        <p:spPr>
          <a:xfrm>
            <a:off x="2916360" y="3573360"/>
            <a:ext cx="3960720" cy="29718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сожалению существует множество «нездоровых» продуктов, которые способствуют неправильному питанию челове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астфуды, сладости, газированные напитки, соль, майонез, чипсы, жирное мясо. Все эти продукты влияют на развитие гастрита, язвы желудка, анорексии, булемии, нарушают нашу внешнюю красот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8713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доровое питание помогает избавится от многих заболеваний, укрепить здоровье, повысить работоспособность и увеличить продолжительность жиз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доровое питание-это путь к долгой и активной жизни, наполненной хорошими эмоция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5a00"/>
                </a:solidFill>
                <a:latin typeface="Times New Roman"/>
              </a:rPr>
              <a:t>О пользе здорового пит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4600"/>
                </a:solidFill>
                <a:latin typeface="Times New Roman"/>
              </a:rPr>
              <a:t>Питайтесь правильно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4600"/>
                </a:solidFill>
                <a:latin typeface="Times New Roman"/>
              </a:rPr>
              <a:t>Следите за своим весом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4600"/>
                </a:solidFill>
                <a:latin typeface="Times New Roman"/>
              </a:rPr>
              <a:t>Будьте всегда здоровы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d880bbc40b61d16ca6388d823332a001_XL"/>
          <p:cNvPicPr/>
          <p:nvPr/>
        </p:nvPicPr>
        <p:blipFill>
          <a:blip r:embed="rId1"/>
          <a:stretch/>
        </p:blipFill>
        <p:spPr>
          <a:xfrm>
            <a:off x="2268360" y="3284640"/>
            <a:ext cx="4835880" cy="29923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5a00"/>
                </a:solidFill>
                <a:latin typeface="Times New Roman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24000" y="1699920"/>
            <a:ext cx="849600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1.Международная организация здравоохран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Здоровое питание: план действий по разработке региональных программ в России (рус.). — Архангельск, 2000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https://yandex.ru/images/search?text=%D0%BF%D0%B8%D1%80%D0%B0%D0%BC%D0%B8%D0%B4%D0%B0%20%D0%B7%D0%B4%D0%BE%D1%80%D0%BE%D0%B2%D0%BE%D0%B3%D0%BE%20%D0%BF%D0%B8%D1%82%D0%B0%D0%BD%D0%B8%D1%8F&amp;img_url=https%3A%2F%2Fds03.infourok.ru%2Fuploads%2Fex%2F07b1%2F00018e50-836e1075%2Fimg11.jpg&amp;pos=0&amp;rpt=simage&amp;lr=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https://yandex.ru/images/search?text=%D1%83%D0%B3%D0%BB%D0%B5%D0%B2%D0%BE%D0%B4%D1%8B%20%D0%B2%20%D0%BF%D1%80%D0%BE%D0%B4%D1%83%D0%BA%D1%82%D0%B0%D1%85&amp;lr=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https://yandex.ru/images/search?text=%D0%B7%D0%B4%D0%BE%D1%80%D0%BE%D0%B2%D1%8B%D0%B9%20%D1%87%D0%B5%D0%BB%D0%BE%D0%B2%D0%B5%D0%BA&amp;img_url=https%3A%2F%2Fgakada.ru%2Ffoto%2F28%2F28128b.jpg&amp;pos=3&amp;rpt=simage&amp;lr=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4600"/>
                </a:solidFill>
                <a:latin typeface="Times New Roman"/>
              </a:rPr>
              <a:t>Что такое здоровое питание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818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доровое пит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— это питание, обеспечивающее рост, нормальное развитие и жизнедеятельность человека, способствующая укреплению его здоровья и профилактике заболев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pri-razvitii-spazmov-vazhno-pitatsya-pravilno"/>
          <p:cNvPicPr/>
          <p:nvPr/>
        </p:nvPicPr>
        <p:blipFill>
          <a:blip r:embed="rId1"/>
          <a:stretch/>
        </p:blipFill>
        <p:spPr>
          <a:xfrm>
            <a:off x="3276720" y="3860640"/>
            <a:ext cx="3647880" cy="2433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88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людение правил здорового питания в сочетании с регулярными физическими упражнениями сокращает риск хронических заболеваний и расстройств, таких как ожирение, сердечнососудистые заболевания, диабет, повышенное давление  и рак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260451_576a7026c3271576a7026c32ab"/>
          <p:cNvPicPr/>
          <p:nvPr/>
        </p:nvPicPr>
        <p:blipFill>
          <a:blip r:embed="rId1"/>
          <a:stretch/>
        </p:blipFill>
        <p:spPr>
          <a:xfrm>
            <a:off x="2627280" y="3860640"/>
            <a:ext cx="4006800" cy="2563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5a00"/>
                </a:solidFill>
                <a:latin typeface="Times New Roman"/>
              </a:rPr>
              <a:t>Принципы здорового пит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777240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мер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нообраз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жим пит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7"/>
          <p:cNvPicPr/>
          <p:nvPr/>
        </p:nvPicPr>
        <p:blipFill>
          <a:blip r:embed="rId1"/>
          <a:stretch/>
        </p:blipFill>
        <p:spPr>
          <a:xfrm>
            <a:off x="4140360" y="2924280"/>
            <a:ext cx="2950920" cy="3397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5a00"/>
                </a:solidFill>
                <a:latin typeface="Times New Roman"/>
              </a:rPr>
              <a:t>Группы питательных вещест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10b0f876e5c2cc4c2991f62f1250f319"/>
          <p:cNvPicPr/>
          <p:nvPr/>
        </p:nvPicPr>
        <p:blipFill>
          <a:blip r:embed="rId1"/>
          <a:stretch/>
        </p:blipFill>
        <p:spPr>
          <a:xfrm>
            <a:off x="2627280" y="1125360"/>
            <a:ext cx="4105440" cy="54849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5a00"/>
                </a:solidFill>
                <a:latin typeface="Times New Roman"/>
              </a:rPr>
              <a:t>Бел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6425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ки – жизненно важная структура для организма человека. Из белковых компонентов состоят все клетки нашего организма, они входят в состав ДНК, ферментов. Поэтому в ежедневном рационе вашего питания должна быть белковая пища, список продуктов которой должен быть разнообразным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7" descr="belok-istochniki"/>
          <p:cNvPicPr/>
          <p:nvPr/>
        </p:nvPicPr>
        <p:blipFill>
          <a:blip r:embed="rId1"/>
          <a:stretch/>
        </p:blipFill>
        <p:spPr>
          <a:xfrm>
            <a:off x="2484360" y="4076640"/>
            <a:ext cx="4819680" cy="22924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5a00"/>
                </a:solidFill>
                <a:latin typeface="Times New Roman"/>
              </a:rPr>
              <a:t>Жир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иболее мощный источник энергии. Жировые отложения защищают организм от потери тепла и ушибов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image046"/>
          <p:cNvPicPr/>
          <p:nvPr/>
        </p:nvPicPr>
        <p:blipFill>
          <a:blip r:embed="rId1"/>
          <a:stretch/>
        </p:blipFill>
        <p:spPr>
          <a:xfrm>
            <a:off x="2268360" y="3141720"/>
            <a:ext cx="5180040" cy="32004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5a00"/>
                </a:solidFill>
                <a:latin typeface="Times New Roman"/>
              </a:rPr>
              <a:t>Углево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огают нашим мышцам работать. Они необходимы для нормального обмена белков и жир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img7"/>
          <p:cNvPicPr/>
          <p:nvPr/>
        </p:nvPicPr>
        <p:blipFill>
          <a:blip r:embed="rId1"/>
          <a:stretch/>
        </p:blipFill>
        <p:spPr>
          <a:xfrm>
            <a:off x="1908000" y="3213000"/>
            <a:ext cx="5400720" cy="3038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6421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тание является одним из важнейших факторов, способным оказать негативное влияние на формирующийся организм детей и подростков при неправильной его организ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5a00"/>
                </a:solidFill>
                <a:latin typeface="Times New Roman"/>
              </a:rPr>
              <a:t>Роль питания в жизни челове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8" descr="11"/>
          <p:cNvPicPr/>
          <p:nvPr/>
        </p:nvPicPr>
        <p:blipFill>
          <a:blip r:embed="rId1"/>
          <a:stretch/>
        </p:blipFill>
        <p:spPr>
          <a:xfrm>
            <a:off x="3203640" y="3789360"/>
            <a:ext cx="3429000" cy="2581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si</cp:lastModifiedBy>
  <dcterms:modified xsi:type="dcterms:W3CDTF">2023-12-19T04:44:59Z</dcterms:modified>
  <cp:revision>10</cp:revision>
  <dc:subject/>
  <dc:title>PowerPoint Presentation</dc:title>
</cp:coreProperties>
</file>