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C86A-F565-4F52-9070-260EE6F364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11F7-329D-4770-BBB1-F77B5B9D0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B5C-6748-4C5B-BA8A-6E6B8E4A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44A-05A1-4825-8E43-A35127B3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77A-CE4A-41E2-9204-636F48DD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CB8-A033-480C-9349-25C4E5C3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D3A1-E740-4D8C-82FF-A023904D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FEF-AE58-49DE-9DF8-3C13AAB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99C-2A4E-41D3-8578-909D5E9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B89C-4B00-46F1-8F46-170DE56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07FA-0B38-4716-AC94-37B989A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262-8195-4384-B0E5-351017F8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7BBD-3CDD-41BF-B73A-3987FA0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7E5-362F-4CEB-87BC-F7524D4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3157-4C48-4D79-852A-72005CD3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52EB-35D6-4E40-93DF-0729EA91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9583-380E-44C0-AF87-D42712CB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42CF-5272-4C22-9985-27537A27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8DC-469C-4ABA-9209-437658E1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4091-3531-4F10-9538-C628B59B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BA5E-1CA4-4FED-ADFE-7010DD81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765D-A85F-4597-B884-F92A023E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06C4-3F5C-4236-9D3A-1C2AFD30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35F1-1DB4-4ADC-9734-2355EEB1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DFC-8886-4DC7-86B5-5E9E9BFE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16CE-E75B-4CF0-A368-8A3C4AD5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4BAF-560B-4631-B7CF-BA7F6CD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A654-121D-4BD5-99B4-D5A34CF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2DD6-6524-4FB7-9675-098DB52C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C71E-6E4C-4479-BA7D-6A4586C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E36E-30A6-47DB-B823-FC7EBA1F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A338-8987-4C6F-9760-4CC91129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1453-7B64-47A7-AABE-5B4D1443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1732-4642-4E95-9364-CF4A0EC6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A789-4629-4E5B-8198-D98C2562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9BE-B9BD-4C9A-A084-9F85141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EB85-28D7-43EE-B852-F3E03F9F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117C-8BD0-42FB-A787-EA93A2E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ED25-E413-4164-A3B5-6323CD48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354C-2C69-438D-8702-77061A62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9B45-B7F7-4B08-ACFC-B607BA8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B8FB-0C5C-432C-91D7-48D97B3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E0CD-00F9-4939-A73B-C8FD0F3E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0B46-38D2-4FA3-A44D-120476AE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C053-8B92-45F7-A363-8AE8CC5A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E8A-C9AD-4C99-9713-11997150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B15-2DCE-4980-B0B9-E80D17B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B68-2613-4DEB-9838-AE9E6BF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7D5-D0E6-46C2-B748-0250BBD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3D4-03E4-43A3-8811-EAF975D7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259-29BD-4349-B770-6571446673A2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4D4-0AC0-4DDC-A374-FE31D194591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E26E-2BD0-4BD5-9B70-6253B8AB95BA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1C7-EE2A-4089-AA57-382807FDB21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9485-ADEF-4D96-BC57-1FBACC02D318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603E-ADB0-4ED0-8AAF-155BFF16238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A1CB-CDAB-4161-8B40-72416E626C6B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E85D-8729-4A64-9B72-A952C5666D3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66760" y="2068560"/>
            <a:ext cx="864216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74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1835"/>
                </a:solidFill>
                <a:latin typeface="Arial"/>
              </a:rPr>
              <a:t>Требования к заданиям с развернутым ответом в  ЕГЭ по физике</a:t>
            </a:r>
            <a:endParaRPr b="0" lang="en-US" sz="3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95280" y="177300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Числовой ответ и единицы измерения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Ошибка в одном из компонентов считается неверным ответ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пускаются округления с учетом того числа значащих цифр, которые указаны в условии задач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быточная точность числового ответа не считается ошибко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Если при решении «по действиям» использовались округления с недостаточной точностью, то окончательный ответ анализируется с точки зрения физического смысл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68360" y="1557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экзаменуемый решает задачу, которая относится к другому варианту, то работа оценивается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0 баллов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в задании требовалось определить отношение величин «А/В», а участник экзамена определил значение отношения «В/А», то это не считается ошибкой или погрешностью.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ивается в 3 балл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подмена сводится к тому, что учащийся определил не ту величину, которую требовалось рассчитать по условию задачи, а другую (при условии, что полученный ответ можно считать промежуточным этапом при определении требуемой величины), то относится к ошибке в преобразованиях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ивается в 2 балла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 верном решени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705800" cy="1511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826920" y="1631880"/>
            <a:ext cx="7848720" cy="4856400"/>
          </a:xfrm>
          <a:prstGeom prst="rect">
            <a:avLst/>
          </a:prstGeom>
          <a:ln w="0">
            <a:noFill/>
          </a:ln>
        </p:spPr>
      </p:pic>
      <p:sp>
        <p:nvSpPr>
          <p:cNvPr id="254" name="Овал 6"/>
          <p:cNvSpPr/>
          <p:nvPr/>
        </p:nvSpPr>
        <p:spPr>
          <a:xfrm>
            <a:off x="811080" y="4464000"/>
            <a:ext cx="6786720" cy="71928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705800" cy="1511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237520" cy="1871640"/>
          </a:xfrm>
          <a:prstGeom prst="rect">
            <a:avLst/>
          </a:prstGeom>
          <a:ln w="0">
            <a:noFill/>
          </a:ln>
        </p:spPr>
      </p:pic>
      <p:sp>
        <p:nvSpPr>
          <p:cNvPr id="257" name="Овал 5"/>
          <p:cNvSpPr/>
          <p:nvPr/>
        </p:nvSpPr>
        <p:spPr>
          <a:xfrm>
            <a:off x="619200" y="2924280"/>
            <a:ext cx="6788160" cy="7207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782640" y="4538520"/>
            <a:ext cx="78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авильным считается рисунок, в котором верно указаны все необходимые силы и их направление. 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шибка в соотношении длин векторов не считается ошибкой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755640" y="79200"/>
            <a:ext cx="8352000" cy="1511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447920" y="1949400"/>
            <a:ext cx="6265800" cy="3807000"/>
          </a:xfrm>
          <a:prstGeom prst="rect">
            <a:avLst/>
          </a:prstGeom>
          <a:ln w="0">
            <a:noFill/>
          </a:ln>
        </p:spPr>
      </p:pic>
      <p:sp>
        <p:nvSpPr>
          <p:cNvPr id="261" name="Овал 3"/>
          <p:cNvSpPr/>
          <p:nvPr/>
        </p:nvSpPr>
        <p:spPr>
          <a:xfrm>
            <a:off x="1042920" y="4076640"/>
            <a:ext cx="678672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710920" cy="15116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2"/>
          <p:cNvSpPr/>
          <p:nvPr/>
        </p:nvSpPr>
        <p:spPr>
          <a:xfrm>
            <a:off x="395280" y="184464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Принимаются рисунки, отвечающие требованиям задачи, в которых используются </a:t>
            </a:r>
            <a:r>
              <a:rPr b="1" lang="ru-RU" sz="2400" spc="-1" strike="noStrike">
                <a:solidFill>
                  <a:srgbClr val="212745"/>
                </a:solidFill>
                <a:latin typeface="Arial"/>
              </a:rPr>
              <a:t>стандартные обозначения </a:t>
            </a: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элементов электрической цепи или оптической схемы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В оптической схеме допускаются неточности, связанные с рисованием «от руки»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При составлении схемы по фотографии допускается неверная интерпретация  подключения реостата. При этом задача считается решенной верно, если в решении учитывается тот же способ подключения, что и на электрической схеме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52280" y="79200"/>
            <a:ext cx="8955360" cy="1511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1763640" y="2195640"/>
            <a:ext cx="7134120" cy="4371840"/>
          </a:xfrm>
          <a:prstGeom prst="rect">
            <a:avLst/>
          </a:prstGeom>
          <a:ln w="0">
            <a:noFill/>
          </a:ln>
        </p:spPr>
      </p:pic>
      <p:sp>
        <p:nvSpPr>
          <p:cNvPr id="266" name="Овал 7"/>
          <p:cNvSpPr/>
          <p:nvPr/>
        </p:nvSpPr>
        <p:spPr>
          <a:xfrm>
            <a:off x="1584360" y="6107040"/>
            <a:ext cx="5761080" cy="7207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150840" y="1773360"/>
            <a:ext cx="7134120" cy="156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8" name="Овал 9"/>
          <p:cNvSpPr/>
          <p:nvPr/>
        </p:nvSpPr>
        <p:spPr>
          <a:xfrm>
            <a:off x="-108000" y="2781360"/>
            <a:ext cx="5759640" cy="7189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684360" y="2421000"/>
            <a:ext cx="784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1519200" y="2554200"/>
            <a:ext cx="61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306a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699320" cy="1511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1628640"/>
            <a:ext cx="5194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Выделение в решении следующих элементо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твет на вопрос зад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Число логических шагов (этапов) объяснени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Перечень обязательных явлений, законов или формул, на которые должны быть указ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Схема 3" descr=""/>
          <p:cNvPicPr/>
          <p:nvPr/>
        </p:nvPicPr>
        <p:blipFill>
          <a:blip r:embed="rId2"/>
          <a:stretch/>
        </p:blipFill>
        <p:spPr>
          <a:xfrm>
            <a:off x="6224760" y="1768320"/>
            <a:ext cx="1962000" cy="4467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366920" y="1268280"/>
            <a:ext cx="6753240" cy="543564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3"/>
          <p:cNvSpPr/>
          <p:nvPr/>
        </p:nvSpPr>
        <p:spPr>
          <a:xfrm>
            <a:off x="1366920" y="2421000"/>
            <a:ext cx="4645080" cy="360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7076880" cy="4733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699320" cy="1511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628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пределение способа решения задачи (если не соответствует предложенному в разделе «Возможное решение»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Выделение в решении следующих элементо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Перечня исходных законов и форму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Рисунка или схемы (если это указано в условии задач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Математических преобразова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Расчет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твет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955800" y="1484280"/>
            <a:ext cx="7832520" cy="4608720"/>
          </a:xfrm>
          <a:prstGeom prst="rect">
            <a:avLst/>
          </a:prstGeom>
          <a:ln w="0">
            <a:noFill/>
          </a:ln>
        </p:spPr>
      </p:pic>
      <p:sp>
        <p:nvSpPr>
          <p:cNvPr id="234" name="Выноска 1 2"/>
          <p:cNvSpPr/>
          <p:nvPr/>
        </p:nvSpPr>
        <p:spPr>
          <a:xfrm>
            <a:off x="4067280" y="2754360"/>
            <a:ext cx="936360" cy="399960"/>
          </a:xfrm>
          <a:prstGeom prst="borderCallout1">
            <a:avLst>
              <a:gd name="adj1" fmla="val 18750"/>
              <a:gd name="adj2" fmla="val -8333"/>
              <a:gd name="adj3" fmla="val 45805"/>
              <a:gd name="adj4" fmla="val -98106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374000" y="2754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6" name="Выноска 1 10"/>
          <p:cNvSpPr/>
          <p:nvPr/>
        </p:nvSpPr>
        <p:spPr>
          <a:xfrm>
            <a:off x="5796000" y="4049640"/>
            <a:ext cx="936720" cy="360360"/>
          </a:xfrm>
          <a:prstGeom prst="borderCallout1">
            <a:avLst>
              <a:gd name="adj1" fmla="val 18750"/>
              <a:gd name="adj2" fmla="val -8333"/>
              <a:gd name="adj3" fmla="val 59430"/>
              <a:gd name="adj4" fmla="val -118518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6103080" y="402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8" name="Выноска 1 12"/>
          <p:cNvSpPr/>
          <p:nvPr/>
        </p:nvSpPr>
        <p:spPr>
          <a:xfrm rot="10800000">
            <a:off x="53640" y="4755960"/>
            <a:ext cx="901800" cy="360360"/>
          </a:xfrm>
          <a:prstGeom prst="borderCallout1">
            <a:avLst>
              <a:gd name="adj1" fmla="val 18750"/>
              <a:gd name="adj2" fmla="val -8333"/>
              <a:gd name="adj3" fmla="val 59430"/>
              <a:gd name="adj4" fmla="val -91833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06880" y="473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0" name="Выноска 1 14"/>
          <p:cNvSpPr/>
          <p:nvPr/>
        </p:nvSpPr>
        <p:spPr>
          <a:xfrm>
            <a:off x="5003640" y="5713560"/>
            <a:ext cx="936720" cy="379440"/>
          </a:xfrm>
          <a:prstGeom prst="borderCallout1">
            <a:avLst>
              <a:gd name="adj1" fmla="val 18750"/>
              <a:gd name="adj2" fmla="val -8333"/>
              <a:gd name="adj3" fmla="val -14777"/>
              <a:gd name="adj4" fmla="val -86444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5310720" y="5713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9528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ачестве исходных принимаютс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улы, указанные в кодификаторе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элементов содержания и требований к уровню подготовки выпускников общеобразовательных учреждений для проведения единого государственного экзамена по физик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щиеся не обязаны писать эти формулы в точном соответствии с записью в кодификаторе. Возможна запись формулы для частного случая применения физического закона или определения физической величин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учащийся использовал в качестве исходной формулы ту, которая не указана в кодификаторе, то работа оценивается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ходя из отсутствия одной из необходимых для решения форму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28280"/>
            <a:ext cx="8362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Только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НОВЫ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 величины, которые отсутствуют в тексте задач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Стандартным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 считаются обозначения физических величин, принятые в кодификаторе элементов содержания и требований к уровню подготовки выпускников общеобразовательных учреждений для проведения ЕГЭ по физи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исание может быть приведено в вид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овесного указ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Дано»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исун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761240" cy="1352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95280" y="177300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атематические преобразования – основные логические шаг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четы – подстановка числовых данных в ответ «в общем виде» (без единиц измерения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числения «по действиям» - промежуточные ответы не оцениваются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7-03-20T19:51:14Z</dcterms:modified>
  <cp:revision>646</cp:revision>
  <dc:subject/>
  <dc:title>Презентация PowerPoint</dc:title>
</cp:coreProperties>
</file>