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30FE-CB71-431B-ACFD-7021B0B7C0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B2E3-01D1-404C-B45A-82D41C6B2A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1BA-9F12-41C9-A20C-24C582B2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C3ED-1429-4D0B-9FE4-9174D4BF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4CF-C847-4687-96E0-EEEFF13A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965-4223-4F61-B685-91A1FBC3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24ED-9F2D-48E4-B2AE-7EED187B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A01A-D306-4BAD-88A3-C6EC882F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D774-CF76-4729-8504-B6063912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02C4-9ADD-4613-8D21-CDF35C9E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528E-644F-48BB-85A9-BFE1AE8E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99FD-8367-4876-B6DD-A55F50AC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C5EA-307E-45DF-A79E-AA318FBD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5F8-2746-4723-B0FD-5A2DA28D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7E95-5962-4864-9533-81E21273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BA79-EB9C-4CF5-A480-8F972EC9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2CEF-C317-4846-9F63-12ECE74A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3212-EF57-4A9C-9304-6E64E818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5961-297E-4E50-AD08-96F6001C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49B44-5237-4FB4-9D2E-7811187C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81ECD-B656-41AE-9A0C-942827BF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C728D-4B0C-45DB-B365-FD4F5075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8577C-1124-4468-95F8-724F8B6C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0767-5D92-4B33-8390-F4DA9756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5FB-CD95-41F9-8B5D-5D3A1CF4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1445B-6D79-41B4-BA42-AFA02B08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5D6F-D1FB-4CBC-9721-4F40B6F0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6C839-B57B-4ABF-AFBB-135FB9EC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AAB6-7406-4CDC-8C53-90C3C4A6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FCD6C-CCEC-4542-B13B-2F98B9FB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12591-EACC-439D-8442-07C4DFAF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8640F-4265-4D57-A96D-A0A38A4D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260FA-2273-41EF-A0BF-D2AEAF36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13AD7-6A86-4ACA-BF02-F45DD5F0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106F-56E0-4D60-93F9-35E2BB6F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FD05-ACBA-4FA8-A38C-58DA1B9E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69875-7DDF-4B20-8DAD-F7CD478C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266A2-77CB-458C-B7FB-7B3B747E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7DE06-42B4-48F9-A4CC-433D747E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0C7A4-3BD2-4363-BBDF-20A90998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F7295-F659-42ED-B331-6BCED727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277CE-3920-4516-9625-7BD5828A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45E35-34E5-4808-9255-1F7041BF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92531-5F6A-4BEF-82D4-73CE24AE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F8C22-2A49-4184-BEA1-EBA39E3A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FC8-0A8E-4109-AB04-51AEAA08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81A5-26A9-4BC1-9931-113EB981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400-B5A1-4F9C-9F41-57572905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C38-2815-45FE-A0F4-2B1B2961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3E66-EAB2-4534-A519-993B521C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51DC-EBEE-40E9-85CD-B07880D25031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F6AF-2888-4294-AE4F-0C56BD280B2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5FFE-2B49-407C-AD33-39B0CEA00ACF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FA16-FFF6-45C1-B0BE-17FD12CBF39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60D8-DB4B-42CB-940F-4C2FD017E198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90F5-94CA-4EE1-9155-B4E885BF3FF0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12745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3D5F-3B75-428E-A4E1-1846A48BA2EB}" type="datetime"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6A69-0D63-4D26-8914-AAC52EE55DC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266760" y="2068560"/>
            <a:ext cx="864216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274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1835"/>
                </a:solidFill>
                <a:latin typeface="Arial"/>
              </a:rPr>
              <a:t>Требования к заданиям с развернутым ответом в  ЕГЭ по физике</a:t>
            </a:r>
            <a:endParaRPr b="0" lang="en-US" sz="32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1401840" y="49320"/>
            <a:ext cx="7626240" cy="13525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95280" y="1773000"/>
            <a:ext cx="8362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NewRomanPSMT"/>
              </a:rPr>
              <a:t>Числовой ответ и единицы измерения.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NewRomanPSMT"/>
              </a:rPr>
              <a:t>Ошибка в одном из компонентов считается неверным ответо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пускаются округления с учетом того числа значащих цифр, которые указаны в условии задач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быточная точность числового ответа не считается ошибко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NewRomanPSMT"/>
              </a:rPr>
              <a:t>Если при решении «по действиям» использовались округления с недостаточной точностью, то окончательный ответ анализируется с точки зрения физического смысл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1401840" y="49320"/>
            <a:ext cx="7626240" cy="1352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68360" y="155736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экзаменуемый решает задачу, которая относится к другому варианту, то работа оценивается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0 баллов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в задании требовалось определить отношение величин «А/В», а участник экзамена определил значение отношения «В/А», то это не считается ошибкой или погрешностью.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ивается в 3 балл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подмена сводится к тому, что учащийся определил не ту величину, которую требовалось рассчитать по условию задачи, а другую (при условии, что полученный ответ можно считать промежуточным этапом при определении требуемой величины), то относится к ошибке в преобразованиях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.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ивается в 2 балла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 верном решении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 algn="just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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401840" y="79200"/>
            <a:ext cx="7705800" cy="1511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826920" y="1631880"/>
            <a:ext cx="7848720" cy="4856400"/>
          </a:xfrm>
          <a:prstGeom prst="rect">
            <a:avLst/>
          </a:prstGeom>
          <a:ln w="0">
            <a:noFill/>
          </a:ln>
        </p:spPr>
      </p:pic>
      <p:sp>
        <p:nvSpPr>
          <p:cNvPr id="254" name="Овал 6"/>
          <p:cNvSpPr/>
          <p:nvPr/>
        </p:nvSpPr>
        <p:spPr>
          <a:xfrm>
            <a:off x="811080" y="4464000"/>
            <a:ext cx="6786720" cy="71928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1401840" y="79200"/>
            <a:ext cx="7705800" cy="1511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8237520" cy="1871640"/>
          </a:xfrm>
          <a:prstGeom prst="rect">
            <a:avLst/>
          </a:prstGeom>
          <a:ln w="0">
            <a:noFill/>
          </a:ln>
        </p:spPr>
      </p:pic>
      <p:sp>
        <p:nvSpPr>
          <p:cNvPr id="257" name="Овал 5"/>
          <p:cNvSpPr/>
          <p:nvPr/>
        </p:nvSpPr>
        <p:spPr>
          <a:xfrm>
            <a:off x="619200" y="2924280"/>
            <a:ext cx="6788160" cy="72072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782640" y="4538520"/>
            <a:ext cx="789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21274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Правильным считается рисунок, в котором верно указаны все необходимые силы и их направление.  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21274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Ошибка в соотношении длин векторов не считается ошибкой. 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755640" y="79200"/>
            <a:ext cx="8352000" cy="1511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1447920" y="1949400"/>
            <a:ext cx="6265800" cy="3807000"/>
          </a:xfrm>
          <a:prstGeom prst="rect">
            <a:avLst/>
          </a:prstGeom>
          <a:ln w="0">
            <a:noFill/>
          </a:ln>
        </p:spPr>
      </p:pic>
      <p:sp>
        <p:nvSpPr>
          <p:cNvPr id="261" name="Овал 3"/>
          <p:cNvSpPr/>
          <p:nvPr/>
        </p:nvSpPr>
        <p:spPr>
          <a:xfrm>
            <a:off x="1042920" y="4076640"/>
            <a:ext cx="6786720" cy="576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396720" y="79200"/>
            <a:ext cx="8710920" cy="151164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2"/>
          <p:cNvSpPr/>
          <p:nvPr/>
        </p:nvSpPr>
        <p:spPr>
          <a:xfrm>
            <a:off x="395280" y="184464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21274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Arial"/>
              </a:rPr>
              <a:t>Принимаются рисунки, отвечающие требованиям задачи, в которых используются </a:t>
            </a:r>
            <a:r>
              <a:rPr b="1" lang="ru-RU" sz="2400" spc="-1" strike="noStrike">
                <a:solidFill>
                  <a:srgbClr val="212745"/>
                </a:solidFill>
                <a:latin typeface="Arial"/>
              </a:rPr>
              <a:t>стандартные обозначения </a:t>
            </a:r>
            <a:r>
              <a:rPr b="0" lang="ru-RU" sz="2400" spc="-1" strike="noStrike">
                <a:solidFill>
                  <a:srgbClr val="212745"/>
                </a:solidFill>
                <a:latin typeface="Arial"/>
              </a:rPr>
              <a:t>элементов электрической цепи или оптической схемы. 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343080" algn="just">
              <a:buClr>
                <a:srgbClr val="21274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Arial"/>
              </a:rPr>
              <a:t>В оптической схеме допускаются неточности, связанные с рисованием «от руки».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  <a:p>
            <a:pPr marL="343080" indent="-343080" algn="just">
              <a:buClr>
                <a:srgbClr val="21274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Arial"/>
              </a:rPr>
              <a:t>При составлении схемы по фотографии допускается неверная интерпретация  подключения реостата. При этом задача считается решенной верно, если в решении учитывается тот же способ подключения, что и на электрической схеме. </a:t>
            </a:r>
            <a:endParaRPr b="0" lang="en-US" sz="24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152280" y="79200"/>
            <a:ext cx="8955360" cy="1511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1763640" y="2195640"/>
            <a:ext cx="7134120" cy="4371840"/>
          </a:xfrm>
          <a:prstGeom prst="rect">
            <a:avLst/>
          </a:prstGeom>
          <a:ln w="0">
            <a:noFill/>
          </a:ln>
        </p:spPr>
      </p:pic>
      <p:sp>
        <p:nvSpPr>
          <p:cNvPr id="266" name="Овал 7"/>
          <p:cNvSpPr/>
          <p:nvPr/>
        </p:nvSpPr>
        <p:spPr>
          <a:xfrm>
            <a:off x="1584360" y="6107040"/>
            <a:ext cx="5761080" cy="72072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3"/>
          <a:stretch/>
        </p:blipFill>
        <p:spPr>
          <a:xfrm>
            <a:off x="150840" y="1773360"/>
            <a:ext cx="7134120" cy="156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8" name="Овал 9"/>
          <p:cNvSpPr/>
          <p:nvPr/>
        </p:nvSpPr>
        <p:spPr>
          <a:xfrm>
            <a:off x="-108000" y="2781360"/>
            <a:ext cx="5759640" cy="71892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684360" y="2421000"/>
            <a:ext cx="7848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70" name="Прямоугольник 6"/>
          <p:cNvSpPr/>
          <p:nvPr/>
        </p:nvSpPr>
        <p:spPr>
          <a:xfrm>
            <a:off x="1519200" y="2554200"/>
            <a:ext cx="617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306a"/>
                </a:solidFill>
                <a:latin typeface="Garamond"/>
              </a:rPr>
              <a:t>Спасибо за внимание!</a:t>
            </a:r>
            <a:endParaRPr b="0" lang="en-US" sz="40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401840" y="79200"/>
            <a:ext cx="7699320" cy="1511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6840" y="1628640"/>
            <a:ext cx="5194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Выделение в решении следующих элементо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Ответ на вопрос зад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Число логических шагов (этапов) объяснения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Перечень обязательных явлений, законов или формул, на которые должны быть указ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Схема 3" descr=""/>
          <p:cNvPicPr/>
          <p:nvPr/>
        </p:nvPicPr>
        <p:blipFill>
          <a:blip r:embed="rId2"/>
          <a:stretch/>
        </p:blipFill>
        <p:spPr>
          <a:xfrm>
            <a:off x="6224760" y="1768320"/>
            <a:ext cx="1962000" cy="4467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401840" y="103320"/>
            <a:ext cx="7566120" cy="1298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1366920" y="1268280"/>
            <a:ext cx="6753240" cy="5435640"/>
          </a:xfrm>
          <a:prstGeom prst="rect">
            <a:avLst/>
          </a:prstGeom>
          <a:ln w="0">
            <a:noFill/>
          </a:ln>
        </p:spPr>
      </p:pic>
      <p:sp>
        <p:nvSpPr>
          <p:cNvPr id="227" name="Овал 3"/>
          <p:cNvSpPr/>
          <p:nvPr/>
        </p:nvSpPr>
        <p:spPr>
          <a:xfrm>
            <a:off x="1366920" y="2421000"/>
            <a:ext cx="4645080" cy="360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1401840" y="103320"/>
            <a:ext cx="7566120" cy="1298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7076880" cy="4733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1401840" y="79200"/>
            <a:ext cx="7699320" cy="1511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6840" y="162864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Определение способа решения задачи (если не соответствует предложенному в разделе «Возможное решение»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Выделение в решении следующих элементо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Перечня исходных законов и форму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Рисунка или схемы (если это указано в условии задачи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Математических преобразован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Расчет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1835"/>
                </a:solidFill>
                <a:latin typeface="Trebuchet MS"/>
              </a:rPr>
              <a:t>Ответ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1401840" y="103320"/>
            <a:ext cx="7566120" cy="1298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955800" y="1484280"/>
            <a:ext cx="7832520" cy="4608720"/>
          </a:xfrm>
          <a:prstGeom prst="rect">
            <a:avLst/>
          </a:prstGeom>
          <a:ln w="0">
            <a:noFill/>
          </a:ln>
        </p:spPr>
      </p:pic>
      <p:sp>
        <p:nvSpPr>
          <p:cNvPr id="234" name="Выноска 1 2"/>
          <p:cNvSpPr/>
          <p:nvPr/>
        </p:nvSpPr>
        <p:spPr>
          <a:xfrm>
            <a:off x="4067280" y="2754360"/>
            <a:ext cx="936360" cy="399960"/>
          </a:xfrm>
          <a:prstGeom prst="borderCallout1">
            <a:avLst>
              <a:gd name="adj1" fmla="val 18750"/>
              <a:gd name="adj2" fmla="val -8333"/>
              <a:gd name="adj3" fmla="val 45805"/>
              <a:gd name="adj4" fmla="val -98106"/>
            </a:avLst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4374000" y="2754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6" name="Выноска 1 10"/>
          <p:cNvSpPr/>
          <p:nvPr/>
        </p:nvSpPr>
        <p:spPr>
          <a:xfrm>
            <a:off x="5796000" y="4049640"/>
            <a:ext cx="936720" cy="360360"/>
          </a:xfrm>
          <a:prstGeom prst="borderCallout1">
            <a:avLst>
              <a:gd name="adj1" fmla="val 18750"/>
              <a:gd name="adj2" fmla="val -8333"/>
              <a:gd name="adj3" fmla="val 59430"/>
              <a:gd name="adj4" fmla="val -118518"/>
            </a:avLst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6103080" y="4022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8" name="Выноска 1 12"/>
          <p:cNvSpPr/>
          <p:nvPr/>
        </p:nvSpPr>
        <p:spPr>
          <a:xfrm rot="10800000">
            <a:off x="53640" y="4755960"/>
            <a:ext cx="901800" cy="360360"/>
          </a:xfrm>
          <a:prstGeom prst="borderCallout1">
            <a:avLst>
              <a:gd name="adj1" fmla="val 18750"/>
              <a:gd name="adj2" fmla="val -8333"/>
              <a:gd name="adj3" fmla="val 59430"/>
              <a:gd name="adj4" fmla="val -91833"/>
            </a:avLst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506880" y="4737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0" name="Выноска 1 14"/>
          <p:cNvSpPr/>
          <p:nvPr/>
        </p:nvSpPr>
        <p:spPr>
          <a:xfrm>
            <a:off x="5003640" y="5713560"/>
            <a:ext cx="936720" cy="379440"/>
          </a:xfrm>
          <a:prstGeom prst="borderCallout1">
            <a:avLst>
              <a:gd name="adj1" fmla="val 18750"/>
              <a:gd name="adj2" fmla="val -8333"/>
              <a:gd name="adj3" fmla="val -14777"/>
              <a:gd name="adj4" fmla="val -86444"/>
            </a:avLst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5310720" y="5713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212745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1401840" y="49320"/>
            <a:ext cx="7626240" cy="1352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395280" y="1483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ачестве исходных принимаютс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улы, указанные в кодификаторе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NewRomanPSMT"/>
              </a:rPr>
              <a:t>элементов содержания и требований к уровню подготовки выпускников общеобразовательных учреждений для проведения единого государственного экзамена по физик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щиеся не обязаны писать эти формулы в точном соответствии с записью в кодификаторе. Возможна запись формулы для частного случая применения физического закона или определения физической величины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учащийся использовал в качестве исходной формулы ту, которая не указана в кодификаторе, то работа оценивается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ходя из отсутствия одной из необходимых для решения форму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401840" y="49320"/>
            <a:ext cx="7626240" cy="13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28280"/>
            <a:ext cx="8362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NewRomanPSMT"/>
              </a:rPr>
              <a:t>Только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imesNewRomanPSMT"/>
              </a:rPr>
              <a:t>НОВЫ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NewRomanPSMT"/>
              </a:rPr>
              <a:t> величины, которые отсутствуют в тексте задач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imesNewRomanPSMT"/>
              </a:rPr>
              <a:t>Стандартными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NewRomanPSMT"/>
              </a:rPr>
              <a:t> считаются обозначения физических величин, принятые в кодификаторе элементов содержания и требований к уровню подготовки выпускников общеобразовательных учреждений для проведения ЕГЭ по физик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писание может быть приведено в виде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ловесного указ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Дано»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рисун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1401840" y="49320"/>
            <a:ext cx="7761240" cy="1352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395280" y="1773000"/>
            <a:ext cx="8362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Математические преобразования – основные логические шаг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асчеты – подстановка числовых данных в ответ «в общем виде» (без единиц измерения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ычисления «по действиям» - промежуточные ответы не оцениваются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марина</cp:lastModifiedBy>
  <dcterms:modified xsi:type="dcterms:W3CDTF">2017-03-20T19:51:14Z</dcterms:modified>
  <cp:revision>646</cp:revision>
  <dc:subject/>
  <dc:title>Презентация PowerPoint</dc:title>
</cp:coreProperties>
</file>