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388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2FF6-577E-425E-B950-3411D4C5E2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3378-CA9C-46A8-9E1E-9BDCB41585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60AD-764C-4C70-84BF-5DD5D4EFB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F22B-057E-45B2-95F3-B276C444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BE74-3DBD-48F8-B8DB-708B03887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E76C-3705-4E87-9CA4-B94315F98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1FDD-47D5-4396-AD3D-753E07548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A924-7EED-4218-9A98-79D5AE51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A329-9CAF-4483-9D1E-7D319C13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4F43-D4BF-4445-9B41-1A38C1DB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3523-4C1D-4361-9ADF-6522D6D8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96F4-8673-40BD-A4A0-E62043DE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22E9-7B42-4367-833F-63AA155E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1377-2E63-4A30-9EBD-FE69C5D4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024D-EF39-4459-B3E5-CF898DA4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7412-B7A6-49A7-A847-4658A4AD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45CA-ACE9-43FF-8EFA-75066B11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262D-97C5-4429-92AB-313E144DF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4FB5-64E5-44A5-ABB4-65ECDF1A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A600D-BBAD-4452-83D7-7811FB396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FA110-8742-46D5-B580-004B409A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D98D6-E290-45FE-8A94-E40FB5F1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4DF41-CF94-42D2-BF07-C8F8975F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A0683-9551-463E-8E19-A76EBDF1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6285-FD07-43F7-8B1A-313FB636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A1367-127F-4995-B491-D48FA818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3ACB6-AFFF-43EB-94C6-7E696BEB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AC23B-7889-49F1-8355-5EB0F8C4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4A6BA-C74C-41BD-96A4-D3B55A9D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B2F0A-BF3E-446B-A12E-68675CB4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3B65E-F8EE-44BA-B8DF-DF32CFF6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5A69A-4B9D-4C17-99A3-4686C072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FE755-4984-4B83-9CDD-9C66F6801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B7829-8A5E-4238-B962-61A8FD02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BEABE-2098-47A6-96BF-ED19A67B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899F-425B-44FB-BD3E-86EE72AB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E8760-2E9A-47EA-BBC0-F14E6AFE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53030-B8F5-45E4-B2E6-D758E335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98E93-F603-4FC8-8B94-6EFEF420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B2E19-30A1-4430-B97B-EC679A0E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B00EC-75FB-4AFF-A3FC-6F827DB7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E7F05-4813-4212-A45D-391A3C0A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B80A5-42AD-44BF-9B8D-62B5A13D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D9484-8283-4289-A2B2-EF6249F01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C7484-8573-4F8D-8BE3-708B1E183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291E-D458-4928-8037-085F5EC9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5437-3041-4225-9851-2F1E4A03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B585-875F-4E9A-9FC6-6969E637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EB8E-1B55-44BF-A464-C01D3929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A475-EE91-4D5A-BBAA-A7A2A658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12745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12745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12745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2E53-CBB6-4C3D-AED1-D97960B3B3D3}" type="datetime"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92EF-DD3C-46E1-BAC0-FB9AA46468A5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12745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12745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12745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FCA4-D1CB-4427-8129-E4E4F1C4F6F9}" type="datetime"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1D9D-B161-4FF2-A036-A3A56AB146E3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12745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12745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12745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12745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12745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12745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87CC-8934-42E3-87A2-5F3847234CE5}" type="datetime"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9022-9FC7-4148-A464-EA95567EC1A3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12745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12745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12745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92DD-F7E1-4741-AF9A-ACC4332420E1}" type="datetime"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9374-27D1-4D17-9B72-4EA5DAA81BBA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4"/>
          <p:cNvSpPr/>
          <p:nvPr/>
        </p:nvSpPr>
        <p:spPr>
          <a:xfrm>
            <a:off x="266760" y="2068560"/>
            <a:ext cx="8642160" cy="25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74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1835"/>
                </a:solidFill>
                <a:latin typeface="Arial"/>
              </a:rPr>
              <a:t>Требования к заданиям с развернутым ответом в  ЕГЭ по физике</a:t>
            </a:r>
            <a:endParaRPr b="0" lang="en-US" sz="32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1401840" y="49320"/>
            <a:ext cx="7626240" cy="13525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395280" y="1773000"/>
            <a:ext cx="8362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NewRomanPSMT"/>
              </a:rPr>
              <a:t>Числовой ответ и единицы измерения.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NewRomanPSMT"/>
              </a:rPr>
              <a:t>Ошибка в одном из компонентов считается неверным ответом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пускаются округления с учетом того числа значащих цифр, которые указаны в условии задачи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збыточная точность числового ответа не считается ошибко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NewRomanPSMT"/>
              </a:rPr>
              <a:t>Если при решении «по действиям» использовались округления с недостаточной точностью, то окончательный ответ анализируется с точки зрения физического смысл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1401840" y="49320"/>
            <a:ext cx="7626240" cy="13525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68360" y="1557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17856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сли экзаменуемый решает задачу, которая относится к другому варианту, то работа оценивается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0 баллов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сли в задании требовалось определить отношение величин «А/В», а участник экзамена определил значение отношения «В/А», то это не считается ошибкой или погрешностью.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ценивается в 3 балл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сли подмена сводится к тому, что учащийся определил не ту величину, которую требовалось рассчитать по условию задачи, а другую (при условии, что полученный ответ можно считать промежуточным этапом при определении требуемой величины), то относится к ошибке в преобразованиях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.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ценивается в 2 балла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и верном решении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 algn="just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401840" y="79200"/>
            <a:ext cx="7705800" cy="1511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"/>
          <p:cNvPicPr/>
          <p:nvPr/>
        </p:nvPicPr>
        <p:blipFill>
          <a:blip r:embed="rId2"/>
          <a:stretch/>
        </p:blipFill>
        <p:spPr>
          <a:xfrm>
            <a:off x="826920" y="1631880"/>
            <a:ext cx="7848720" cy="4856400"/>
          </a:xfrm>
          <a:prstGeom prst="rect">
            <a:avLst/>
          </a:prstGeom>
          <a:ln w="0">
            <a:noFill/>
          </a:ln>
        </p:spPr>
      </p:pic>
      <p:sp>
        <p:nvSpPr>
          <p:cNvPr id="254" name="Овал 6"/>
          <p:cNvSpPr/>
          <p:nvPr/>
        </p:nvSpPr>
        <p:spPr>
          <a:xfrm>
            <a:off x="811080" y="4464000"/>
            <a:ext cx="6786720" cy="71928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1" descr=""/>
          <p:cNvPicPr/>
          <p:nvPr/>
        </p:nvPicPr>
        <p:blipFill>
          <a:blip r:embed="rId1"/>
          <a:stretch/>
        </p:blipFill>
        <p:spPr>
          <a:xfrm>
            <a:off x="1401840" y="79200"/>
            <a:ext cx="7705800" cy="1511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8237520" cy="1871640"/>
          </a:xfrm>
          <a:prstGeom prst="rect">
            <a:avLst/>
          </a:prstGeom>
          <a:ln w="0">
            <a:noFill/>
          </a:ln>
        </p:spPr>
      </p:pic>
      <p:sp>
        <p:nvSpPr>
          <p:cNvPr id="257" name="Овал 5"/>
          <p:cNvSpPr/>
          <p:nvPr/>
        </p:nvSpPr>
        <p:spPr>
          <a:xfrm>
            <a:off x="619200" y="2924280"/>
            <a:ext cx="6788160" cy="72072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782640" y="4538520"/>
            <a:ext cx="789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21274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Правильным считается рисунок, в котором верно указаны все необходимые силы и их направление.  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21274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Ошибка в соотношении длин векторов не считается ошибкой. 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1" descr=""/>
          <p:cNvPicPr/>
          <p:nvPr/>
        </p:nvPicPr>
        <p:blipFill>
          <a:blip r:embed="rId1"/>
          <a:stretch/>
        </p:blipFill>
        <p:spPr>
          <a:xfrm>
            <a:off x="755640" y="79200"/>
            <a:ext cx="8352000" cy="1511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>
            <a:off x="1447920" y="1949400"/>
            <a:ext cx="6265800" cy="3807000"/>
          </a:xfrm>
          <a:prstGeom prst="rect">
            <a:avLst/>
          </a:prstGeom>
          <a:ln w="0">
            <a:noFill/>
          </a:ln>
        </p:spPr>
      </p:pic>
      <p:sp>
        <p:nvSpPr>
          <p:cNvPr id="261" name="Овал 3"/>
          <p:cNvSpPr/>
          <p:nvPr/>
        </p:nvSpPr>
        <p:spPr>
          <a:xfrm>
            <a:off x="1042920" y="4076640"/>
            <a:ext cx="6786720" cy="57636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396720" y="79200"/>
            <a:ext cx="8710920" cy="151164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2"/>
          <p:cNvSpPr/>
          <p:nvPr/>
        </p:nvSpPr>
        <p:spPr>
          <a:xfrm>
            <a:off x="395280" y="1844640"/>
            <a:ext cx="8353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21274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Arial"/>
              </a:rPr>
              <a:t>Принимаются рисунки, отвечающие требованиям задачи, в которых используются </a:t>
            </a:r>
            <a:r>
              <a:rPr b="1" lang="ru-RU" sz="2400" spc="-1" strike="noStrike">
                <a:solidFill>
                  <a:srgbClr val="212745"/>
                </a:solidFill>
                <a:latin typeface="Arial"/>
              </a:rPr>
              <a:t>стандартные обозначения </a:t>
            </a:r>
            <a:r>
              <a:rPr b="0" lang="ru-RU" sz="2400" spc="-1" strike="noStrike">
                <a:solidFill>
                  <a:srgbClr val="212745"/>
                </a:solidFill>
                <a:latin typeface="Arial"/>
              </a:rPr>
              <a:t>элементов электрической цепи или оптической схемы. 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marL="343080" indent="-343080" algn="just">
              <a:buClr>
                <a:srgbClr val="21274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Arial"/>
              </a:rPr>
              <a:t>В оптической схеме допускаются неточности, связанные с рисованием «от руки».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marL="343080" indent="-343080" algn="just">
              <a:buClr>
                <a:srgbClr val="21274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Arial"/>
              </a:rPr>
              <a:t>При составлении схемы по фотографии допускается неверная интерпретация  подключения реостата. При этом задача считается решенной верно, если в решении учитывается тот же способ подключения, что и на электрической схеме. 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152280" y="79200"/>
            <a:ext cx="8955360" cy="1511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2"/>
          <a:stretch/>
        </p:blipFill>
        <p:spPr>
          <a:xfrm>
            <a:off x="1763640" y="2195640"/>
            <a:ext cx="7134120" cy="4371840"/>
          </a:xfrm>
          <a:prstGeom prst="rect">
            <a:avLst/>
          </a:prstGeom>
          <a:ln w="0">
            <a:noFill/>
          </a:ln>
        </p:spPr>
      </p:pic>
      <p:sp>
        <p:nvSpPr>
          <p:cNvPr id="266" name="Овал 7"/>
          <p:cNvSpPr/>
          <p:nvPr/>
        </p:nvSpPr>
        <p:spPr>
          <a:xfrm>
            <a:off x="1584360" y="6107040"/>
            <a:ext cx="5761080" cy="72072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3"/>
          <a:stretch/>
        </p:blipFill>
        <p:spPr>
          <a:xfrm>
            <a:off x="150840" y="1773360"/>
            <a:ext cx="7134120" cy="156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8" name="Овал 9"/>
          <p:cNvSpPr/>
          <p:nvPr/>
        </p:nvSpPr>
        <p:spPr>
          <a:xfrm>
            <a:off x="-108000" y="2781360"/>
            <a:ext cx="5759640" cy="71892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684360" y="2421000"/>
            <a:ext cx="7848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70" name="Прямоугольник 6"/>
          <p:cNvSpPr/>
          <p:nvPr/>
        </p:nvSpPr>
        <p:spPr>
          <a:xfrm>
            <a:off x="1519200" y="2554200"/>
            <a:ext cx="617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306a"/>
                </a:solidFill>
                <a:latin typeface="Garamond"/>
              </a:rPr>
              <a:t>Спасибо за внимание!</a:t>
            </a:r>
            <a:endParaRPr b="0" lang="en-US" sz="40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1401840" y="79200"/>
            <a:ext cx="7699320" cy="1511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6840" y="1628640"/>
            <a:ext cx="5194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835"/>
                </a:solidFill>
                <a:latin typeface="Trebuchet MS"/>
              </a:rPr>
              <a:t>Выделение в решении следующих элементов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835"/>
                </a:solidFill>
                <a:latin typeface="Trebuchet MS"/>
              </a:rPr>
              <a:t>Ответ на вопрос зад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835"/>
                </a:solidFill>
                <a:latin typeface="Trebuchet MS"/>
              </a:rPr>
              <a:t>Число логических шагов (этапов) объяснения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835"/>
                </a:solidFill>
                <a:latin typeface="Trebuchet MS"/>
              </a:rPr>
              <a:t>Перечень обязательных явлений, законов или формул, на которые должны быть указ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4" name="Схема 3" descr=""/>
          <p:cNvPicPr/>
          <p:nvPr/>
        </p:nvPicPr>
        <p:blipFill>
          <a:blip r:embed="rId2"/>
          <a:stretch/>
        </p:blipFill>
        <p:spPr>
          <a:xfrm>
            <a:off x="6224760" y="1768320"/>
            <a:ext cx="1962000" cy="4467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1401840" y="103320"/>
            <a:ext cx="7566120" cy="1298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"/>
          <p:cNvPicPr/>
          <p:nvPr/>
        </p:nvPicPr>
        <p:blipFill>
          <a:blip r:embed="rId2"/>
          <a:stretch/>
        </p:blipFill>
        <p:spPr>
          <a:xfrm>
            <a:off x="1366920" y="1268280"/>
            <a:ext cx="6753240" cy="5435640"/>
          </a:xfrm>
          <a:prstGeom prst="rect">
            <a:avLst/>
          </a:prstGeom>
          <a:ln w="0">
            <a:noFill/>
          </a:ln>
        </p:spPr>
      </p:pic>
      <p:sp>
        <p:nvSpPr>
          <p:cNvPr id="227" name="Овал 3"/>
          <p:cNvSpPr/>
          <p:nvPr/>
        </p:nvSpPr>
        <p:spPr>
          <a:xfrm>
            <a:off x="1366920" y="2421000"/>
            <a:ext cx="4645080" cy="36036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1401840" y="103320"/>
            <a:ext cx="7566120" cy="1298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1258920" y="1413000"/>
            <a:ext cx="7076880" cy="4733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1401840" y="79200"/>
            <a:ext cx="7699320" cy="1511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6840" y="162864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835"/>
                </a:solidFill>
                <a:latin typeface="Trebuchet MS"/>
              </a:rPr>
              <a:t>Определение способа решения задачи (если не соответствует предложенному в разделе «Возможное решение»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835"/>
                </a:solidFill>
                <a:latin typeface="Trebuchet MS"/>
              </a:rPr>
              <a:t>Выделение в решении следующих элементов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835"/>
                </a:solidFill>
                <a:latin typeface="Trebuchet MS"/>
              </a:rPr>
              <a:t>Перечня исходных законов и формул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835"/>
                </a:solidFill>
                <a:latin typeface="Trebuchet MS"/>
              </a:rPr>
              <a:t>Рисунка или схемы (если это указано в условии задачи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835"/>
                </a:solidFill>
                <a:latin typeface="Trebuchet MS"/>
              </a:rPr>
              <a:t>Математических преобразований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835"/>
                </a:solidFill>
                <a:latin typeface="Trebuchet MS"/>
              </a:rPr>
              <a:t>Расчето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835"/>
                </a:solidFill>
                <a:latin typeface="Trebuchet MS"/>
              </a:rPr>
              <a:t>Ответа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1401840" y="103320"/>
            <a:ext cx="7566120" cy="1298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"/>
          <p:cNvPicPr/>
          <p:nvPr/>
        </p:nvPicPr>
        <p:blipFill>
          <a:blip r:embed="rId2"/>
          <a:stretch/>
        </p:blipFill>
        <p:spPr>
          <a:xfrm>
            <a:off x="955800" y="1484280"/>
            <a:ext cx="7832520" cy="4608720"/>
          </a:xfrm>
          <a:prstGeom prst="rect">
            <a:avLst/>
          </a:prstGeom>
          <a:ln w="0">
            <a:noFill/>
          </a:ln>
        </p:spPr>
      </p:pic>
      <p:sp>
        <p:nvSpPr>
          <p:cNvPr id="234" name="Выноска 1 2"/>
          <p:cNvSpPr/>
          <p:nvPr/>
        </p:nvSpPr>
        <p:spPr>
          <a:xfrm>
            <a:off x="4067280" y="2754360"/>
            <a:ext cx="936360" cy="399960"/>
          </a:xfrm>
          <a:prstGeom prst="borderCallout1">
            <a:avLst>
              <a:gd name="adj1" fmla="val 18750"/>
              <a:gd name="adj2" fmla="val -8333"/>
              <a:gd name="adj3" fmla="val 45805"/>
              <a:gd name="adj4" fmla="val -98106"/>
            </a:avLst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35" name="TextBox 4"/>
          <p:cNvSpPr/>
          <p:nvPr/>
        </p:nvSpPr>
        <p:spPr>
          <a:xfrm>
            <a:off x="4374000" y="2754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36" name="Выноска 1 10"/>
          <p:cNvSpPr/>
          <p:nvPr/>
        </p:nvSpPr>
        <p:spPr>
          <a:xfrm>
            <a:off x="5796000" y="4049640"/>
            <a:ext cx="936720" cy="360360"/>
          </a:xfrm>
          <a:prstGeom prst="borderCallout1">
            <a:avLst>
              <a:gd name="adj1" fmla="val 18750"/>
              <a:gd name="adj2" fmla="val -8333"/>
              <a:gd name="adj3" fmla="val 59430"/>
              <a:gd name="adj4" fmla="val -118518"/>
            </a:avLst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37" name="TextBox 11"/>
          <p:cNvSpPr/>
          <p:nvPr/>
        </p:nvSpPr>
        <p:spPr>
          <a:xfrm>
            <a:off x="6103080" y="4022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38" name="Выноска 1 12"/>
          <p:cNvSpPr/>
          <p:nvPr/>
        </p:nvSpPr>
        <p:spPr>
          <a:xfrm rot="10800000">
            <a:off x="53640" y="4755960"/>
            <a:ext cx="901800" cy="360360"/>
          </a:xfrm>
          <a:prstGeom prst="borderCallout1">
            <a:avLst>
              <a:gd name="adj1" fmla="val 18750"/>
              <a:gd name="adj2" fmla="val -8333"/>
              <a:gd name="adj3" fmla="val 59430"/>
              <a:gd name="adj4" fmla="val -91833"/>
            </a:avLst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39" name="TextBox 13"/>
          <p:cNvSpPr/>
          <p:nvPr/>
        </p:nvSpPr>
        <p:spPr>
          <a:xfrm>
            <a:off x="506880" y="4737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40" name="Выноска 1 14"/>
          <p:cNvSpPr/>
          <p:nvPr/>
        </p:nvSpPr>
        <p:spPr>
          <a:xfrm>
            <a:off x="5003640" y="5713560"/>
            <a:ext cx="936720" cy="379440"/>
          </a:xfrm>
          <a:prstGeom prst="borderCallout1">
            <a:avLst>
              <a:gd name="adj1" fmla="val 18750"/>
              <a:gd name="adj2" fmla="val -8333"/>
              <a:gd name="adj3" fmla="val -14777"/>
              <a:gd name="adj4" fmla="val -86444"/>
            </a:avLst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41" name="TextBox 15"/>
          <p:cNvSpPr/>
          <p:nvPr/>
        </p:nvSpPr>
        <p:spPr>
          <a:xfrm>
            <a:off x="5310720" y="5713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1401840" y="49320"/>
            <a:ext cx="7626240" cy="13525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395280" y="148392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качестве исходных принимаются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ормулы, указанные в кодификаторе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NewRomanPSMT"/>
              </a:rPr>
              <a:t>элементов содержания и требований к уровню подготовки выпускников общеобразовательных учреждений для проведения единого государственного экзамена по физике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ащиеся не обязаны писать эти формулы в точном соответствии с записью в кодификаторе. Возможна запись формулы для частного случая применения физического закона или определения физической величины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сли учащийся использовал в качестве исходной формулы ту, которая не указана в кодификаторе, то работа оценивается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ходя из отсутствия одной из необходимых для решения форму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1401840" y="49320"/>
            <a:ext cx="7626240" cy="1352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28280"/>
            <a:ext cx="8362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9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NewRomanPSMT"/>
              </a:rPr>
              <a:t>Только 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  <a:ea typeface="TimesNewRomanPSMT"/>
              </a:rPr>
              <a:t>НОВЫЕ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NewRomanPSMT"/>
              </a:rPr>
              <a:t> величины, которые отсутствуют в тексте задач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  <a:ea typeface="TimesNewRomanPSMT"/>
              </a:rPr>
              <a:t>Стандартными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NewRomanPSMT"/>
              </a:rPr>
              <a:t> считаются обозначения физических величин, принятые в кодификаторе элементов содержания и требований к уровню подготовки выпускников общеобразовательных учреждений для проведения ЕГЭ по физик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писание может быть приведено в виде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ловесного указ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«Дано»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рисунк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1401840" y="49320"/>
            <a:ext cx="7761240" cy="13525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395280" y="1773000"/>
            <a:ext cx="8362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Математические преобразования – основные логические шаги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Расчеты – подстановка числовых данных в ответ «в общем виде» (без единиц измерения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Вычисления «по действиям» - промежуточные ответы не оцениваются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4:40:30Z</dcterms:created>
  <dc:creator>user</dc:creator>
  <dc:description/>
  <dc:language>en-US</dc:language>
  <cp:lastModifiedBy>марина</cp:lastModifiedBy>
  <dcterms:modified xsi:type="dcterms:W3CDTF">2017-03-20T19:51:14Z</dcterms:modified>
  <cp:revision>646</cp:revision>
  <dc:subject/>
  <dc:title>Презентация PowerPoint</dc:title>
</cp:coreProperties>
</file>