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DB6-085C-45F8-A4C3-97FC4A19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AE1-71C7-49D8-82A3-A3053078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951-CA76-4EC0-BBF1-9B245872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124-62E8-459F-A802-82D777F8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1B3-0609-4194-8E76-91760D8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1C5-A1DF-4DD8-B5CD-E1380C21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7BE-95E1-484A-AF91-235F2B8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03F-1A82-4AA6-BE62-AAD596F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517-F496-4493-A3BF-14D6FDA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1F8-C3C5-40C6-A7C0-9E02263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C0C-8CAD-41A0-8456-551C982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578-A2CB-4C37-A02A-7E584CF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DE51-AFBA-421B-AE57-ECD43E1369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E5B1-05CF-44A5-A174-E2067CF1A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7E7F-AF6C-4220-8923-4006FEC6C0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номная некоммерческая организация «Региональный центр поддержки общественных инициатив «Дети Байкал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84360" y="1557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619280" y="1197000"/>
            <a:ext cx="6121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Arial"/>
              </a:rPr>
              <a:t>Презентация  на кон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Arial"/>
              </a:rPr>
              <a:t>«Школа руководителя Н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4b50"/>
                </a:solidFill>
                <a:latin typeface="Arial"/>
              </a:rPr>
              <a:t>Молодеевой Ирины Андре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едатель правл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О «РЦПОИ «Дети Байк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19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Arial"/>
              </a:rPr>
              <a:t>Раздел 1   Общие сведения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ева Ирина Андреевна,1962 г.р., г.Иркутск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тел.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+7902169 - 28 – 48   </a:t>
            </a:r>
            <a:br>
              <a:rPr sz="1800"/>
            </a:b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          +7301223 – 38 - 88 </a:t>
            </a:r>
            <a:br>
              <a:rPr sz="1800"/>
            </a:b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          baikalplanet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@ya</a:t>
            </a: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ru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правления АНО «РЦПОИ «Дети Байкала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, высш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 БГУ, учитель, специальность – биология и хим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 МОиН РФ, кандидат педагогических нау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рудовой стаж – 23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ий стаж – 20 л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ж работы в данном НКО – 5 л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о предыдущих местах работы и должностях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 ср. школа № 48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ст Городской станции юных туристов,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клуба «Ровесник», педагог-организатор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объединения «Ровесник» ДПЦ «Байк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D76F-3ECC-40C4-9108-389F40D8C6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4b50"/>
                </a:solidFill>
                <a:latin typeface="Arial"/>
              </a:rPr>
              <a:t>Раздел 2  ПОВЫШЕНИЕ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1125360"/>
            <a:ext cx="79423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ый курс «Организация учебно-исследовательской деятельности учащихся»   Педагогический институт Б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кальский Международный молодежный форум, доклад, участник, Министерство образования и науки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публиканская конференция «Организация образовательно-оздоровительной деятельности...» БГУ, доклад, учас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«Особенности организации образовательного процесса…» БРИ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Академии народного хозяйства и государственной службы при Президенте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просы деятельности  Н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 «Методы Вальдорфской лечебной педагог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 «Мониторинг социальных проектов» НАБО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Arial"/>
              </a:rPr>
              <a:t>Раздел 3  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Республиканские и региональные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1.  «Чистые берега Байкала» МОИН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2.  «Зеленый патруль»  «ПРООН-БОНАК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3.   «Байкальский патруль» ВОО «Р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4.   «Бурятия – будем рядом ты и я!» КОМ.НАЦ.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5.   «Позитив плюс» ФП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6.   «Ты не один!» МОИН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«Мир прекрасен» ФП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mbria Math"/>
              </a:rPr>
              <a:t>«Дороги, которые мы выбираем…»  КОМ.МОЛ.ПОЛ.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4b50"/>
                </a:solidFill>
                <a:latin typeface="Arial"/>
              </a:rPr>
              <a:t>Раздел 4  Список награждений и поощ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1  Свидетельство  Всероссийского конкурса «Национальное   достоя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1  Грамота Комитета по образованию г. Улан-Уд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2  Грамота Экспозиция музейного уголка г. Улан-Удэ  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2  Грамота Министерства образования и науки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2  Благодарственное письмо Администрации Главы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3  Почетная грамота Республики Бур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4  Свидетельство участника конференции  «Верхнеудинские чт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4  Свидетельство участника научно-практической 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014  Грамота Республиканского конкурса ко Дню Матери 1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AutoNum type="arabicPlain" startAt="20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рамота за проведение Семинара по патриотической рабо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AutoNum type="arabicPlain" startAt="20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Благодарственное письмо Управления МВД России по г. Улан-Удэ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0"/>
            <a:ext cx="82072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b50"/>
                </a:solidFill>
                <a:latin typeface="Arial"/>
              </a:rPr>
              <a:t>Раздел 5  Дополнительны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68360" y="981000"/>
            <a:ext cx="7991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щественная деятельность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уководитель проектов АНО РЦПОИ «Дети Байкал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лен Общественного совета Министерства природных ресурсов Р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лен ВОО «Русское географическое обществ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Член РГО"/>
          <p:cNvPicPr/>
          <p:nvPr/>
        </p:nvPicPr>
        <p:blipFill>
          <a:blip r:embed="rId1"/>
          <a:srcRect l="0" t="3509" r="0" b="0"/>
          <a:stretch/>
        </p:blipFill>
        <p:spPr>
          <a:xfrm>
            <a:off x="4932360" y="4797360"/>
            <a:ext cx="1300320" cy="15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Копия DSC04137"/>
          <p:cNvPicPr/>
          <p:nvPr/>
        </p:nvPicPr>
        <p:blipFill>
          <a:blip r:embed="rId2"/>
          <a:srcRect l="0" t="25968" r="0" b="0"/>
          <a:stretch/>
        </p:blipFill>
        <p:spPr>
          <a:xfrm>
            <a:off x="4284720" y="2637000"/>
            <a:ext cx="3022560" cy="151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на вручении"/>
          <p:cNvPicPr/>
          <p:nvPr/>
        </p:nvPicPr>
        <p:blipFill>
          <a:blip r:embed="rId3"/>
          <a:stretch/>
        </p:blipFill>
        <p:spPr>
          <a:xfrm>
            <a:off x="826920" y="2708280"/>
            <a:ext cx="27450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Ирина Андреевна и студенты"/>
          <p:cNvPicPr/>
          <p:nvPr/>
        </p:nvPicPr>
        <p:blipFill>
          <a:blip r:embed="rId4"/>
          <a:srcRect l="2310" t="0" r="0" b="0"/>
          <a:stretch/>
        </p:blipFill>
        <p:spPr>
          <a:xfrm>
            <a:off x="1403280" y="4724280"/>
            <a:ext cx="2455920" cy="165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прконф 3"/>
          <p:cNvPicPr/>
          <p:nvPr/>
        </p:nvPicPr>
        <p:blipFill>
          <a:blip r:embed="rId5"/>
          <a:stretch/>
        </p:blipFill>
        <p:spPr>
          <a:xfrm>
            <a:off x="2843280" y="3789360"/>
            <a:ext cx="2160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6:32:26Z</dcterms:created>
  <dc:creator>www.PHILka.RU</dc:creator>
  <dc:description/>
  <dc:language>en-US</dc:language>
  <cp:lastModifiedBy>PC</cp:lastModifiedBy>
  <dcterms:modified xsi:type="dcterms:W3CDTF">2018-02-05T10:10:53Z</dcterms:modified>
  <cp:revision>115</cp:revision>
  <dc:subject/>
  <dc:title>ПОРТФОЛИО</dc:title>
</cp:coreProperties>
</file>