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F23-D712-4D91-81AD-D8B46E11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14C-BD63-4BB7-A4B0-E0A8FB8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8D9-82FA-40CF-8129-42BE733E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098-4D61-46EF-8FBE-43A5D9E9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7FA5-CA6C-44AF-91C2-657337DA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B53-F86C-452A-B5D5-D9056C24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8800-BEE1-488C-B77E-0815626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83A-261E-4DFB-BCE1-4665671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97A-0F6E-4EB9-A90E-9C3984A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F33-89AE-4FDC-AE19-C49EB61C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B3D6-7836-4179-91B6-82C4348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C31-7C29-4560-850D-8266BE1D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951F-0FB4-4B13-8110-EA50188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A30D-377C-4710-9AE8-36433A04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AF9-1C95-473D-A2A0-9492B12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C923-BF35-4933-9B7D-573C18BB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D287-884D-453B-B492-238BD8FC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6F10-41A9-479E-B37A-94E77DE4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AA15-95AD-4D99-B5DB-4D1251C9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E320-2B61-409C-A7B3-51F1B4F8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626C-0889-4751-8A7A-82D464B6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EC02-9C0F-45F5-9DAA-C33FA07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30A-8B4C-4AC3-88C9-8680F53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E4CF-3D38-4343-96EB-D274061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712C-AC48-47B3-A112-B4309CC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12E8-AE47-403E-A5F7-3096540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EA08-253A-4169-9408-289626F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786B-F53F-49DE-BD31-36C21990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3D37-B82F-44F1-B755-4C55AFBE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9E0F-77BE-41F5-88A6-EA3EBC90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E441-C096-415E-AF77-ADAF1497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D25D-F699-4C75-8D99-4BE7796D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92ED-9858-4349-99E0-6A3C6DD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E78-9B28-47B0-A4A9-CB6B2B8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D7D2-C5B1-44E9-95CD-DC8E64D2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2611-CD65-402B-A8C0-9FBA7E2B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2B7E-20A5-43F1-BF64-A6A6AB7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A923-CB18-43F7-B723-AD45746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A821-0ED8-4912-AC0F-2D76679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BB00-4342-4A94-8EE6-C39073D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2C0F-F8FA-4D93-A01B-4709848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780D-3002-4447-A2F1-0D008B3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F76F-DAD9-4525-9AEB-92DFD047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6884-8433-48C3-9271-E3D79CFC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501-F629-41E3-8AE0-2CC942D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8698-D6C0-4ECE-85B9-470550B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7846-01AF-467F-ACEB-D240040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3B1C-1098-4659-B07C-55F59EA8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AA0A-0FCD-409A-8EB3-F6DD364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4569-4003-41C0-8ABF-DF1D099E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9061-6E30-46CE-B4AB-E9334C8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BC64-E659-4D1A-9225-DEABF3E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8CA93-FB21-4C69-A0C6-364655B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63DB-C0F4-4BC3-BD91-AC9CD3A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0C41D-55CC-41E5-9C69-A9409935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B5B-4503-4E84-ACA9-0E01BCDA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2C15-3BE8-4402-B125-660FDAC9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6FD-C2BC-4ECC-90BC-6C996AA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00D-E31A-48AF-88EC-017C415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F5C-B735-4441-992C-2B64E9A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010-D1BD-447C-8499-929340BDFA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983-17BC-4368-8E89-62E72849F5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29C4-D0BD-4F1D-866B-29DE0CAEAD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543-E6E9-4A99-991B-7D26FCF122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926-EBE4-4CBC-8EA0-0A4EC9BCD6E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826920" y="1268280"/>
            <a:ext cx="6985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Муниципальное бюджет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Станция юных тех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Yu Gothic UI"/>
                <a:ea typeface="Yu Gothic UI"/>
              </a:rPr>
              <a:t>Творческое объеди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«МИР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00"/>
                </a:solidFill>
                <a:uFillTx/>
                <a:latin typeface="Alef"/>
                <a:ea typeface="Yu Gothic UI"/>
              </a:rPr>
              <a:t>ПРЕЗЕНТАЦИЯ 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ЭКСКУРСИИ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Yu Gothic UI"/>
                <a:ea typeface="Yu Gothic UI"/>
              </a:rPr>
              <a:t>АВТОР:  педагог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971640" y="119700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Verdana"/>
              </a:rPr>
              <a:t>УЧЕБНАЯ ЭКСКУРСИЯ  -  форма организации учебно – воспитательного процесса, позволяющая проводить наблюдения и изучение различных  профессий  на различных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Verdana"/>
              </a:rPr>
              <a:t>ЭКСКУРСИЯ  как живая, непосредственная форма общения развивает эмоциональную отзывчивость, закладывает основы нравственного об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6" descr="Picture background"/>
          <p:cNvPicPr/>
          <p:nvPr/>
        </p:nvPicPr>
        <p:blipFill>
          <a:blip r:embed="rId1"/>
          <a:stretch/>
        </p:blipFill>
        <p:spPr>
          <a:xfrm>
            <a:off x="4211640" y="3357720"/>
            <a:ext cx="4618080" cy="3063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468360" y="549360"/>
            <a:ext cx="8207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Экскурсия = промышленный тури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 последние годы во всем мире бурно развивается промышленный туризм, который называют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экономикой впечат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Термин впервые был упомянут в 1999 году экономистами Джозефом Пейн и Джеймсом Гилмор в книге «Экономика впечат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187280" y="1557360"/>
            <a:ext cx="6480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КСКУРС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наглядный метод получения определенных знаний, воспитания путем посещений по заранее разработанной теме (музей, библиотека, магазин, пожарная часть, цех сетей и подстанций градообразующего предприятия ФГУП «ПО «МАЯК», поликлиника, хлебзавод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187280" y="1700280"/>
            <a:ext cx="63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лжительность экскурсии должна составлять 45 – 9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кскурсии желательно проводить в первой половине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рганизации экскурсии необходимо соблюдать технику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26920" y="1341360"/>
            <a:ext cx="7417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Verdana"/>
              </a:rPr>
              <a:t>По организационной структуре экскурсия должна состоять из 3 ча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Вводная часть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доставка транспортом до предприятия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Экскурсия по предприятию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экскурсовод проводит экскурсию по самому предприяти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Заключительная часть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возвращение обучающихся с предприятия в учрежд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1187280" y="1197000"/>
            <a:ext cx="691380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Verdana"/>
              </a:rPr>
              <a:t>По содержанию  экскурсия соединяет в себе 5 бл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торический (обучающиеся получают краткую информацию об истории предприят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хнический (обучающиеся получают информацию о технологических особенностях данного производства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кономический (обучающиеся получают краткую информацию об экономических показателях предприят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нтерактивный (обучающимся предлагают «попробовать» себя на производств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фориентационный (обучающиеся  получают информацию о перспективах развития данного предприятия, какие специалисты требуются, какими качествами нужно обладать для работы, информация о высших и средних специальных учебных заведениях, готовящих специалистов для работы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826920" y="1341360"/>
            <a:ext cx="70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Промышленный туризм (экскурсия) составленный в соответствии с вышеназванным стандартом, будет интересным, зрелищным и доступным дл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Для предприятия такие экскурсии будут решать не только маркетинговые задачи, а для детей способствуют решению кадровой задачи, благодаря профориентационной и интерактивной составляющ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826920" y="184464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5-30T08:33:33Z</dcterms:modified>
  <cp:revision>113</cp:revision>
  <dc:subject/>
  <dc:title>Слайд 1</dc:title>
</cp:coreProperties>
</file>