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B9E-0352-4D9E-8CF8-E6923D34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975-6F85-4FC9-845C-518DC0E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11C-07A3-4219-ADCA-47B78715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8FF-2033-4A2D-B599-E3239674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85D7-5E46-4160-B382-87E58AC6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1ED6-080E-47B5-A341-B8B4C8EF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4FA2-6BBF-4BFA-8F23-235ABD4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93C-5D72-48F4-BF1C-3203A4F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7C3F-AF75-4047-B23F-1589256F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011B-694E-497D-A844-7A9FC6F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567B-FA85-4E75-832E-67D96C9F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B09-5838-483A-AAEB-559CD70C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0BBD-8550-45AD-8F4A-06C7CEA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5EB6-EB11-482F-9E78-97248D0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6AB6-5030-41E3-A45A-1187B921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317C-07B0-4976-B471-2A0B58E1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BDC7-168C-4EBB-A652-7F350EC6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DC64-EDA2-4AD7-9AD0-D7B64ADB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4ED6-334F-4394-8E76-FF426537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93FB-5200-4060-B2F8-0158F519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47FF-91B5-4043-93A6-E1932A9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CB59-5010-443C-AAA5-0346D134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55C-A53C-49B4-9508-D4F9954D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517D-07B2-47F9-A0A9-E28E25A5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C121-C5D7-4591-AAF1-05DA1B49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DCA9-5FCD-47EA-B628-EC991A9E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09DA-0CB2-4194-A5B1-EDB68BA2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A805-09C8-4AA9-93ED-BF76EB11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5A89-EDC9-4F95-A483-E3A90C26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C5B5-15E6-4C92-AAF9-5EEAE799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3309-CBC8-4124-92D8-B9BCD773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EDAD9-07DA-43E6-9DF7-EF24FC3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E92A-2553-4E30-837E-795780F4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F0F-551C-4379-846E-B01214AF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27C30-9BB8-4C8F-B087-AA35DB8D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42BC2-26F2-4577-A4FE-2CC1CCB0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9976-E639-4645-B34E-DFEC30A8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DBF3-1F30-4D66-9BC1-E8C02F9C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BC52-9116-47B5-B1C2-36B71DB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805E1-24E0-45FD-A9FC-071D5F8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04F1-D8C7-424A-A579-20326FED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A6D4-A5C4-4BA3-A79D-602AB626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6505-440D-4F29-907F-ABB201A6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1FFD2-9A2F-449E-99A8-DC8A13A6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862-7727-41B7-9757-82708DC7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CDDF-34AB-429D-935D-21E80BB3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6CE36-4E82-4F53-AC0A-B6EA002E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BAA12-57F8-4425-8C05-B3A959DC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E648-8CFE-4007-9145-CFE0C33E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CF8C3-1FA6-46FE-939A-D7C17249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37EC3-5B36-497B-95B7-D91234C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979C-0567-4229-9E37-BA1023FB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98F66-BE57-4E00-AE92-34CF533A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B2B6-C4A0-4EE3-BB07-5558C9E5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FA00-DBBE-4418-A88F-E33DE497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18C-05EA-4C08-B22D-E7C4286A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8A67-CC84-43D7-81B2-48481886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C6A-DC96-4F4E-8E31-9B33B993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B7F-D514-48BE-8A39-224EC70B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0B6-6DE0-4EB1-BC09-D522561A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E9EB-EF92-4405-A65D-73AD7138FE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ADE2-2D0B-4264-AEE2-A58D260B545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9C70-2A36-489F-8176-777A99B7B7E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021B-024F-43DE-87CF-0C530AB2456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807-D554-4D37-8408-12C34127FC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826920" y="1268280"/>
            <a:ext cx="7274160" cy="36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Муниципальное бюджет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«Станция юных тех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Yu Gothic UI"/>
                <a:ea typeface="Yu Gothic UI"/>
              </a:rPr>
              <a:t>Творческое объедин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00"/>
                </a:solidFill>
                <a:uFillTx/>
                <a:latin typeface="Yu Gothic UI"/>
                <a:ea typeface="Yu Gothic UI"/>
              </a:rPr>
              <a:t>«МИР ПРОФЕСС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333300"/>
                </a:solidFill>
                <a:uFillTx/>
                <a:latin typeface="Alef"/>
                <a:ea typeface="Yu Gothic UI"/>
              </a:rPr>
              <a:t>ПРЕЗЕНТАЦИЯ </a:t>
            </a:r>
            <a:r>
              <a:rPr b="1" lang="ru-RU" sz="3500" spc="-1" strike="noStrike" u="sng">
                <a:solidFill>
                  <a:srgbClr val="333300"/>
                </a:solidFill>
                <a:uFillTx/>
                <a:latin typeface="Yu Gothic UI"/>
                <a:ea typeface="Yu Gothic UI"/>
              </a:rPr>
              <a:t>№8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00"/>
                </a:solidFill>
                <a:latin typeface="Yu Gothic UI"/>
                <a:ea typeface="Yu Gothic UI"/>
              </a:rPr>
              <a:t>«АТТЕСТАЦИЯ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Yu Gothic UI"/>
                <a:ea typeface="Yu Gothic UI"/>
              </a:rPr>
              <a:t>АВТОР:  педагог ТИХОНОВА Е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116000" y="1413000"/>
            <a:ext cx="6696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ждый критерий оценивается по трём уровням: средний, выше среднего, высо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ритерии оценки результа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качества освоения обучающимися программ выявляет  уровень их теоретических и практических умений и навы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ритерии  оценки уровня теоретической подготовки обучающих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ответствие уровня теоретических знаний программным требования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широта кругоз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ритерии  оценки уровня практической подготовки обучающих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ответствие уровня развития практических умений и навыков программным требования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чество выполнения практического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1187280" y="1341360"/>
            <a:ext cx="640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ритерии оценки уровня развития и воспитанности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льтура повед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ворческое отношение к выполнению практического з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куратность и ответственность в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критерий оценивается по трем уровням: высокий, средний, низ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ровни освоения  образовательной программы  обучающими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 100%  -   80% -высо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 79 %  -  50% - сред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иже 49%  -  низ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Picture background"/>
          <p:cNvPicPr/>
          <p:nvPr/>
        </p:nvPicPr>
        <p:blipFill>
          <a:blip r:embed="rId1"/>
          <a:srcRect l="1819" t="1410" r="1944" b="23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1476360" y="1844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5" descr="Picture background"/>
          <p:cNvPicPr/>
          <p:nvPr/>
        </p:nvPicPr>
        <p:blipFill>
          <a:blip r:embed="rId1"/>
          <a:srcRect l="1819" t="1410" r="1944" b="23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971640" y="1197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1403280" y="1125360"/>
            <a:ext cx="6553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Аттестация обучающихся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- это подтверждение знаний и умений обучающего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С её помощью обучающиеся демонстрируют свои теоретические и практические знания, навыки и умения, сформированные в течение обучения по дополнительной общеобразовательной общеразвивающей програм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4" descr="Picture background"/>
          <p:cNvPicPr/>
          <p:nvPr/>
        </p:nvPicPr>
        <p:blipFill>
          <a:blip r:embed="rId1"/>
          <a:stretch/>
        </p:blipFill>
        <p:spPr>
          <a:xfrm>
            <a:off x="324000" y="351000"/>
            <a:ext cx="849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468360" y="549360"/>
            <a:ext cx="82072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ПОСОБЫ ПРОВЕРКИ ЗН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и проверка знаний и умений производится путем текущ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блюд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обучающимися. Они осуществляются на протяжении всего процесса обучения без выделения для них специального времен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кущие наблю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одятся на любом этапе процесса усвоения. В ходе текущих наблюдений постепенно накапливаются данные о каждом, характеризующие как его достижения, так и упущения в работе. Эффективность образовательного процесса оценивается по сформированности духовно-нравственных качеств личности, высокому уровню мотивации обучающихся к техническому творчеству, по уровню развития творческих способностей, по активности участия в соревнованиях, конкурсах, по стилю работы и профессиональному самоопределению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10" descr="Picture background"/>
          <p:cNvPicPr/>
          <p:nvPr/>
        </p:nvPicPr>
        <p:blipFill>
          <a:blip r:embed="rId1"/>
          <a:stretch/>
        </p:blipFill>
        <p:spPr>
          <a:xfrm>
            <a:off x="6588000" y="4653000"/>
            <a:ext cx="19987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Picture background"/>
          <p:cNvPicPr/>
          <p:nvPr/>
        </p:nvPicPr>
        <p:blipFill>
          <a:blip r:embed="rId1"/>
          <a:srcRect l="1819" t="1410" r="1944" b="23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1258920" y="1341360"/>
            <a:ext cx="69134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им из способов относительно объективного диагностического контроля явля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стирова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овые задания используются для проведения текущего и промежуточного контр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ежуточная   аттестация (участие в конкурсах, тестирован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лючительным этапом образовательного процесса по программе «Мир профессий» является промежуточная  аттестация воспитанников детского объединения в конце обучения. Цель  аттестации – выявление уровня развития способностей и личностных качеств ребенка и их соответствия прогнозируемым результатам образовательной программы. Подведение итогов организовано так, чтобы учащиеся испытали удовлетворение от проделанной работы, от преодоления возникших трудностей и познания нов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187280" y="1700280"/>
            <a:ext cx="63374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ормы аттестац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ос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стирова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орческий проек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зента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ы участия в конкурс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1187280" y="1341360"/>
            <a:ext cx="655344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роки проведения аттес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кущий контроль успеваемости является составляющей внутренней системы качества образования в учре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ценка качества освоения обучающимися дополнительной общеобразовательной общеразвивающей программы выявляет уровень достижения личностных, метапредметных и предмет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1042920" y="1341360"/>
            <a:ext cx="66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ритерии оценки предметных результато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ровень теоретической подготовки: соответствие уровня теоретических знаний программным требованиям, широта кругозора в данной  образовательной области, свобода восприятия теоретической информации, осмысленность и свобода использования специальной терми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ровень практической подготовки обучающихся: соответствие уровня развития практических умений и навыков программным требованиям, свобода владения специальными навыками, качество выполнения практического задания, технологичность практ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1332000" y="1773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ритерии оценки личностных результа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наличие мотивации к занятиям, участие в играх, конкурсах, творческих  проектах   и воспитательных меропри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ритерии оценки метапредметных результа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ровень развития регулятивных, познавательных и коммуникативных способностей  обучаю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5T05:05:26Z</dcterms:created>
  <dc:creator>User</dc:creator>
  <dc:description/>
  <dc:language>en-US</dc:language>
  <cp:lastModifiedBy>User</cp:lastModifiedBy>
  <dcterms:modified xsi:type="dcterms:W3CDTF">2024-06-18T08:15:40Z</dcterms:modified>
  <cp:revision>124</cp:revision>
  <dc:subject/>
  <dc:title>Слайд 1</dc:title>
</cp:coreProperties>
</file>