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202-849A-47BD-8022-E77BA79D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B96-778E-45C5-BC78-4A3FE371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E84-DB26-442C-AEC6-EF8734E0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C98-70D3-41ED-B31A-0A4A30E3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9C4-7392-4177-B0C6-322196B3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E3B-AB02-49F6-BFA6-E7607A1F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7E4-6313-4656-A8CF-B232CA8E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1A2-7F5D-4B9D-939C-AD4299C8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EBC-FC81-49A8-B439-C8252FF8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8F7-2C0D-43D2-8C40-CCC5E3D4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B79-A6D3-45C2-9F32-FA980FE6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5C8-313F-41F5-A727-CF32E13D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427B-91E4-40F0-ADD1-0F13955A3D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58920" y="76500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468360" y="476280"/>
            <a:ext cx="813600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Calibri"/>
              </a:rPr>
              <a:t>Муниципальное бюджетное учреждени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Calibri"/>
              </a:rPr>
              <a:t>дополнительного образовани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Calibri"/>
              </a:rPr>
              <a:t>«Станция юных техников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Творческое объединение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«МИР ПРОФЕССИЙ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2060"/>
                </a:solidFill>
                <a:uFillTx/>
                <a:latin typeface="Calibri"/>
              </a:rPr>
              <a:t>Презентация №5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«Творческий проект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Calibri"/>
              </a:rPr>
              <a:t>к дополнительной общеобразовательн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Calibri"/>
              </a:rPr>
              <a:t>общеразвивающей программ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«Мир профессий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ВТОР: педагог ТИХОНОВА Е.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468360" y="333360"/>
            <a:ext cx="82803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Выявление индивидуальных характеристи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1. Профессиональный интер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 отраслям эконом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2 . Тип професс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-при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-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-тех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 - знаковая 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 - художествен. об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3  . Мотивы выбора профе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вор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стижность профе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4. Сфера профессиона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кус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хнические интересы работа с людь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мственный тр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изический тр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ые интере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5. Уровень самооце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ниж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рма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выш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611280" y="404640"/>
            <a:ext cx="799308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явление индивидуальных характери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6.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но-действен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бстрактно-символическ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овесно-логическ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глядно-обра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реатив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7. Тип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алист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ци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тист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венци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приимчи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теллекту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395280" y="692280"/>
            <a:ext cx="835344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грамма профе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Наименование профессии, профессиональн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Общая характеристика профессии, виды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Профессионально-важные качества, 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Личные качества, интересы и скл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Качества, препятствующие эффективности профессиона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Родственные 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Область применения профессиональных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Учебные заведения, обучающие данной 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539640" y="620640"/>
            <a:ext cx="7920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Анализ професс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Предмет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Цел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Средства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Условия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Характер общения в тр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Ответственность в тр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Особенност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Типичные тру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 Минимальный уровень образования дл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539640" y="404640"/>
            <a:ext cx="78487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ний раздел творческого проекта – заклю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вывод о проделанной работе, описание полученн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перь, когда Вы убедились, что выбранная профессия Вам полностью подходит, можно составить прогноз будущей профессиональной карь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684360" y="1052640"/>
            <a:ext cx="7920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3. Список литерату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том разделе обучающиеся указывают все источники (литературные и информационные), которые использовали при создании творческого про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187280" y="981000"/>
            <a:ext cx="6409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" descr="Picture background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022560" y="0"/>
            <a:ext cx="58705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СТРУКТУРА  ТВОРЧЕСКОГО ПРОЕК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Основные требования к оформле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2. Правила оформления творческого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Титульный ли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одерж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выбор профессии, и её обосн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выявление основных парамет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выявление индивидуальных характерист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рофессиограмма профе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анализ профе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аключ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3. Список литера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468360" y="260280"/>
            <a:ext cx="835164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Основные требования к оформлению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яснительная записка может выполняться как рукописным способом, так и с помощью компьютера на одной стороне бумаги формата А-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ение пояснительной записки на компьютере имеет следующие технические параметры: межстрочный интервала – 1,5; 14 шрифт, поля со всех сторон - 20 мм, абзацный отступ - 1,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листы, входящие в пояснительную записку должны быть пронумерованы, цифра ставится внизу ли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й лист считается титульным, на нём номера страниц (1,2) не ставя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вания разделов пояснительной записки должны быть краткими, лаконичными. Каждый раздел рекомендуется начинать с нового л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116000" y="836640"/>
            <a:ext cx="777708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2. Правила оформления творческого проек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итульный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титульном листе указыв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ное наименование учебного за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вание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милия и имя учащего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милия, имя, отчество руководител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д выполнени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539640" y="907920"/>
            <a:ext cx="806472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одержании указываются все разделы, которые есть в творческом проекте, с указанием страни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https://urok.1sept.ru/articles/559844/img2.gif"/>
          <p:cNvPicPr/>
          <p:nvPr/>
        </p:nvPicPr>
        <p:blipFill>
          <a:blip r:embed="rId2"/>
          <a:stretch/>
        </p:blipFill>
        <p:spPr>
          <a:xfrm>
            <a:off x="2124000" y="2492280"/>
            <a:ext cx="5184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468360" y="907920"/>
            <a:ext cx="813600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Выбор профессии, и её обоснова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ом разделе необходимо написать какую профессию собираешься выбрать. Необходимо обосновать свой выбор, на что опираешься в данном выборе: интересы и склонности, семейная династия, лёгкость получения профессии, востребованность профессии на рынке труда, престижность, высокая зарплата или что-то ё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умайте и запишите, какую цель нужно поставить перед собой, какие задачи решить, чтобы достичь поставленной цели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тьте те затруднения, которые могут препятствовать Вашему профессиональному самоопределению и выбору професс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395280" y="476280"/>
            <a:ext cx="835344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Выявление основных параметр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бор информации о профессии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з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ожественная литерату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н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ства массов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ориентационные цент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акторы, влияющие на выбор проф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адиции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ребность общества в кадрах, рынок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чное жел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есы и скло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ицинские противопоказания, здоров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лата труда, возможности профессионального ро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сти освоения проф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539640" y="765000"/>
            <a:ext cx="820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пособы достижения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чить хорошее образ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рно отстаивать свои интере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адать талантом, способност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ть приспосабливаться к обстоятельств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ача, счастливое стечение обстоятель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нужных связ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ть жестким, уметь идти напролом ради поставленной ц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ть обеспеченных и влиятельных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ивно участвовать в общественной жизни, поли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 требований к профессиона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Работа долж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ть разнообраз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ть творческий характ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имулировать повышение уровня знаний и ум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тветствовать психофизиологическим и социальным потребностям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611280" y="981000"/>
            <a:ext cx="799308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Факторы, определяющие место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имость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ие учебного за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 учебного заведения (государственное и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ерческо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стиж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общежития иногородн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ребительская корзина в выбираемом реги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5T17:37:13Z</dcterms:created>
  <dc:creator>User</dc:creator>
  <dc:description/>
  <dc:language>en-US</dc:language>
  <cp:lastModifiedBy>User</cp:lastModifiedBy>
  <dcterms:modified xsi:type="dcterms:W3CDTF">2024-05-30T06:50:17Z</dcterms:modified>
  <cp:revision>27</cp:revision>
  <dc:subject/>
  <dc:title>Презентация PowerPoint</dc:title>
</cp:coreProperties>
</file>