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E9AF-ABF8-492D-B41E-58A5C25844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CDB9-3911-4316-B6B9-E499963D39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A3B-E113-4188-B4B4-88AA94FB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21F-A0F6-49D4-B5A0-5666FE2D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BF0-8C7C-4F98-A85E-46353479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376-F7B8-48F7-B6A1-265596FB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A5AA-1882-497D-AD61-FE33463B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5C68-27B3-4E79-B7BA-40436E4A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AD6F-7480-45C2-B332-24EFAE6C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ABEB-842E-4105-859D-77B5ADF0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6EE0-B1E1-42AA-A834-CCB1BCF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B19A-9775-4600-9DCA-EC4D030D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586C-326D-44D1-ADB0-241F8A9C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A01-AA66-41B7-85F2-671E5ABB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AC49-66D3-45B1-9D25-E5B33DA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794B-5E5E-416A-A95C-E2E22AF0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CE58-A204-474A-9AF0-2C42DC27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00D1-251B-45CC-8709-26A345E5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887A-C0E7-45DD-AD1D-D88B48BD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79C3C-3683-4A59-BEB6-16B06974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2AB2A-AE80-4EF8-BF9D-CA7FD01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5A8F4-5C73-4956-98F2-E46DD055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D79AB-3F6C-4E5E-A3E0-FDB34164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B315A-2B68-4533-93D6-EAD4ACB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F9E-1513-4E25-8AA8-78AB963C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47F80-3F4F-4CAD-BDDC-DA6A1F97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B5520-2239-47CF-99CD-A26CCFC4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9A679-AF1E-49D6-A983-22C0643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9A20B-42A6-49DD-A79C-6A4336F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D2F2D-8D9B-4AAA-9450-B982E47E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5AF91-62B0-48D6-A554-1372810E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DC72C-4258-48DE-8D0E-219E1537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968B-187A-40FA-A74F-57154F96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B3A7-0B54-4AC7-A43B-FABB5EB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ECDB-2B0E-406D-9951-765F1101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01F-1043-4263-9D5E-F4DA7E94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1DD9-6B9F-4CA8-BE3C-583154FA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A84D2-7B4D-47ED-BC62-4F85B5EB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218C-EC62-4380-92A1-A41F2E47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63C0-0A6F-4877-A0AB-EED9DBF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259C-C070-4F47-8916-3A164A6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1074-81C8-4F73-B249-5C8A52AC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7AB8-53C9-4195-B5E1-C195CAB2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6578-CC07-4685-8D6C-DD691668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C592-6669-4788-A088-075398AB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F88FD-F713-4672-B184-7FCFD652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BAE-5C86-43F2-8C4D-07CBEFD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AF6B4-E80C-4700-8A13-4F5EBFE1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21300-8727-463D-AFA0-84C9A080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3FE67-F6E7-4534-AF8D-D2A843C1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F0285-2529-4142-95EC-9D692426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8042C-E0CA-461D-94CB-AC9EE37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971D9-01C4-4459-B281-550FB41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775F2-BC04-44D1-A94D-8973DAC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60EFD-A360-4968-9512-F942536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F6155-690D-42A3-B79B-FB8FC3BD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90FB4-7C0F-4256-A788-CDF7C6F8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8FD-FA7A-409C-9B1D-859C043A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2C732-2A90-48CE-8392-4FA3CAEC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86B0D-79C1-4060-A8A5-5CE3C4A9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010A1-ACC5-46C2-AE8A-04B5D57F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DF67C-0FEA-4A0C-B765-08D60A18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609C4-D977-4B01-BF8A-496A6AB7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C08A3-F792-4DC1-9B78-EFCCA56C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F816F-DC56-4280-BB88-5DD00A4C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90A5A-A6BD-4721-8B38-CEA2C52C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22AFA-B875-41B3-9766-D65A3BC8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9F71A-54ED-4B33-9C30-60C13E1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664-B488-4303-9ECC-178472F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E6999-9206-4B78-868C-7F76E08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EE468-3BEC-4803-A47E-247EF521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2D5B0-6FB5-46D5-9C69-74E2C779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E71AA-EE19-40A0-99E4-E00E036A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520C0-AD94-4CFE-9F24-7B8DE2DE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8336F-B848-4A17-BE3A-D2174278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C2034-0565-4620-B739-E7DDAF94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C57E7-3A4D-4630-999A-C94EDA4A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010AF-0D49-414D-AB35-81A7B24B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D22F5-6207-4F01-A9E1-FF98C49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D40-21E0-4478-B221-99C6DAE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B0AA7-B55D-41C1-9CE2-2EB9AA2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7B4F6-A7FE-480B-A4DF-5C44AA5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38284-8688-4444-9B7A-8980D892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A4BBC-24DA-44DC-8480-FCAB2801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4D8FE-BBE0-4252-9BE2-A467B493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68E-C42B-466B-AB35-899D267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6600-A11F-4648-9EB6-3B7A0E4289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811D-3C8E-494B-AAE2-99EEC5FAB4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A290-34D0-4823-A354-AC5367003A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C13C-0090-4AE3-912A-C65A69E855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7D7B-846E-4762-BE86-A8CFABB300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53C8-9041-43A8-8BED-691A9AE296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3B14-40B2-4DD5-BE68-BAAA157D32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3"/>
          <p:cNvSpPr/>
          <p:nvPr/>
        </p:nvSpPr>
        <p:spPr>
          <a:xfrm>
            <a:off x="1979640" y="404640"/>
            <a:ext cx="691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МБУ ДО «Станция юных тех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Unicode MS"/>
                <a:ea typeface="Arial Unicode MS"/>
              </a:rPr>
              <a:t>Творческое объедин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«МИР ПРОФЕСС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Unicode MS"/>
                <a:ea typeface="Arial Unicode MS"/>
              </a:rPr>
              <a:t>Автор – составит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педагог Тихонова Е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2286000" y="3068640"/>
            <a:ext cx="6607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2060"/>
                </a:solidFill>
                <a:uFillTx/>
                <a:latin typeface="Century Schoolbook"/>
                <a:ea typeface="Arial Unicode MS"/>
              </a:rPr>
              <a:t>Презентация №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  <a:ea typeface="Arial Unicode MS"/>
              </a:rPr>
              <a:t>«ПРОФЕССИИ БУДУЩЕГО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Arial Unicode MS"/>
              </a:rPr>
              <a:t>к дополнительной общеобразовательной общеразвивающей программе </a:t>
            </a:r>
            <a:r>
              <a:rPr b="1" lang="ru-RU" sz="3000" spc="-1" strike="noStrike">
                <a:solidFill>
                  <a:srgbClr val="002060"/>
                </a:solidFill>
                <a:latin typeface="Century Schoolbook"/>
                <a:ea typeface="Arial Unicode MS"/>
              </a:rPr>
              <a:t>«Мир професси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ksH29daVHj8"/>
          <p:cNvPicPr/>
          <p:nvPr/>
        </p:nvPicPr>
        <p:blipFill>
          <a:blip r:embed="rId1"/>
          <a:stretch/>
        </p:blipFill>
        <p:spPr>
          <a:xfrm>
            <a:off x="250920" y="189000"/>
            <a:ext cx="155556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СЕЛЬСКОМ ХОЗЯЙСТВЕ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АГРОКИБЕРНЕТИК (АГРОИНФОРМАТИК)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ГМО – АГРОНОМ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ИНЖЕНЕР ПО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3D</a:t>
            </a: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 ПЕЧАТИ ПРОДУКТ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СЕЛЬСКОХОЗЯЙСТВЕННЫЙ ЭКОЛОГ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ЦИФРОВОЙ ПАСЕЧНИК</a:t>
            </a:r>
            <a:br>
              <a:rPr sz="31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ЛОГИСТИКЕ И ТРАНСПОРТЕ:</a:t>
            </a:r>
            <a:br>
              <a:rPr sz="3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ПРОЕКТИРОВЩИК НОВЫХ ВИДОВ ТРАНСПОРТ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ПРОФЕССИОНАЛЬНЫЙ ПИЛОТ ДРОН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ЮРИСТ В СФЕРЕ БЕСПИЛАТНОГО ТРАНСПОРТ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ОПЕРАТОР КРОСС – ЛОГИСТИК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ИНЖЕНЕР БЕСПИЛОТНОЙ АВИАЦ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СТРОИТЕЛЬ «УМНЫХ» ДОРОГ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МЕХАНИК АВТОНОМНОГО ТРАНСПОРТ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МЕНЕДЖЕР ГИБКИХ ЦЕПОЧЕК ПОСТАВОК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694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ЭНЕРГЕТИКЕ И РЕСУРСАХ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СПЕЦИАЛИСТ ПО АЛЬТЕРНАТИВНЫМ И ВОЗОБНОВЛЯЕМЫМ ВИДАМ ЭНЕРГИ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МЕТЕОЭНЕРГЕТИК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ДИЗАЙНЕР НОСИМЫХ ЭНЕРГОУСТРОЙСТ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ЭКОАНАЛИТИК В ДОБЫВАЮЩИХ ОТРАСЛЯХ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РАЗРАБОТЧИК СИСТЕМ ЭНЕРГОПОТРЕБЛ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6. ЭЛЕКТРОЗАПРАВЩИК 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СТРОИТЕЛЬСТВЕ:</a:t>
            </a:r>
            <a:br>
              <a:rPr sz="3100"/>
            </a:br>
            <a:br>
              <a:rPr sz="31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BIM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– ПРОЕКТИРОВЩИК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ПРОЕКТИРОВЩИК ИНФРАСТРУКТУРЫ «УМНОГО» ДОМ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СПЕЦИАЛИСТ ПО ПЕРЕСТРОЙКЕ , УСИЛЕНИЮ СТАРЫХ  СТРОИТЕЛЬНЫХ КОНСТРУКЦ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ПРОЕКТИРОВЩИК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ПЕЧАТИ В СТРОИТЕЛЬСТВЕ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АРХИТЕКТОР «ЗЕЛЕНЫХ» ГОРОДОВ </a:t>
            </a: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ЛЕГКОЙ ПРОМЫШЛЕННОСТИ:</a:t>
            </a:r>
            <a:br>
              <a:rPr sz="3100"/>
            </a:br>
            <a:br>
              <a:rPr sz="25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ТЕХНОСТИЛИСТ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ПРОЕКТИРОВЩИК НОВЫХ ТКАНЕ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СПЕЦИАЛИСТ ПО ПЕРЕРАБОТКЕ ОДЕЖДЫ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4963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СОЦИАЛЬНОЙ СФЕРЕ:</a:t>
            </a:r>
            <a:br>
              <a:rPr sz="31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МЕДИАТОР СОЦИАЛЬНЫХ ПРОЕК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СПЕЦИАЛИСТ ПО АДАПТАЦИИ ЛЮДЕЙ  С ОВЗ  К РАБОТЕ В ИНТЕРНЕТЕ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СОЦИАЛЬНЫЙ МОДЕРАТОР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СПЕЦИАЛИСТ ПО АДАПТАЦИИ МИГРАН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СПЕЦИАЛИСТ ПО КРАУДСОРСИНГУ ОБЩЕСТВЕННЫХ ПРОБЛЕМ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ПРОЕКТИРОВЩИК ДОСТУПНОЙ СРЕДЫ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КОНСУЛЬТАНТ ДОЛГОЖИТЕЛЕ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РЕИНТЕГРАТОР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9. ПОМОЩНИК ПО ПРИНЯТИЮ РЕШЕНИЙ 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351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СФЕРЕ БЕЗОПАСНОСТИ:</a:t>
            </a:r>
            <a:br>
              <a:rPr sz="31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СПЕЦИАЛИСТ ПО КИБЕРБЕЗОПАСНОСТ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КИБЕРСЛЕДОВАТЕЛЬ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ПРОЕКТИРОВЩИК ЛИЧНОЙ БЕЗОПАСНОСТ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МЕНЕДЖЕР НЕПРЕРЫВНОСТИ БИЗНЕС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АНАЛИТИК ПОВЕДЕНИЯ В СОЦСЕТЯХ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6. СПЕЦИАЛИСТ МЕМОРИАЛИСТ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7. КРИМИНАЛИСТ – АНАЛИТИК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8. ЭТИЧНЫЙ ХАКЕР ИЛИ ПЕНТЕСТРЕР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БИЗНЕСЕ И ФИНАНСАХ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МУЛЬТИВАЛЮТНЫЙ ПЕРЕВОДЧИК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ОПЕРАЦИОНИСТ МУЛЬТИВАЛЮТНОГО БАНК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ОЦЕНЩИК ИНТЕЛЛЕКТУАЛЬНОЙ СОБСТВЕННОСТ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РАЗРАБОТЧИК ПЕРСОНАЛЬНОГО ПЕНСИОННОГО ПЛАН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МЕНЕДЖЕР ФОНДА ПО ИНВЕСТИЦИИ В ТАЛАНТЛИВЫХ ЛЮДЕЙ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6. ТРЕНДВОТЧЕР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7. КОРПОРАТИВНЫЙ АНТРОПОЛОГ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8. ТАЙМ – МЕНЕДЖЕР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9. ВИРТУАЛЬНЫЙ АДВОКАТ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0. КОНСУЛЬТАНТ ПО ЦИФРОВЫМ ВАЛЮТАМ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1. БЛОКЧЕЙН  - АНАЛИТИК ТАЛАНТ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2. ПЕРСОНАЛИЗИРОВАННЫЙ МАРКЕТОЛОГ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3. МЕНЕДЖЕР ИННОВАЦИЙ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4. МЕНЕДЖЕР МАГАЗИНА СМЕШАННОЙ  РЕАЛЬНОСТИ 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, СВЯЗАННЫЕ С ДЕТСКИМИ ТОВАРАМИ И СЕРВИСАМИ:</a:t>
            </a:r>
            <a:br>
              <a:rPr sz="3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ЭКСПЕРТ ПО ОБРАЗУ БУДУЩЕГО РЕБЕНК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АРХИТЕКТОР ТРАНСМЕДИЙНЫХ ПРОДУК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ПРОЕКТИРОВЩИК ДЕТСКОЙ РОБОТОТЕХНИКИ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4247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ОБРАЗОВАНИИ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. УЧИТЕЛЬ РЕБЕНКА РАННЕГО ВОЗРАСТ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РАЗРАБОТЧИК ОБРАЗОВАТЕЛЬНОЙ ТРАЕКТОР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ИГРОМАСТЕР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АВТОР ОБРАЗОВАТЕЛЬНЫХ КУРСОВ НА БАЗЕ 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ПЕРСОНАЛЬНЫЙ ГИД ПО ОБРАЗОВАНИЮ И КАРЬЕРНОМУ РОСТУ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ТРЕНЕР ПО МАЙНД  - ФИТНЕСУ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ЭКСПЕРТ ПО ПОИСКУ И РАЗВИТИЮ ТАЛАН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КООРДИНАТОР ОБРАЗОВАТЕЛЬНОЙ ОНЛАЙН – ПЛАТФОРМЫ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9. ПРЕПОДАВАТЕЛЬ ПО 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0. ОПТИМИЗАТОР ПАМЯТ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1. КОНСУЛЬТАНЬ ПО НЕПРЕРЫВНОМУ ОБРАЗОВАНИЮ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entury Schoolbook"/>
              </a:rPr>
              <a:t>ПРОФЕССИИ БУДУЩЕГО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— ЭТО ПРОФЕССИИ НА СТЫКЕ НЕСКОЛЬКИХ ДИСЦИПЛИН, КОТОРЫЕ ПОЯВЯТСЯ ЧЕРЕЗ 15–20 ЛЕТ. ОНИ ДОПОЛНЯТ ИЛИ ЗАМЕНЯТ УЖЕ СУЩЕСТВУЮЩИЕ. 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НАПРИМЕР, ВОДИТЕЛЕЙ ГРУЗОВИКОВ ГДЕ-ТО ЗАМЕНЯТ БЕСПИЛОТНЫМ ТРАНСПОРТОМ. МАШИНА БУДЕТ ЕЗДИТЬ САМА, А ЧЕЛОВЕК СТАНЕТ РАЗРАБАТЫВАТЬ, КОНТРОЛИРОВАТЬ И ОБСЛУЖИВАТЬ ЭТОТ ТРАНСПОРТ. ШИРОКО РАЗОВЬЕТСЯ ПРОФЕССИЯ ОПЕРАТОРА ДРОНОВ, А СФЕРА ЮРИСПРУДЕНЦИИ РАСШИРИТСЯ НА БЕСПИЛОТНЫЙ ТРАНСПОРТ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9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МАСС – МЕДИА:</a:t>
            </a:r>
            <a:br>
              <a:rPr sz="3100"/>
            </a:br>
            <a:br>
              <a:rPr sz="25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ИНФОСТИЛИСТ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ДИЗАЙНЕР ВИРТУАЛЬНЫХ МИР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ИНЖЕНЕР ДОПОЛНЕННОЙ И ВИРТУАЛЬНОЙ РЕАЛЬНОСТИ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МЕДИАПОЛИЦЕЙСК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РАЗРАБОТЧИК МЕДИАПРОГРАММ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МЕНЕДЖЕР КРОСС  – КУЛЬТУРНОЙ КОММУНИКАЦ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ДИЗАЙНЕР ЭМОЦ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РАЗРАБОТЧИК ПУТЕШЕСТВИЙ ДОПОЛНЕННОЙ РЕАЛЬНОСТ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9. ДИЗАЙНЕР ТАКТИЛЬНЫХ ТЕХНОЛОГ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0. МЕДИА – РЕМИКСЕР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КУЛЬТУРЕ И ИСКУССТВЕ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КУРАТОР КОЛЛЕКТИВНОГО ТВОРЧЕСТВ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АРТ – ОЦЕНЩИК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ТРЕНЕР ТВОРЧЕСКИХ СОСТОЯНИЙ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</a:t>
            </a:r>
            <a:r>
              <a:rPr b="0" lang="en-US" sz="2200" spc="-1" strike="noStrike">
                <a:solidFill>
                  <a:srgbClr val="575f6d"/>
                </a:solidFill>
                <a:latin typeface="Century Schoolbook"/>
              </a:rPr>
              <a:t> SCIENCE-</a:t>
            </a: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ХУДОЖНИК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218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ТУРИЗМЕ И ГОСТЕПРИИМСТВЕ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РЕЖИССЕР ИНДИВИДУАЛЬНЫХ ТУР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РАЗРАБОТЧИК ИНТЕЛЛЕКТУАЛЬНЫХ ТУРИСТИЧЕСКИХ СИСТЕМ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БРЕНД – МЕНЕДЖЕР ПРОСТРАНСТВ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НОСТАЛЬГИСТ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РОЕВЫЙ ХУДОЖНИК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КОСМОСЕ:</a:t>
            </a:r>
            <a:br>
              <a:rPr sz="31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ПИЛОТ КОММЕРЧЕСКИХ КОСМИЧЕСКИХ КОРАБЛЕЙ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ГИД В СФЕРЕ КОСМИЧЕСКОГО ТУРИЗМ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ИНЖЕНЕР СИСТЕМ ЖИЗНЕОБЕСПЕЧ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КОСМОГЕОЛОГ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УЗКИЕ СПЕЦИАЛИСТЫ В СФЕРЕ КОСМОСА 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539640" y="2349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пасибо за вним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Желаю Вам творческих успе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entury Schoolbook"/>
              </a:rPr>
              <a:t>ЧТО ВХОДИТ В ПЕРЕЧЕНЬ ПРОФЕССИЙ БУДУЩЕГО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ЧТОБЫ РАЗОБРАТЬСЯ В ПРОФЕССИЯХ БУДУЩЕГО, НУЖНО ИХ ИЗУЧИТЬ. 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ПРОАНАЛИЗИРОВАЛИ ПРОГНОЗЫ ФУТУРОЛОГОВ И ИССЛЕДОВАТЕЛЕЙ ПО ВСЕМУ МИРУ, СОСТАВИЛИ СВОЙ СПИСОК 150 ПРОФЕССИЙ БУДУЩЕГО. 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В НЕГО ВОШЛИ РЕАЛИСТИЧНЫЕ ПРОФЕССИИ, КОТОРЫЕ УЖЕ ПОЯВИЛИСЬ ИЛИ В БЛИЖАЙШЕЕ ВРЕМЯ ПОЯВЯТСЯ В 19 ОТРАСЛЯХ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6280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ОТРАСЛИ:</a:t>
            </a:r>
            <a:br>
              <a:rPr sz="16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. МЕДИЦИНА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2. ЭКОЛОГИЯ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3. ИНФОРМАЦИОННЫЕ ТЕХНОЛОГИИ (</a:t>
            </a: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IT)</a:t>
            </a: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4. БИОТЕХНОЛОГИИ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5. РОБОТОТЕХНИКА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6. СЕЛЬСКОЕ ХОЗЯЙСТВО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7. ТРАНСПОРТ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8. ЭНЕРГЕТИКА И РЕСУРСЫ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9. СТРОИТЕЛЬСТВО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0. ЛЕГКАЯ ПРОМЫШЛЕННОСТЬ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1. СОЦИАЛЬНАЯ СФЕРА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2. БЕЗОПАСНОСТЬ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3. БИЗНЕС И ФИНАНСЫ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4. ДЕТСКИЕ ТОВАРЫ И СЕРВИСЫ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5. ОБРАЗОВАНИЕ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6. МАСС – МЕДИА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7. КУЛЬТУРА И ИСКУССТВО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8. ТУРИЗМ И ГОСТЕПРИИМСТВО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9. КОСМОС.</a:t>
            </a:r>
            <a:br>
              <a:rPr sz="16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МЕДИЦИНЕ:</a:t>
            </a:r>
            <a:br>
              <a:rPr sz="2700"/>
            </a:br>
            <a:br>
              <a:rPr sz="27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. ОНЛАЙН - ТЕРАПЕВТ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 2. ЭКСПЕРТ ПО ПЕРСОНИФИЦИРОВАННОЙ МЕДИЦИНЕ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3. БИОЭТИК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4. РАЗРАБОТЧИК КИБЕРПРОТЕЗОВ И ИМПЛАНТОВ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5. СПЕЦИАЛИСТ ПО ИМПЛАНТАМ МОЗГА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6. МЕДИЦИНСКИЙ МАРКЕТОЛОГ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7. ИНЖЕНЕР ГЕНЕТИК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8. СПЕЦИАЛИСТ ПО БИОХАКИНГУ И ПРОГРАММИРУЕМОМУ ЗДОРОВЬЮ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9. ОПЕРАТОР МЕДИЦИНСКИХ РОБОТОВ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0. МОЛЕКУЛЯРНЫЙ ДИЕТОЛОГ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1. КОНСУЛЬТАНТ ПО ЗДОРОВОЙ СТАРОСТИ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2. ВИРТУАЛЬНЫЙ ХИРУРГ 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3. ПСИХОЛОГ ДЛЯ КИБОРГОВ 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4. НАНОМЕДИЦИНСКИЙ ИНЖЕНЕР </a:t>
            </a:r>
            <a:endParaRPr b="0" lang="en-US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6944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ЭКОЛОГИИ:</a:t>
            </a:r>
            <a:br>
              <a:rPr sz="2900"/>
            </a:b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СПЕЦИАЛИСТ ПО УМЕНЬШЕНИЮ ЭКОЛОГИЧЕСКОГО СЛЕД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ЭЛЕКТРОПРОВОДНИК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ИНЖЕНЕР «ЗЕЛЕНОГО» ТРАНСПОРТА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4.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СПЕЦИАЛИСТ ПО ПЕРЕРАБОТКЕ (РЕЦИКЛИНГ – ТЕХНОЛОГ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ГОРОДСКОЙ САДОВОД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ЭКОВОЖАТЫ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ЭКОАУДИТОР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АГРОЭКОЛОГИЧЕСКИЙ ФЕРМЕР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9. СПЕЦИАЛИСТ ПО ПРЕОДОЛЕНИЮ  СИСТЕМНЫХ ЭКОЛОГИЧЕСКИХ КАТАСТРОФ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0. ПРОГНОЗИСТ ЗЕМЛЕТРЯСЕНИЙ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9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569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ИНФОРМАЦИОННЫХ ТЕХНОЛОГИЯХ:</a:t>
            </a:r>
            <a:br>
              <a:rPr sz="29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.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T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– ПРОПОВЕДНИК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2. ДАТА – ЖУРНАЛИСТ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3. РУКОВОДИТЕЛЬ ЦИФРОВОЙ ТРАНСФОРМАЦИИ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4.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T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– АРХИТЕКТОР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5. ЦИФРОВОЙ ЛИНГВИСТ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6. СПЕЦИАЛИСТ ПО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T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- И ИИ ЭТИК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7. УТИЛИЗАТОР ЦИФРОВОГО МУСОРА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8. КОНСУЛЬТАНТ ПО БЕЗОПАСНОСТИ ЛИЧНОГО ПРОФИЛЯ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9. ЗЕРОКОДЕР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0. ПРОЕКТИРОВЩИК НЕЙРОИНТЕРФЕЙСО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1. АУДИТОР АЛГОРИТМО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2.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AI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– ТРЕНЕР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3. БРОКЕР ДАННЫХ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4. ИНТЕРПРЕТАТОР АЛГОРИТМО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5. ИНЖЕНЕР КВАНТОВЫХ КОМПЬЮТЕРО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6.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HADOWTECH-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МЕНЕДЖЕР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  </a:t>
            </a:r>
            <a:br>
              <a:rPr sz="22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БИОТЕХНОЛОГИЯХ:</a:t>
            </a: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БИОФАРМАКОЛОГ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ИНЖЕНЕР В ОБЛАСТИ СИНТЕТИЧЕСКОЙ БИОЛОГИ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ПРОЕКТИРОВЩИК КИБЕРОРГАНИЗМ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СПЕЦИАЛИСТ ПО ВОЗРОЖДЕНИЮ ВЫМЕРШИХ ВИД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СОЗДАТЕЛЬ ОРГАН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6. ЭСТЕТИК 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РОБОТОТЕХНИКЕ:</a:t>
            </a:r>
            <a:br>
              <a:rPr sz="3400"/>
            </a:br>
            <a:br>
              <a:rPr sz="28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РАЗРАБОТЧИК РОБО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ЮРИСТ В СФЕРЕ  РОБОТОТЕХНИК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ОПЕРАТОР РОБОТИЗИРОВАННЫХ СИСТЕМ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ИНЖЕНЕР – КОМПОЗИТЧИК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МЕНЕДЖЕР ПО МАШИННО – ЧЕЛОВЕЧЕСКОЙ РАБОТЕ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МЕНЕДЖЕР ПО ПРОЕКТИРОВАНИЮ УМНОГО ДОМ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5-28T07:18:23Z</dcterms:modified>
  <cp:revision>1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42178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