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A94-51E2-44CE-A12D-B56D5D0E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454-B6E9-4DB7-B114-F032515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F8E-F1AB-48F7-900D-539483BE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E14-0399-4B92-AC13-6C99A46E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138B-07D5-49B8-ABF0-E2AD0C39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B042-1126-44CA-BD67-A692C3A6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B275-B921-45C9-987E-7316AD2F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DD51-D3D0-4869-B1DD-26D3B257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1EC5-DE68-487A-929A-BAFADC9D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8117-136D-4E51-B870-860EE3C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AB5B-29B1-4E92-A5E4-56FCD207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37F-C7D6-41FE-B45E-B85CD032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012B-8864-45EA-8A7D-C5114E45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D7A-9523-4E3B-8C01-DCA4467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5EC-CBFD-4908-94CB-0769925E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F354-A448-4AC8-B258-1C9A8616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862F-F4CC-4D86-B890-BD71690B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6431-3148-4B52-934C-714B5516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53B9-AA3F-4EB4-B7C2-C2D1BD0F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B616-C792-40E0-81E1-27BDBB0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E8D8-B59E-4361-993C-30B7BBDF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FE2E-6A7F-4ADC-8FC3-C7D2FCC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BC7-ED98-4CDE-B820-0409DF2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29E5-0E5B-4E48-9EA9-296FAB93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4FB5-D76C-4B90-ABAC-1931086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F18A-6675-475F-8C28-FF75879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2059-858A-434A-A1F5-D8C49B6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4734-0CEF-4C72-BFC6-0935A965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7816-8A97-4A1C-A031-E562BD04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891A-3314-4EC9-8CA4-B92269F8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BA64-1CA9-4C61-8EF8-AD99DA03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71AC-83B9-4545-9E79-EC96F319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975BA-241D-4317-BED4-00CEBBD2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6AE-D1B0-45FD-A7BA-C519739B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20B4-2ED9-4B85-9758-0B699344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77D0-DF0D-4C60-8006-E52FF335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1051-232F-4E7C-BEB5-82F1452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DDF5-31ED-4984-B46C-D7D547E6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577A-B49A-462A-896F-19A1DF3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D6F8-E994-40D7-BF8F-C7F793D2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5424-F107-4686-AC38-8EC1ED9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0AF3-770A-407D-80B7-E0674F24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4942-4A6F-44F6-8736-7BAF7F6D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A093E-1675-4CA5-AA99-0A99D733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9B5-3D16-469D-A990-E89DDADA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1617-233D-4422-B906-73B08134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B0AF-3B11-4C94-ACD6-B7A7E4C8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9AE7-D342-44D7-9475-604F6E5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50AD-1E68-4D9F-B5DB-63B2C35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BD6E5-CCA3-491D-9512-FC3DD2D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9EC5D-ED51-436D-8CF8-B4A93F35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2429-240F-46C9-AAC4-4DE4374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0EB2-4AF5-406F-95CA-E04BA910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BA21-817D-45D2-B5BA-035092D5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3F16-1B6C-407B-96C1-03D97E66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AF6-0977-44C7-ADB3-09FBB910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D5619-21C0-4875-9320-ACA40760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411-3742-474A-B60C-92F6019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B56-5E00-4CDA-8C66-17893F7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8A2-776D-4533-A07E-56ED239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A756-3FA4-4050-A35F-8E420B3618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9F9-A16B-4E52-A231-D1E4A0EA2A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B5C2-3588-45A5-898B-790A0C14C8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2C9-B949-482E-AAE3-6583440098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344-117A-4920-B3B6-36F0CC26D2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468360" y="549360"/>
            <a:ext cx="8351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Муниципальное бюджет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«Станция юных техни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0141b"/>
                </a:solidFill>
                <a:uFillTx/>
                <a:latin typeface="Verdana"/>
              </a:rPr>
              <a:t>Творческое объединение: «МИР ПРОФЕССИЙ</a:t>
            </a: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резентация №1«Вводное заня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к дополнительной </a:t>
            </a:r>
            <a:r>
              <a:rPr b="1" lang="ru-RU" sz="20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общеобразова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общеразвивающей програм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«Мир професс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АВТОР: ТИХОНОВА Е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7" descr="https://mykaleidoscope.ru/x/uploads/posts/2022-09/1663602814_51-mykaleidoscope-ru-p-interes-k-professii-krasivo-58.jpg"/>
          <p:cNvPicPr/>
          <p:nvPr/>
        </p:nvPicPr>
        <p:blipFill>
          <a:blip r:embed="rId1"/>
          <a:srcRect l="0" t="0" r="67312" b="49641"/>
          <a:stretch/>
        </p:blipFill>
        <p:spPr>
          <a:xfrm>
            <a:off x="4643280" y="3573360"/>
            <a:ext cx="1656000" cy="28004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" descr="https://mykaleidoscope.ru/x/uploads/posts/2022-09/1663602814_51-mykaleidoscope-ru-p-interes-k-professii-krasivo-58.jpg"/>
          <p:cNvPicPr/>
          <p:nvPr/>
        </p:nvPicPr>
        <p:blipFill>
          <a:blip r:embed="rId2"/>
          <a:srcRect l="0" t="49641" r="67152" b="0"/>
          <a:stretch/>
        </p:blipFill>
        <p:spPr>
          <a:xfrm>
            <a:off x="611280" y="3429000"/>
            <a:ext cx="15303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" descr="https://mykaleidoscope.ru/x/uploads/posts/2022-09/1663602814_51-mykaleidoscope-ru-p-interes-k-professii-krasivo-58.jpg"/>
          <p:cNvPicPr/>
          <p:nvPr/>
        </p:nvPicPr>
        <p:blipFill>
          <a:blip r:embed="rId3"/>
          <a:srcRect l="32852" t="49761" r="30609" b="0"/>
          <a:stretch/>
        </p:blipFill>
        <p:spPr>
          <a:xfrm>
            <a:off x="6804000" y="3213000"/>
            <a:ext cx="1817640" cy="3333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" descr="https://mykaleidoscope.ru/x/uploads/posts/2022-09/1663602814_51-mykaleidoscope-ru-p-interes-k-professii-krasivo-58.jpg"/>
          <p:cNvPicPr/>
          <p:nvPr/>
        </p:nvPicPr>
        <p:blipFill>
          <a:blip r:embed="rId4"/>
          <a:srcRect l="69714" t="50003" r="0" b="0"/>
          <a:stretch/>
        </p:blipFill>
        <p:spPr>
          <a:xfrm>
            <a:off x="2843280" y="3573360"/>
            <a:ext cx="1322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539640" y="476280"/>
            <a:ext cx="81360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783f04"/>
                </a:solidFill>
                <a:uFillTx/>
                <a:latin typeface="Comic Sans MS"/>
              </a:rPr>
              <a:t>Формы аттестаци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Тес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Творческий про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Презен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Результаты участия в конкурс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2" descr="D:\Users\User\Desktop\ПРЕЗЕНТАЦИИ МИР ПРОФЕССИЙ\эмблема мир профессий\1.jpg"/>
          <p:cNvPicPr/>
          <p:nvPr/>
        </p:nvPicPr>
        <p:blipFill>
          <a:blip r:embed="rId1"/>
          <a:stretch/>
        </p:blipFill>
        <p:spPr>
          <a:xfrm>
            <a:off x="5508720" y="4149720"/>
            <a:ext cx="31924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324000" y="33336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1" descr="https://mykaleidoscope.ru/x/uploads/posts/2022-09/1663602814_51-mykaleidoscope-ru-p-interes-k-professii-krasivo-58.jpg"/>
          <p:cNvPicPr/>
          <p:nvPr/>
        </p:nvPicPr>
        <p:blipFill>
          <a:blip r:embed="rId1"/>
          <a:srcRect l="0" t="0" r="67312" b="49641"/>
          <a:stretch/>
        </p:blipFill>
        <p:spPr>
          <a:xfrm>
            <a:off x="7308720" y="404640"/>
            <a:ext cx="1513080" cy="31100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" descr="https://mykaleidoscope.ru/x/uploads/posts/2022-09/1663602814_51-mykaleidoscope-ru-p-interes-k-professii-krasivo-58.jpg"/>
          <p:cNvPicPr/>
          <p:nvPr/>
        </p:nvPicPr>
        <p:blipFill>
          <a:blip r:embed="rId2"/>
          <a:srcRect l="30933" t="0" r="32213" b="49521"/>
          <a:stretch/>
        </p:blipFill>
        <p:spPr>
          <a:xfrm>
            <a:off x="4356000" y="1052640"/>
            <a:ext cx="1971720" cy="3600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" descr="https://mykaleidoscope.ru/x/uploads/posts/2022-09/1663602814_51-mykaleidoscope-ru-p-interes-k-professii-krasivo-58.jpg"/>
          <p:cNvPicPr/>
          <p:nvPr/>
        </p:nvPicPr>
        <p:blipFill>
          <a:blip r:embed="rId3"/>
          <a:srcRect l="65376" t="0" r="0" b="49641"/>
          <a:stretch/>
        </p:blipFill>
        <p:spPr>
          <a:xfrm>
            <a:off x="324000" y="404640"/>
            <a:ext cx="1726920" cy="33530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" descr="https://mykaleidoscope.ru/x/uploads/posts/2022-09/1663602814_51-mykaleidoscope-ru-p-interes-k-professii-krasivo-58.jpg"/>
          <p:cNvPicPr/>
          <p:nvPr/>
        </p:nvPicPr>
        <p:blipFill>
          <a:blip r:embed="rId4"/>
          <a:srcRect l="0" t="49641" r="67152" b="0"/>
          <a:stretch/>
        </p:blipFill>
        <p:spPr>
          <a:xfrm>
            <a:off x="1619280" y="3429000"/>
            <a:ext cx="1473120" cy="30099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" descr="https://mykaleidoscope.ru/x/uploads/posts/2022-09/1663602814_51-mykaleidoscope-ru-p-interes-k-professii-krasivo-58.jpg"/>
          <p:cNvPicPr/>
          <p:nvPr/>
        </p:nvPicPr>
        <p:blipFill>
          <a:blip r:embed="rId5"/>
          <a:srcRect l="32852" t="49761" r="30609" b="0"/>
          <a:stretch/>
        </p:blipFill>
        <p:spPr>
          <a:xfrm>
            <a:off x="6227640" y="3284640"/>
            <a:ext cx="1700280" cy="31176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" descr="https://mykaleidoscope.ru/x/uploads/posts/2022-09/1663602814_51-mykaleidoscope-ru-p-interes-k-professii-krasivo-58.jpg"/>
          <p:cNvPicPr/>
          <p:nvPr/>
        </p:nvPicPr>
        <p:blipFill>
          <a:blip r:embed="rId6"/>
          <a:srcRect l="69714" t="50003" r="0" b="0"/>
          <a:stretch/>
        </p:blipFill>
        <p:spPr>
          <a:xfrm>
            <a:off x="2771640" y="1268280"/>
            <a:ext cx="158436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468360" y="333360"/>
            <a:ext cx="8280360" cy="35229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Цель: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4425d"/>
                </a:solidFill>
                <a:latin typeface="Comic Sans MS"/>
                <a:ea typeface="BatangChe"/>
              </a:rPr>
              <a:t>познакомить обучающихся с содержанием и планом работы в учебном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4" descr="D:\Users\User\Desktop\ПРЕЗЕНТАЦИИ МИР ПРОФЕССИЙ\эмблема мир профессий\7.jpg"/>
          <p:cNvPicPr/>
          <p:nvPr/>
        </p:nvPicPr>
        <p:blipFill>
          <a:blip r:embed="rId1"/>
          <a:stretch/>
        </p:blipFill>
        <p:spPr>
          <a:xfrm>
            <a:off x="6659640" y="4437000"/>
            <a:ext cx="18446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95280" y="110232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Дополнительная обще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общеразвивающая 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«Мир професс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Направленность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художе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Возраст обучающихся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7  – 14 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Срок реализации программы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2   года, 648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Уровень осво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ба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Форма реализации:</a:t>
            </a: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о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3" descr="D:\Users\User\Desktop\ПРЕЗЕНТАЦИИ МИР ПРОФЕССИЙ\эмблема мир профессий\7.jpg"/>
          <p:cNvPicPr/>
          <p:nvPr/>
        </p:nvPicPr>
        <p:blipFill>
          <a:blip r:embed="rId1"/>
          <a:stretch/>
        </p:blipFill>
        <p:spPr>
          <a:xfrm>
            <a:off x="6659640" y="4437000"/>
            <a:ext cx="18446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468360" y="404640"/>
            <a:ext cx="813600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83f04"/>
                </a:solidFill>
                <a:latin typeface="Arial"/>
              </a:rPr>
              <a:t>Программа «Мир професси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83f04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783f04"/>
                </a:solidFill>
                <a:latin typeface="Arial"/>
              </a:rPr>
              <a:t>направлена на расширение кругозора  школьников и подростков по профориентации и создание условий для формирования личностных кач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2" descr="D:\Users\User\Desktop\ПРЕЗЕНТАЦИИ МИР ПРОФЕССИЙ\эмблема мир профессий\4.jpg"/>
          <p:cNvPicPr/>
          <p:nvPr/>
        </p:nvPicPr>
        <p:blipFill>
          <a:blip r:embed="rId1"/>
          <a:stretch/>
        </p:blipFill>
        <p:spPr>
          <a:xfrm>
            <a:off x="5940360" y="3645000"/>
            <a:ext cx="2495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539640" y="765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f04"/>
                </a:solidFill>
                <a:latin typeface="Comic Sans MS"/>
                <a:ea typeface="BatangChe"/>
              </a:rPr>
              <a:t>Цель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611280" y="13413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f04"/>
                </a:solidFill>
                <a:latin typeface="Arial"/>
              </a:rPr>
              <a:t>создание условий для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f04"/>
                </a:solidFill>
                <a:latin typeface="Arial"/>
              </a:rPr>
              <a:t>у обучающихся познаватель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f04"/>
                </a:solidFill>
                <a:latin typeface="Arial"/>
              </a:rPr>
              <a:t>к миру проф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4" descr="D:\Users\User\Desktop\ПРЕЗЕНТАЦИИ МИР ПРОФЕССИЙ\эмблема мир профессий\4.jpg"/>
          <p:cNvPicPr/>
          <p:nvPr/>
        </p:nvPicPr>
        <p:blipFill>
          <a:blip r:embed="rId1"/>
          <a:stretch/>
        </p:blipFill>
        <p:spPr>
          <a:xfrm>
            <a:off x="5940360" y="3645000"/>
            <a:ext cx="2495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539640" y="549360"/>
            <a:ext cx="806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Задачи программы «Мир профессий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468360" y="113580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формировать представление о различных професс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познакомить с историей появления основ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метапредме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формировать интерес к профессиям через встречи с представителями различных професс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развивать самостоятельность, ответственность у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личнос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воспитывать уважительное отношение к человеку – професси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воспитывать целеустремленность, настойчивость в достижении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68360" y="476280"/>
            <a:ext cx="8280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Планиру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468360" y="113904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предме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получат знания об основных и наиболее востребованных професс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метапредмет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получат навыки работы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получат навыки общения со специалистами различ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личнос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уважительно относятся к людям – профессионал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стали более целеустремленнее и настойчив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3" descr="D:\Users\User\Desktop\ПРЕЗЕНТАЦИИ МИР ПРОФЕССИЙ\эмблема мир профессий\4.jpg"/>
          <p:cNvPicPr/>
          <p:nvPr/>
        </p:nvPicPr>
        <p:blipFill>
          <a:blip r:embed="rId1"/>
          <a:stretch/>
        </p:blipFill>
        <p:spPr>
          <a:xfrm>
            <a:off x="680400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468360" y="620640"/>
            <a:ext cx="81360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Темы программы 1 года обучения: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Вводн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збука профессий от А до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лас профессий буду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Конкурсы, игры, викто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тес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Итогов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D:\Users\User\Desktop\ПРЕЗЕНТАЦИИ МИР ПРОФЕССИЙ\эмблема мир профессий\1.jpg"/>
          <p:cNvPicPr/>
          <p:nvPr/>
        </p:nvPicPr>
        <p:blipFill>
          <a:blip r:embed="rId1"/>
          <a:stretch/>
        </p:blipFill>
        <p:spPr>
          <a:xfrm>
            <a:off x="5219640" y="4076640"/>
            <a:ext cx="3192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468360" y="476280"/>
            <a:ext cx="8136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Темы программы 2 года обучения:</a:t>
            </a:r>
            <a:r>
              <a:rPr b="0" lang="ru-RU" sz="34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Вводн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Знакомство с профессиями разны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лас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Профессии буду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Конкурсы, игры, викто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тес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Итогов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2" descr="D:\Users\User\Desktop\ПРЕЗЕНТАЦИИ МИР ПРОФЕССИЙ\эмблема мир профессий\7.jpg"/>
          <p:cNvPicPr/>
          <p:nvPr/>
        </p:nvPicPr>
        <p:blipFill>
          <a:blip r:embed="rId1"/>
          <a:stretch/>
        </p:blipFill>
        <p:spPr>
          <a:xfrm>
            <a:off x="6300720" y="4292640"/>
            <a:ext cx="184320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5T05:05:26Z</dcterms:created>
  <dc:creator>User</dc:creator>
  <dc:description/>
  <dc:language>en-US</dc:language>
  <cp:lastModifiedBy>User</cp:lastModifiedBy>
  <dcterms:modified xsi:type="dcterms:W3CDTF">2024-05-28T04:29:43Z</dcterms:modified>
  <cp:revision>115</cp:revision>
  <dc:subject/>
  <dc:title>Слайд 1</dc:title>
</cp:coreProperties>
</file>