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FC7D-1F37-4D07-B197-A8E2B7E3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675-A404-464A-B3E9-F31459E3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E91A-FECE-48E4-B6EC-25454432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7CF9-19A7-4E58-A0B7-4D964F9D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0960-3CEE-4781-BAB7-94F82658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DF5E-21D7-43F7-AC3B-D458B544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772A-5197-4C45-96FA-2C0262E3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C0CF-D784-41E1-A47C-65AF3F58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42A7-5B14-4CA7-BD05-8D6DEF45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AFF2-336B-44E0-9AA8-4FAA4E05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734E-DBAD-4C79-BEC4-CA8D0AE3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1A36-A92F-49FF-97E3-1C3E9D9D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4E8C-3585-4BEC-B7AC-91CB3D10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22DD-D961-40D8-91C8-0FE7D0E7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5F81-725F-49F3-B2A2-62B30ED0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D3B5-DA1D-40CC-B4D7-62C08960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5EDB-3CB5-47AF-9831-AB5AC3FE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F90E2-5DFE-403B-AD13-3C6081E9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8928E-3EDD-4242-AFD6-727013B8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C4017C-7E52-48AB-BE64-4F34CCBC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7DA098-4F74-4CA7-85A6-B1451754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A8DA3-65D9-4F82-8E6A-F90F50D0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3D2C-7DAE-43DD-BE2A-C7A7E85F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324CB-4812-49A1-BDE1-3B4A9931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516B2-439A-4A5B-878B-EA1519CD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05749-A8C8-4EC0-87AE-94579BAF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F06B41-7AD2-4AB7-A251-C4AD7FA5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D74C8-3740-47C5-B972-16DA0AA1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47F9E-B0E2-4C93-961D-1B15576E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68299-D8CB-4847-A26F-9C7BF8C2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D5092-092F-4B86-B827-1615255A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BD9F0-5307-4131-90EF-264FC209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2D428-9B36-40F0-8FA3-A68C8F77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083-9687-4A7D-AE48-1C29BFEE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61C26-0A6C-4083-AF26-313118BF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A04B0-1946-4776-B08F-B3A97872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ACF69-C665-446E-9DB1-FC86C3DF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2D977-C91A-42A0-AA82-1A607A58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23F2B-2410-4A7A-BD0E-4BF436B0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7679D-7DBD-4A2E-83B4-459CC91E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E9E0A-6522-408F-80AA-658A4CEE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F738C-0311-45AC-88FC-C94F7638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6FE1D-B2F9-48D3-BEB0-FF911F17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3C96-788F-46A2-A92E-16BAA6AD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59D1-16CD-4D8E-930E-0D75473C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AFF-8E1A-48C7-A5C7-E047EF4B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946-3216-4621-8241-AE1CEA4D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4FD-5E47-4051-BF21-ED48D3B0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2DEC-D426-4C9F-8A45-204D9997EBC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8550-3F77-4AAC-AA1E-08AFF61BBA9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8449-F033-4B54-AB61-FC9FDF7AF89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AF00-65D9-4A65-A2B3-4A9FFE93E226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D:\Users\User\Desktop\2023-2024\ПРЕЗЕНТАЦИИ ШАБЛОНЫ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2"/>
          <p:cNvSpPr/>
          <p:nvPr/>
        </p:nvSpPr>
        <p:spPr>
          <a:xfrm>
            <a:off x="1403280" y="1844640"/>
            <a:ext cx="72723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Georgia"/>
                <a:ea typeface="Andalus"/>
              </a:rPr>
              <a:t>МБУ ДО «Станция юных техников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70c0"/>
                </a:solidFill>
                <a:uFillTx/>
                <a:latin typeface="Georgia"/>
                <a:ea typeface="Andalus"/>
              </a:rPr>
              <a:t>Творческое объединение</a:t>
            </a:r>
            <a:r>
              <a:rPr b="1" lang="ru-RU" sz="2200" spc="-1" strike="noStrike">
                <a:solidFill>
                  <a:srgbClr val="0070c0"/>
                </a:solidFill>
                <a:latin typeface="Georgia"/>
                <a:ea typeface="Andalus"/>
              </a:rPr>
              <a:t>: «Мир профессий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Georgia"/>
                <a:ea typeface="Andalus"/>
              </a:rPr>
              <a:t>Автор – составитель: педагог Е.А.Тихоно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Georgia"/>
                <a:ea typeface="Andalus"/>
              </a:rPr>
              <a:t>ПРЕЗЕНТАЦИЯ №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Georgia"/>
                <a:ea typeface="Andalus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Georgia"/>
                <a:ea typeface="Andalus"/>
              </a:rPr>
              <a:t>«Знакомство с профессиями разных типов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  <a:ea typeface="Andalus"/>
              </a:rPr>
              <a:t>к дополнительной общеобразовательной общеразвивающей програм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  <a:ea typeface="Andalus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Andalus"/>
              </a:rPr>
              <a:t>«Мир професс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1670597646_15-kartinkin-net-p-mir-professii-kartinki-instagram-15"/>
          <p:cNvPicPr/>
          <p:nvPr/>
        </p:nvPicPr>
        <p:blipFill>
          <a:blip r:embed="rId2"/>
          <a:stretch/>
        </p:blipFill>
        <p:spPr>
          <a:xfrm>
            <a:off x="6588000" y="260280"/>
            <a:ext cx="237672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317520" y="334800"/>
            <a:ext cx="8655120" cy="612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304920" y="542880"/>
            <a:ext cx="837540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0" y="328680"/>
            <a:ext cx="9210600" cy="6132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2"/>
          <a:stretch/>
        </p:blipFill>
        <p:spPr>
          <a:xfrm>
            <a:off x="3924360" y="5157720"/>
            <a:ext cx="1857240" cy="127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"/>
          <p:cNvPicPr/>
          <p:nvPr/>
        </p:nvPicPr>
        <p:blipFill>
          <a:blip r:embed="rId3"/>
          <a:stretch/>
        </p:blipFill>
        <p:spPr>
          <a:xfrm>
            <a:off x="7020000" y="5084640"/>
            <a:ext cx="1861920" cy="1500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00036504"/>
          <p:cNvPicPr/>
          <p:nvPr/>
        </p:nvPicPr>
        <p:blipFill>
          <a:blip r:embed="rId4"/>
          <a:stretch/>
        </p:blipFill>
        <p:spPr>
          <a:xfrm>
            <a:off x="395280" y="5084640"/>
            <a:ext cx="201312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-42840" y="646200"/>
            <a:ext cx="9223200" cy="5742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00033717"/>
          <p:cNvPicPr/>
          <p:nvPr/>
        </p:nvPicPr>
        <p:blipFill>
          <a:blip r:embed="rId2"/>
          <a:stretch/>
        </p:blipFill>
        <p:spPr>
          <a:xfrm>
            <a:off x="3419640" y="5084640"/>
            <a:ext cx="2357280" cy="1595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3"/>
          <a:stretch/>
        </p:blipFill>
        <p:spPr>
          <a:xfrm>
            <a:off x="6516720" y="5013360"/>
            <a:ext cx="2394000" cy="1595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4"/>
          <a:stretch/>
        </p:blipFill>
        <p:spPr>
          <a:xfrm>
            <a:off x="468360" y="5084640"/>
            <a:ext cx="2232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-42840" y="1066680"/>
            <a:ext cx="915048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 Black"/>
              </a:rPr>
              <a:t>Человек  – техника </a:t>
            </a:r>
            <a:br>
              <a:rPr sz="60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о могут быть пилоты, водители, матросы, электромонтеры, слесари, токари, часовщики  и представители других профессий, использующие технические устройства.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70c0"/>
                </a:solidFill>
                <a:latin typeface="Arial Black"/>
              </a:rPr>
              <a:t>Человек  – художественный образ </a:t>
            </a:r>
            <a:br>
              <a:rPr sz="66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юдей этого типа отличает наличие живого образного мышления, художественная фантазия, талант (артисты, архитекторы, дирижеры, искусствоведы, кинорежиссеры, композиторы и т.д.).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2"/>
          <p:cNvSpPr/>
          <p:nvPr/>
        </p:nvSpPr>
        <p:spPr>
          <a:xfrm>
            <a:off x="3708360" y="765000"/>
            <a:ext cx="51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70c0"/>
                </a:solidFill>
                <a:latin typeface="Georgia"/>
                <a:ea typeface="Aharoni"/>
              </a:rPr>
              <a:t>СПАСИБО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70c0"/>
                </a:solidFill>
                <a:latin typeface="Georgia"/>
                <a:ea typeface="Aharoni"/>
              </a:rPr>
              <a:t>ЗА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70c0"/>
                </a:solidFill>
                <a:latin typeface="Georgia"/>
                <a:ea typeface="Aharoni"/>
              </a:rPr>
              <a:t>ВНИМАНИЕ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22T09:41:55Z</dcterms:created>
  <dc:creator>User</dc:creator>
  <dc:description/>
  <dc:language>en-US</dc:language>
  <cp:lastModifiedBy>User</cp:lastModifiedBy>
  <dcterms:modified xsi:type="dcterms:W3CDTF">2024-05-28T08:18:59Z</dcterms:modified>
  <cp:revision>33</cp:revision>
  <dc:subject/>
  <dc:title>Слайд 1</dc:title>
</cp:coreProperties>
</file>