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141E0-DD34-4392-BBB1-E0A37239A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CF301-7B05-4875-8DFE-BE0A956AF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15740-2FE3-4D0C-A7CB-73C13A0EB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CF3BB-76D0-40A0-A6CB-234170D02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CBDBC5-94B6-4BE1-8F88-AC7DAA2F76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946B5-0AA1-4DE5-9150-40E92A2E88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5379C-F0F7-43C8-9060-D517E7E84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394F8-396A-447D-8B42-64F052E8C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44AF0-0262-4E2C-9424-EDFE0D2C0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60A48-C732-40CD-95E5-7E3C4795E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90770-2BE8-40D7-A673-2FACE688F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A9A58-803E-4B0B-B6E7-18AE39A10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6E72F-A0A7-41AD-8E05-0DD3FED00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2A31B-3600-4A88-A909-BD494DB90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84EC3-B11E-4B48-BB66-7FAF9B13E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8AA4E0-7CF6-4C8E-BE50-5A94996E68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5C8F1A-13B6-461D-94BF-512222AA11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F40202-0034-456B-A9F1-6D4FF6B628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28EACD-4F8D-402B-B1B8-C966A1B6D7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70705B-615A-4EF2-88CF-67760D1980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687050-2E51-4D96-94E2-EC139D420F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55E838-02AE-4619-A4BA-DCBC061844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770BA-9171-49D1-BAF8-AAF01D8FD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A448EE-AFF0-4AB6-B714-F2929262C9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595CEA-DF13-4FC9-98B5-F337CD4CBC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3A9B7E-972E-4DE8-AE69-AD1FBDD21B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4C6E77-C534-405E-A133-70550E43A6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DFA6A5-AB3F-4268-8BFE-5111D44ED8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627A64-0BD6-4821-A7DE-22C8362008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FD2240-C4C9-4FB8-ADA1-75D4ABC2D4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1B52B2-5DC4-481E-BCAB-907AE90805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890550-6E52-439F-9117-29AABB1132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708337-5A15-4F13-816E-8AC2C099C9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CD914-BF1B-4FB8-8732-1DA12CA98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0A5BD3-0F18-4F04-ABBF-0AA581F07C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785826-43BB-49E8-A821-0460863C3B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E5A996-0D6B-4D6E-AF5D-C95D88F1E8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B8FB91-0DE7-4400-9D22-A84CF23CA7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29D015-FFE2-4496-9785-1D3473C781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406BFD-6237-48D0-A2EC-D891954DF3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9AADF5-63E0-4EBC-A5DF-7754BE4FAB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8CC24F-193F-4174-A91E-E49B55641F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609FCB-5DE0-414A-BA96-EB95B7F476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AB9785-FB69-4E79-A7ED-A9201C2A5C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33802-AE98-4412-B1CA-876172F68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0279E4-4C24-4DC5-8801-CA853589CF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D7F380-D3BC-407A-9EF2-6B81FB3750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3972A9-89FD-46AC-82A0-0D0BA30012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117C98-0F0E-4654-A398-1766CE661E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D013BB-05D6-4B4F-A072-93FE81C6A4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C9B36C-E1C7-457F-99BF-A627A77C0F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1B7F76-B940-47D2-BC73-7D83735A53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91118F-7059-4E59-897F-EB769AF956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5F97A0-A5EF-43E9-9C55-2F8DCC8CEF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200245-B15C-468E-88C9-72C1B9BFED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E16EE-B916-4DD4-BFC0-A1A4FDAF1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2B667F-1C93-4E47-9442-4C341EAE01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89249-416D-4133-A188-11F3127CD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C4D18-FF16-44DF-A6E4-9259EED1E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58DD1-A05E-4172-A47C-F5571F951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73B05-F41B-4F68-9D8F-D22CBB19C93B}"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CFBDB-187D-48AF-AF09-F4184638D1D3}"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1F801-4944-45C5-9C37-8FA73AAED4A5}"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9D9C-3CC8-4E32-8EA2-D8A4B03F5991}"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C2E43-7BA9-4145-A34B-2138E764BBD0}"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0" descr="Picture background"/>
          <p:cNvPicPr/>
          <p:nvPr/>
        </p:nvPicPr>
        <p:blipFill>
          <a:blip r:embed="rId1"/>
          <a:stretch/>
        </p:blipFill>
        <p:spPr>
          <a:xfrm>
            <a:off x="0" y="0"/>
            <a:ext cx="9136080" cy="6858000"/>
          </a:xfrm>
          <a:prstGeom prst="rect">
            <a:avLst/>
          </a:prstGeom>
          <a:ln w="0">
            <a:noFill/>
          </a:ln>
        </p:spPr>
      </p:pic>
      <p:sp>
        <p:nvSpPr>
          <p:cNvPr id="221" name="TextBox 12"/>
          <p:cNvSpPr/>
          <p:nvPr/>
        </p:nvSpPr>
        <p:spPr>
          <a:xfrm>
            <a:off x="1116000" y="836640"/>
            <a:ext cx="7128000" cy="478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Verdana"/>
              </a:rPr>
              <a:t>Муниципальное бюджетное учреждение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Verdana"/>
              </a:rPr>
              <a:t>дополнительного образования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Verdana"/>
              </a:rPr>
              <a:t>«Станция юных техников»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2060"/>
                </a:solidFill>
                <a:uFillTx/>
                <a:latin typeface="Verdana"/>
              </a:rPr>
              <a:t>Творческое объединение: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Verdana"/>
              </a:rPr>
              <a:t>«МИР ПРОФЕССИЙ»</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2060"/>
                </a:solidFill>
                <a:uFillTx/>
                <a:latin typeface="Verdana"/>
                <a:ea typeface="Arial Unicode MS"/>
              </a:rPr>
              <a:t>Презентация №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Verdana"/>
                <a:ea typeface="Arial Unicode MS"/>
              </a:rPr>
              <a:t>«Конкурсы, игры, викторины»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Verdana"/>
                <a:ea typeface="Arial Unicode MS"/>
              </a:rPr>
              <a:t>к дополнительной общеобразовательной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Verdana"/>
                <a:ea typeface="Arial Unicode MS"/>
              </a:rPr>
              <a:t>общеразвивающей программе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Verdana"/>
                <a:ea typeface="Arial Unicode MS"/>
              </a:rPr>
              <a:t>«Мир профессий»</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Verdana"/>
              </a:rPr>
              <a:t>АВТОР: педагог ТИХОНОВА Е.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Box 1"/>
          <p:cNvSpPr/>
          <p:nvPr/>
        </p:nvSpPr>
        <p:spPr>
          <a:xfrm>
            <a:off x="324000" y="333360"/>
            <a:ext cx="84960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Verdana"/>
              </a:rPr>
              <a:t>Игра  №4 «Назови слова – действ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Цель:</a:t>
            </a:r>
            <a:r>
              <a:rPr b="0" lang="ru-RU" sz="1800" spc="-1" strike="noStrike">
                <a:solidFill>
                  <a:srgbClr val="000000"/>
                </a:solidFill>
                <a:latin typeface="Arial"/>
              </a:rPr>
              <a:t> Употребление форм глагола. Обогащение словар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од игр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зываю профессию, а дети говорят слова – действия, которые выполняют люди этой профессии, наприме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рач – слушает, выписывает рецепт, смотрит горло, измеряет температуру, назначает лекарст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давец – взвешивает, показывает, отрезает, заворачивает, счита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ар – режет, чистит, варит, жарит, печет, пробует, соли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арикмахер – причесывает, стрижет, моет волосы, делает прически, бреет бороду и ус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Рисунок 11" descr="https://mykaleidoscope.ru/x/uploads/posts/2022-09/1663602814_51-mykaleidoscope-ru-p-interes-k-professii-krasivo-58.jpg"/>
          <p:cNvPicPr/>
          <p:nvPr/>
        </p:nvPicPr>
        <p:blipFill>
          <a:blip r:embed="rId1"/>
          <a:srcRect l="30933" t="0" r="32213" b="49521"/>
          <a:stretch/>
        </p:blipFill>
        <p:spPr>
          <a:xfrm>
            <a:off x="7020000" y="3789360"/>
            <a:ext cx="123012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1"/>
          <p:cNvSpPr/>
          <p:nvPr/>
        </p:nvSpPr>
        <p:spPr>
          <a:xfrm>
            <a:off x="250920" y="333360"/>
            <a:ext cx="8642160" cy="630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Verdana"/>
              </a:rPr>
              <a:t>Игра №5«Бюро находо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ель:</a:t>
            </a:r>
            <a:r>
              <a:rPr b="0" lang="ru-RU" sz="1600" spc="-1" strike="noStrike">
                <a:solidFill>
                  <a:srgbClr val="000000"/>
                </a:solidFill>
                <a:latin typeface="Arial"/>
              </a:rPr>
              <a:t>  Формирование представлений о профессия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атериал и оборудование:</a:t>
            </a:r>
            <a:r>
              <a:rPr b="0" lang="ru-RU" sz="1600" spc="-1" strike="noStrike">
                <a:solidFill>
                  <a:srgbClr val="000000"/>
                </a:solidFill>
                <a:latin typeface="Arial"/>
              </a:rPr>
              <a:t> Картинки с изображениями предметов, орудий труда либо сами предмет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од игр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ы с вами находимся в бюро находок. Эти предметы когда-то принадлежали людям разных профессий. Надо определить, кому они принадлежал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лес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ирпи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гла, таблетк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тк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ук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л, указк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ожницы и д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вет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дител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менщик, строител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рач, докто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ртной, шве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вар, пекарь, кондите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читель, педаго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рикмахе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Рисунок 1" descr="D:\Users\User\Desktop\1.jpg"/>
          <p:cNvPicPr/>
          <p:nvPr/>
        </p:nvPicPr>
        <p:blipFill>
          <a:blip r:embed="rId1"/>
          <a:srcRect l="31871" t="50005" r="38238" b="0"/>
          <a:stretch/>
        </p:blipFill>
        <p:spPr>
          <a:xfrm>
            <a:off x="6732720" y="3860640"/>
            <a:ext cx="1774800" cy="223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Box 1"/>
          <p:cNvSpPr/>
          <p:nvPr/>
        </p:nvSpPr>
        <p:spPr>
          <a:xfrm>
            <a:off x="324000" y="333360"/>
            <a:ext cx="849600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Verdana"/>
              </a:rPr>
              <a:t>Игра №6«Что лишне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Цель: </a:t>
            </a:r>
            <a:r>
              <a:rPr b="0" lang="ru-RU" sz="1800" spc="-1" strike="noStrike">
                <a:solidFill>
                  <a:srgbClr val="000000"/>
                </a:solidFill>
                <a:latin typeface="Arial"/>
              </a:rPr>
              <a:t>Активизация знаний о профессиях через умение классифициров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териал и оборудование: </a:t>
            </a:r>
            <a:r>
              <a:rPr b="0" lang="ru-RU" sz="1800" spc="-1" strike="noStrike">
                <a:solidFill>
                  <a:srgbClr val="000000"/>
                </a:solidFill>
                <a:latin typeface="Arial"/>
              </a:rPr>
              <a:t>Карточки с написанными цепочками сл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од игр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цепочке слов найдите лишний предмет, и назовите профессию человека, пользующегося этими предметами (кто быстрее справится с задание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приц - лекарство- вата- спица (спиц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гла – нитки – гвоздь – напёрсток – сантиметровая лента (гвозд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стрюля – ложка – тёрка – ножницы (ножниц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ен – нож – расческа – ножницы (но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Рисунок 1" descr="D:\Users\User\Desktop\1.jpg"/>
          <p:cNvPicPr/>
          <p:nvPr/>
        </p:nvPicPr>
        <p:blipFill>
          <a:blip r:embed="rId1"/>
          <a:srcRect l="0" t="0" r="73881" b="50719"/>
          <a:stretch/>
        </p:blipFill>
        <p:spPr>
          <a:xfrm>
            <a:off x="6875640" y="3789360"/>
            <a:ext cx="1546200" cy="219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Box 1"/>
          <p:cNvSpPr/>
          <p:nvPr/>
        </p:nvSpPr>
        <p:spPr>
          <a:xfrm>
            <a:off x="324000" y="333360"/>
            <a:ext cx="84960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Verdana"/>
              </a:rPr>
              <a:t>Игра №7 </a:t>
            </a:r>
            <a:r>
              <a:rPr b="1" i="1" lang="ru-RU" sz="1800" spc="-1" strike="noStrike" u="sng">
                <a:solidFill>
                  <a:srgbClr val="000000"/>
                </a:solidFill>
                <a:uFillTx/>
                <a:latin typeface="Verdana"/>
              </a:rPr>
              <a:t>«</a:t>
            </a:r>
            <a:r>
              <a:rPr b="1" lang="ru-RU" sz="1800" spc="-1" strike="noStrike" u="sng">
                <a:solidFill>
                  <a:srgbClr val="000000"/>
                </a:solidFill>
                <a:uFillTx/>
                <a:latin typeface="Verdana"/>
              </a:rPr>
              <a:t>Назови профессии или специальности на заданные буквы</a:t>
            </a:r>
            <a:r>
              <a:rPr b="1" i="1" lang="ru-RU" sz="1800" spc="-1" strike="noStrike" u="sng">
                <a:solidFill>
                  <a:srgbClr val="000000"/>
                </a:solidFill>
                <a:uFillTx/>
                <a:latin typeface="Verdana"/>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a:t>
            </a:r>
            <a:r>
              <a:rPr b="0" lang="ru-RU" sz="1800" spc="-1" strike="noStrike">
                <a:solidFill>
                  <a:srgbClr val="000000"/>
                </a:solidFill>
                <a:latin typeface="Arial"/>
              </a:rPr>
              <a:t> надо придумать профессии или специальности, начинающиеся на заданную букву. За каждую названную профессию или специальность команда получает 1 балл.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ли названная профессия или специальность вызывает сомнение, команда должна объяснить, чем занимается представитель данной профессии или специальности. Если команда не сможет дать объяснение, то ответ не засчитывается. Чья команда это сделает лучше и быстрее? - дополнительные 3 балл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ремя выполнения – 3 мину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Рисунок 1" descr="D:\Users\User\Desktop\1.jpg"/>
          <p:cNvPicPr/>
          <p:nvPr/>
        </p:nvPicPr>
        <p:blipFill>
          <a:blip r:embed="rId1"/>
          <a:srcRect l="0" t="50734" r="73881" b="0"/>
          <a:stretch/>
        </p:blipFill>
        <p:spPr>
          <a:xfrm>
            <a:off x="6588000" y="3860640"/>
            <a:ext cx="1555920" cy="2198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Box 1"/>
          <p:cNvSpPr/>
          <p:nvPr/>
        </p:nvSpPr>
        <p:spPr>
          <a:xfrm>
            <a:off x="324000" y="260280"/>
            <a:ext cx="8569080" cy="484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Verdana"/>
              </a:rPr>
              <a:t>Игра №8"Самая-сама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ейчас вам будут предлагаться некоторые необычные характеристики профессий, а вы должны по очереди называть те профессии, которые, по нашему мнению, в наибольшей степени соответствуют данной характеристике. За каждую названную профессию или специальность команда получает 1 балл. Назовите професс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амая зеленая (садовод, лесник, специалист по ландшафтному дизайну, цветовод-декоратор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амая сладкая (кондитер, продавец в кондитерском отдел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амая денежная (банкир, профессиональные теннисисты, боксеры, модел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амая волосатая (парикмахе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амая детская (воспитатель, педиатр, детский психолог, учител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амая смешная (юморист, клоун, пародис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амая общительная (журналист, экскурсовод, тренер, учитель, массовик-затейни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амая серьезная (не имеет право на ошибку) (сапер, хирург, разведчик, милиционер, политик, психоло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6" name="Рисунок 7" descr="https://mykaleidoscope.ru/x/uploads/posts/2022-09/1663602814_51-mykaleidoscope-ru-p-interes-k-professii-krasivo-58.jpg"/>
          <p:cNvPicPr/>
          <p:nvPr/>
        </p:nvPicPr>
        <p:blipFill>
          <a:blip r:embed="rId1"/>
          <a:srcRect l="65376" t="0" r="0" b="49641"/>
          <a:stretch/>
        </p:blipFill>
        <p:spPr>
          <a:xfrm>
            <a:off x="7380360" y="4292640"/>
            <a:ext cx="1133280" cy="221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Box 1"/>
          <p:cNvSpPr/>
          <p:nvPr/>
        </p:nvSpPr>
        <p:spPr>
          <a:xfrm>
            <a:off x="395280" y="333360"/>
            <a:ext cx="8424720" cy="64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Verdana"/>
              </a:rPr>
              <a:t>Кроссворд«Угадай профессию»</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Цель: </a:t>
            </a:r>
            <a:r>
              <a:rPr b="0" lang="ru-RU" sz="1800" spc="-1" strike="noStrike">
                <a:solidFill>
                  <a:srgbClr val="000000"/>
                </a:solidFill>
                <a:latin typeface="Arial"/>
              </a:rPr>
              <a:t>Закрепить знания о профессиях взрослы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ча </a:t>
            </a:r>
            <a:r>
              <a:rPr b="0" lang="ru-RU" sz="1800" spc="-1" strike="noStrike">
                <a:solidFill>
                  <a:srgbClr val="000000"/>
                </a:solidFill>
                <a:latin typeface="Arial"/>
              </a:rPr>
              <a:t>  -  обучающиеся заполняют кроссвор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териал и оборудование:</a:t>
            </a:r>
            <a:r>
              <a:rPr b="0" lang="ru-RU" sz="1800" spc="-1" strike="noStrike">
                <a:solidFill>
                  <a:srgbClr val="000000"/>
                </a:solidFill>
                <a:latin typeface="Arial"/>
              </a:rPr>
              <a:t> листы бумаги с напечатанным кроссвордом, постой карандаш или шариковая руч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Он готовит обед в столов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Он сидит за касс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Он лечи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Он учит детей в школ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Он лета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Он красит забор, сте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Он ловит рыб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 Он работает в шахт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9. Он строит дом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 Он занимается пошивом одежд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Рисунок 1" descr="D:\Users\User\Desktop\1.jpg"/>
          <p:cNvPicPr/>
          <p:nvPr/>
        </p:nvPicPr>
        <p:blipFill>
          <a:blip r:embed="rId1"/>
          <a:srcRect l="65022" t="0" r="0" b="55859"/>
          <a:stretch/>
        </p:blipFill>
        <p:spPr>
          <a:xfrm>
            <a:off x="6588000" y="4292640"/>
            <a:ext cx="2079720" cy="196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Box 1"/>
          <p:cNvSpPr/>
          <p:nvPr/>
        </p:nvSpPr>
        <p:spPr>
          <a:xfrm>
            <a:off x="324000" y="333360"/>
            <a:ext cx="8496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Times New Roman"/>
                <a:ea typeface="Times New Roman"/>
              </a:rPr>
              <a:t>Спасибо за внимани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50" name="Рисунок 1" descr="https://mykaleidoscope.ru/x/uploads/posts/2022-09/1663602814_51-mykaleidoscope-ru-p-interes-k-professii-krasivo-58.jpg"/>
          <p:cNvPicPr/>
          <p:nvPr/>
        </p:nvPicPr>
        <p:blipFill>
          <a:blip r:embed="rId1"/>
          <a:srcRect l="0" t="0" r="67312" b="49641"/>
          <a:stretch/>
        </p:blipFill>
        <p:spPr>
          <a:xfrm>
            <a:off x="7308720" y="404640"/>
            <a:ext cx="1513080" cy="3110040"/>
          </a:xfrm>
          <a:prstGeom prst="rect">
            <a:avLst/>
          </a:prstGeom>
          <a:ln w="0">
            <a:noFill/>
          </a:ln>
        </p:spPr>
      </p:pic>
      <p:pic>
        <p:nvPicPr>
          <p:cNvPr id="251" name="Рисунок 1" descr="https://mykaleidoscope.ru/x/uploads/posts/2022-09/1663602814_51-mykaleidoscope-ru-p-interes-k-professii-krasivo-58.jpg"/>
          <p:cNvPicPr/>
          <p:nvPr/>
        </p:nvPicPr>
        <p:blipFill>
          <a:blip r:embed="rId2"/>
          <a:srcRect l="30933" t="0" r="32213" b="49521"/>
          <a:stretch/>
        </p:blipFill>
        <p:spPr>
          <a:xfrm>
            <a:off x="4356000" y="1052640"/>
            <a:ext cx="1971720" cy="3600360"/>
          </a:xfrm>
          <a:prstGeom prst="rect">
            <a:avLst/>
          </a:prstGeom>
          <a:ln w="0">
            <a:noFill/>
          </a:ln>
        </p:spPr>
      </p:pic>
      <p:pic>
        <p:nvPicPr>
          <p:cNvPr id="252" name="Рисунок 1" descr="https://mykaleidoscope.ru/x/uploads/posts/2022-09/1663602814_51-mykaleidoscope-ru-p-interes-k-professii-krasivo-58.jpg"/>
          <p:cNvPicPr/>
          <p:nvPr/>
        </p:nvPicPr>
        <p:blipFill>
          <a:blip r:embed="rId3"/>
          <a:srcRect l="65376" t="0" r="0" b="49641"/>
          <a:stretch/>
        </p:blipFill>
        <p:spPr>
          <a:xfrm>
            <a:off x="324000" y="404640"/>
            <a:ext cx="1726920" cy="3353040"/>
          </a:xfrm>
          <a:prstGeom prst="rect">
            <a:avLst/>
          </a:prstGeom>
          <a:ln w="0">
            <a:noFill/>
          </a:ln>
        </p:spPr>
      </p:pic>
      <p:pic>
        <p:nvPicPr>
          <p:cNvPr id="253" name="Рисунок 1" descr="https://mykaleidoscope.ru/x/uploads/posts/2022-09/1663602814_51-mykaleidoscope-ru-p-interes-k-professii-krasivo-58.jpg"/>
          <p:cNvPicPr/>
          <p:nvPr/>
        </p:nvPicPr>
        <p:blipFill>
          <a:blip r:embed="rId4"/>
          <a:srcRect l="0" t="49641" r="67152" b="0"/>
          <a:stretch/>
        </p:blipFill>
        <p:spPr>
          <a:xfrm>
            <a:off x="1619280" y="3429000"/>
            <a:ext cx="1473120" cy="3009960"/>
          </a:xfrm>
          <a:prstGeom prst="rect">
            <a:avLst/>
          </a:prstGeom>
          <a:ln w="0">
            <a:noFill/>
          </a:ln>
        </p:spPr>
      </p:pic>
      <p:pic>
        <p:nvPicPr>
          <p:cNvPr id="254" name="Рисунок 1" descr="https://mykaleidoscope.ru/x/uploads/posts/2022-09/1663602814_51-mykaleidoscope-ru-p-interes-k-professii-krasivo-58.jpg"/>
          <p:cNvPicPr/>
          <p:nvPr/>
        </p:nvPicPr>
        <p:blipFill>
          <a:blip r:embed="rId5"/>
          <a:srcRect l="32852" t="49761" r="30609" b="0"/>
          <a:stretch/>
        </p:blipFill>
        <p:spPr>
          <a:xfrm>
            <a:off x="6227640" y="3284640"/>
            <a:ext cx="1700280" cy="3117600"/>
          </a:xfrm>
          <a:prstGeom prst="rect">
            <a:avLst/>
          </a:prstGeom>
          <a:ln w="0">
            <a:noFill/>
          </a:ln>
        </p:spPr>
      </p:pic>
      <p:pic>
        <p:nvPicPr>
          <p:cNvPr id="255" name="Рисунок 1" descr="https://mykaleidoscope.ru/x/uploads/posts/2022-09/1663602814_51-mykaleidoscope-ru-p-interes-k-professii-krasivo-58.jpg"/>
          <p:cNvPicPr/>
          <p:nvPr/>
        </p:nvPicPr>
        <p:blipFill>
          <a:blip r:embed="rId6"/>
          <a:srcRect l="69714" t="50003" r="0" b="0"/>
          <a:stretch/>
        </p:blipFill>
        <p:spPr>
          <a:xfrm>
            <a:off x="2771640" y="1268280"/>
            <a:ext cx="1584360" cy="3488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1"/>
          <p:cNvSpPr/>
          <p:nvPr/>
        </p:nvSpPr>
        <p:spPr>
          <a:xfrm>
            <a:off x="468360" y="549360"/>
            <a:ext cx="820728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Verdana"/>
              </a:rPr>
              <a:t>Проведение конкурсов, игр и викторин по профориентации для обучающихся во время занятий в творческом объединении «Мир профессий» – позволяют формировать первичные представления о труде взрослых, о его роли в обществе и жизни каждого человека, о разнообразии трудовых действий, о результатах труда, об оборудовании, необходимом для их получени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23" name="Рисунок 4" descr="Picture background"/>
          <p:cNvPicPr/>
          <p:nvPr/>
        </p:nvPicPr>
        <p:blipFill>
          <a:blip r:embed="rId1"/>
          <a:stretch/>
        </p:blipFill>
        <p:spPr>
          <a:xfrm>
            <a:off x="2627280" y="2997360"/>
            <a:ext cx="4176720" cy="30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1"/>
          <p:cNvSpPr/>
          <p:nvPr/>
        </p:nvSpPr>
        <p:spPr>
          <a:xfrm>
            <a:off x="539640" y="549360"/>
            <a:ext cx="80647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Verdana"/>
              </a:rPr>
              <a:t>КОНКУРС </a:t>
            </a:r>
            <a:r>
              <a:rPr b="0" lang="ru-RU" sz="2400" spc="-1" strike="noStrike">
                <a:solidFill>
                  <a:srgbClr val="000099"/>
                </a:solidFill>
                <a:latin typeface="Verdana"/>
              </a:rPr>
              <a:t> (лат. concursus — столкновение, стечение) — соревнование, соискательство нескольких лиц в области искусства, наук и прочего, с целью выделить наиболее выдающегося (или выдающихся) конкурсанта-претендента на победу.  </a:t>
            </a:r>
            <a:endParaRPr b="0" lang="en-US" sz="2400" spc="-1" strike="noStrike">
              <a:solidFill>
                <a:srgbClr val="000000"/>
              </a:solidFill>
              <a:latin typeface="Arial"/>
            </a:endParaRPr>
          </a:p>
        </p:txBody>
      </p:sp>
      <p:pic>
        <p:nvPicPr>
          <p:cNvPr id="225" name="Рисунок 7" descr="Picture background"/>
          <p:cNvPicPr/>
          <p:nvPr/>
        </p:nvPicPr>
        <p:blipFill>
          <a:blip r:embed="rId1"/>
          <a:stretch/>
        </p:blipFill>
        <p:spPr>
          <a:xfrm>
            <a:off x="5435640" y="3068640"/>
            <a:ext cx="2816280" cy="281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1"/>
          <p:cNvSpPr/>
          <p:nvPr/>
        </p:nvSpPr>
        <p:spPr>
          <a:xfrm>
            <a:off x="468360" y="836640"/>
            <a:ext cx="82072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Verdana"/>
              </a:rPr>
              <a:t>ИГРА</a:t>
            </a:r>
            <a:r>
              <a:rPr b="0" lang="ru-RU" sz="2400" spc="-1" strike="noStrike">
                <a:solidFill>
                  <a:srgbClr val="000099"/>
                </a:solidFill>
                <a:latin typeface="Verdana"/>
              </a:rPr>
              <a:t> - это в разной степени осознаваемый человеком как субъектом активности, самодеятельности и творчества способ получения и развития навыков людьми и животными в момент отсутствия непосредственной угрозы для жизни и развития способностей. </a:t>
            </a:r>
            <a:endParaRPr b="0" lang="en-US" sz="2400" spc="-1" strike="noStrike">
              <a:solidFill>
                <a:srgbClr val="000000"/>
              </a:solidFill>
              <a:latin typeface="Arial"/>
            </a:endParaRPr>
          </a:p>
        </p:txBody>
      </p:sp>
      <p:pic>
        <p:nvPicPr>
          <p:cNvPr id="227" name="Рисунок 7" descr="Picture background"/>
          <p:cNvPicPr/>
          <p:nvPr/>
        </p:nvPicPr>
        <p:blipFill>
          <a:blip r:embed="rId1"/>
          <a:stretch/>
        </p:blipFill>
        <p:spPr>
          <a:xfrm>
            <a:off x="5724360" y="3357720"/>
            <a:ext cx="2816280" cy="281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Box 1"/>
          <p:cNvSpPr/>
          <p:nvPr/>
        </p:nvSpPr>
        <p:spPr>
          <a:xfrm>
            <a:off x="539640" y="907920"/>
            <a:ext cx="799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Verdana"/>
              </a:rPr>
              <a:t>ВИКТОРИНА </a:t>
            </a:r>
            <a:r>
              <a:rPr b="0" lang="ru-RU" sz="2400" spc="-1" strike="noStrike">
                <a:solidFill>
                  <a:srgbClr val="000099"/>
                </a:solidFill>
                <a:latin typeface="Verdana"/>
              </a:rPr>
              <a:t>- игра, заключающаяся в ответах на устные или письменные вопросы из различных областей знани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9" name="Рисунок 7" descr="Picture background"/>
          <p:cNvPicPr/>
          <p:nvPr/>
        </p:nvPicPr>
        <p:blipFill>
          <a:blip r:embed="rId1"/>
          <a:stretch/>
        </p:blipFill>
        <p:spPr>
          <a:xfrm>
            <a:off x="5508720" y="3284640"/>
            <a:ext cx="2816280" cy="281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1"/>
          <p:cNvSpPr/>
          <p:nvPr/>
        </p:nvSpPr>
        <p:spPr>
          <a:xfrm>
            <a:off x="468360" y="404640"/>
            <a:ext cx="81360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Verdana"/>
              </a:rPr>
              <a:t>Конкурсы, игры и викторины по профориентации </a:t>
            </a:r>
            <a:r>
              <a:rPr b="0" lang="ru-RU" sz="2400" spc="-1" strike="noStrike">
                <a:solidFill>
                  <a:srgbClr val="002060"/>
                </a:solidFill>
                <a:latin typeface="Verdana"/>
              </a:rPr>
              <a:t>– позволяют развивать познавательные, коммуникативные, творческие и речевые способности,  потребность в общении и созидании у обучающихся.</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Verdana"/>
              </a:rPr>
              <a:t>Воспитывают уважение к труду и стимулируют познавательный интерес к разнообразному миру профессий.</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1" name="Рисунок 4" descr="Picture background"/>
          <p:cNvPicPr/>
          <p:nvPr/>
        </p:nvPicPr>
        <p:blipFill>
          <a:blip r:embed="rId1"/>
          <a:stretch/>
        </p:blipFill>
        <p:spPr>
          <a:xfrm>
            <a:off x="2987640" y="3357720"/>
            <a:ext cx="3656160" cy="269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1"/>
          <p:cNvSpPr/>
          <p:nvPr/>
        </p:nvSpPr>
        <p:spPr>
          <a:xfrm>
            <a:off x="395280" y="333360"/>
            <a:ext cx="8353440" cy="49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Verdana"/>
              </a:rPr>
              <a:t>Игра №1«Азбука професси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Цель:</a:t>
            </a:r>
            <a:r>
              <a:rPr b="0" lang="ru-RU" sz="2000" spc="-1" strike="noStrike">
                <a:solidFill>
                  <a:srgbClr val="000000"/>
                </a:solidFill>
                <a:latin typeface="Verdana"/>
              </a:rPr>
              <a:t> способствовать  формированию у юных техников знаний о профессиях.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Задача </a:t>
            </a:r>
            <a:r>
              <a:rPr b="0" lang="ru-RU" sz="2000" spc="-1" strike="noStrike">
                <a:solidFill>
                  <a:srgbClr val="000000"/>
                </a:solidFill>
                <a:latin typeface="Verdana"/>
              </a:rPr>
              <a:t>  -  ребенок на каждую букву алфавита должен назвать  профессию.</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Материал и оборудование:</a:t>
            </a:r>
            <a:r>
              <a:rPr b="0" lang="ru-RU" sz="2000" spc="-1" strike="noStrike">
                <a:solidFill>
                  <a:srgbClr val="000000"/>
                </a:solidFill>
                <a:latin typeface="Verdana"/>
              </a:rPr>
              <a:t> лист бумаги, ручка или карандаш.</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Ход игр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ети на чистых листах бумаги должны написать одну или несколько профессий на каждую букву алфавит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Образец: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А</a:t>
            </a:r>
            <a:r>
              <a:rPr b="0" lang="ru-RU" sz="2000" spc="-1" strike="noStrike">
                <a:solidFill>
                  <a:srgbClr val="000000"/>
                </a:solidFill>
                <a:latin typeface="Verdana"/>
              </a:rPr>
              <a:t> – артис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Б</a:t>
            </a:r>
            <a:r>
              <a:rPr b="0" lang="ru-RU" sz="2000" spc="-1" strike="noStrike">
                <a:solidFill>
                  <a:srgbClr val="000000"/>
                </a:solidFill>
                <a:latin typeface="Verdana"/>
              </a:rPr>
              <a:t> - барист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В</a:t>
            </a:r>
            <a:r>
              <a:rPr b="0" lang="ru-RU" sz="2000" spc="-1" strike="noStrike">
                <a:solidFill>
                  <a:srgbClr val="000000"/>
                </a:solidFill>
                <a:latin typeface="Verdana"/>
              </a:rPr>
              <a:t> – врач и т.д.</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Рисунок 1" descr="https://mykaleidoscope.ru/x/uploads/posts/2022-09/1663602814_51-mykaleidoscope-ru-p-interes-k-professii-krasivo-58.jpg"/>
          <p:cNvPicPr/>
          <p:nvPr/>
        </p:nvPicPr>
        <p:blipFill>
          <a:blip r:embed="rId1"/>
          <a:srcRect l="65376" t="0" r="0" b="49641"/>
          <a:stretch/>
        </p:blipFill>
        <p:spPr>
          <a:xfrm>
            <a:off x="7236000" y="3573360"/>
            <a:ext cx="1106280" cy="214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Box 1"/>
          <p:cNvSpPr/>
          <p:nvPr/>
        </p:nvSpPr>
        <p:spPr>
          <a:xfrm>
            <a:off x="324000" y="333360"/>
            <a:ext cx="8424720" cy="658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Verdana"/>
              </a:rPr>
              <a:t>Игра №2 «Ключевые слов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Цель:</a:t>
            </a:r>
            <a:r>
              <a:rPr b="0" lang="ru-RU" sz="1400" spc="-1" strike="noStrike">
                <a:solidFill>
                  <a:srgbClr val="000000"/>
                </a:solidFill>
                <a:latin typeface="Verdana"/>
              </a:rPr>
              <a:t> способствовать  формированию у юных техников знаний о профессиях.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Задача </a:t>
            </a:r>
            <a:r>
              <a:rPr b="0" lang="ru-RU" sz="1400" spc="-1" strike="noStrike">
                <a:solidFill>
                  <a:srgbClr val="000000"/>
                </a:solidFill>
                <a:latin typeface="Verdana"/>
              </a:rPr>
              <a:t>  -  ребенок должен назвать к какой  профессии можно отнести перечисленные ниже слов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Материал и оборудование:</a:t>
            </a:r>
            <a:r>
              <a:rPr b="0" lang="ru-RU" sz="1400" spc="-1" strike="noStrike">
                <a:solidFill>
                  <a:srgbClr val="000000"/>
                </a:solidFill>
                <a:latin typeface="Verdana"/>
              </a:rPr>
              <a:t> лист бумаги, ручка или каранда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Ход игр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Дети на предложенных  распечатках   - должны написать профессию, которая характеризуется  предложенными словам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Образец: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1.Земля, природа, поле, теплица, сад, сорт, растения, уход, плоды, зерно, удобрения, урожай  – </a:t>
            </a:r>
            <a:r>
              <a:rPr b="1" lang="ru-RU" sz="1400" spc="-1" strike="noStrike">
                <a:solidFill>
                  <a:srgbClr val="000000"/>
                </a:solidFill>
                <a:latin typeface="Verdana"/>
              </a:rPr>
              <a:t>это профессия называется</a:t>
            </a:r>
            <a:r>
              <a:rPr b="0" lang="ru-RU" sz="1400" spc="-1" strike="noStrike">
                <a:solidFill>
                  <a:srgbClr val="000000"/>
                </a:solidFill>
                <a:latin typeface="Verdana"/>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Новости, современность, люди, оперативность, редакция, факты – </a:t>
            </a:r>
            <a:r>
              <a:rPr b="1" lang="ru-RU" sz="1400" spc="-1" strike="noStrike">
                <a:solidFill>
                  <a:srgbClr val="000000"/>
                </a:solidFill>
                <a:latin typeface="Verdana"/>
              </a:rPr>
              <a:t>это профессия называется</a:t>
            </a:r>
            <a:r>
              <a:rPr b="0" lang="ru-RU" sz="1400" spc="-1" strike="noStrike">
                <a:solidFill>
                  <a:srgbClr val="000000"/>
                </a:solidFill>
                <a:latin typeface="Verdana"/>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3.Природа, человек, чистота, мусор, загрязнения, планета, окружающая среда –  </a:t>
            </a:r>
            <a:r>
              <a:rPr b="1" lang="ru-RU" sz="1400" spc="-1" strike="noStrike">
                <a:solidFill>
                  <a:srgbClr val="000000"/>
                </a:solidFill>
                <a:latin typeface="Verdana"/>
              </a:rPr>
              <a:t>это профессия называется</a:t>
            </a:r>
            <a:r>
              <a:rPr b="0" lang="ru-RU" sz="1400" spc="-1" strike="noStrike">
                <a:solidFill>
                  <a:srgbClr val="000000"/>
                </a:solidFill>
                <a:latin typeface="Verdana"/>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4.Тетрадь, указка, доска, очки, оценки, класс, мел, звонок, глобус – </a:t>
            </a:r>
            <a:r>
              <a:rPr b="1" lang="ru-RU" sz="1400" spc="-1" strike="noStrike">
                <a:solidFill>
                  <a:srgbClr val="000000"/>
                </a:solidFill>
                <a:latin typeface="Verdana"/>
              </a:rPr>
              <a:t>это профессия называется</a:t>
            </a:r>
            <a:r>
              <a:rPr b="0" lang="ru-RU" sz="1400" spc="-1" strike="noStrike">
                <a:solidFill>
                  <a:srgbClr val="000000"/>
                </a:solidFill>
                <a:latin typeface="Verdana"/>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5.Машина, гараж, техосмотр, бензин, руль, дорога, автобус, ремень безопасности – </a:t>
            </a:r>
            <a:r>
              <a:rPr b="1" lang="ru-RU" sz="1400" spc="-1" strike="noStrike">
                <a:solidFill>
                  <a:srgbClr val="000000"/>
                </a:solidFill>
                <a:latin typeface="Verdana"/>
              </a:rPr>
              <a:t>это профессия называется</a:t>
            </a:r>
            <a:r>
              <a:rPr b="0" lang="ru-RU" sz="1400" spc="-1" strike="noStrike">
                <a:solidFill>
                  <a:srgbClr val="000000"/>
                </a:solidFill>
                <a:latin typeface="Verdana"/>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6.Сахар, морковь, компот, кастрюля, половник, каша, белый колпак, рецепты  – </a:t>
            </a:r>
            <a:r>
              <a:rPr b="1" lang="ru-RU" sz="1400" spc="-1" strike="noStrike">
                <a:solidFill>
                  <a:srgbClr val="000000"/>
                </a:solidFill>
                <a:latin typeface="Verdana"/>
              </a:rPr>
              <a:t>это профессия называется</a:t>
            </a:r>
            <a:r>
              <a:rPr b="0" lang="ru-RU" sz="1400" spc="-1" strike="noStrike">
                <a:solidFill>
                  <a:srgbClr val="000000"/>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7.Завтрак, игрушки, шкафчик, песочница, утренник, полдник, занятия, игры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это профессия называется</a:t>
            </a:r>
            <a:r>
              <a:rPr b="0" lang="ru-RU" sz="1400" spc="-1" strike="noStrike">
                <a:solidFill>
                  <a:srgbClr val="000000"/>
                </a:solidFill>
                <a:latin typeface="Verdana"/>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8.Белый халат, градусник, кабинет, рецепт, витамины, ангина, анализы, наблюдение – </a:t>
            </a:r>
            <a:r>
              <a:rPr b="1" lang="ru-RU" sz="1400" spc="-1" strike="noStrike">
                <a:solidFill>
                  <a:srgbClr val="000000"/>
                </a:solidFill>
                <a:latin typeface="Verdana"/>
              </a:rPr>
              <a:t>это профессия называется</a:t>
            </a:r>
            <a:r>
              <a:rPr b="0" lang="ru-RU" sz="1400" spc="-1" strike="noStrike">
                <a:solidFill>
                  <a:srgbClr val="000000"/>
                </a:solidFill>
                <a:latin typeface="Verdana"/>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Box 1"/>
          <p:cNvSpPr/>
          <p:nvPr/>
        </p:nvSpPr>
        <p:spPr>
          <a:xfrm>
            <a:off x="324000" y="260280"/>
            <a:ext cx="849600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Verdana"/>
              </a:rPr>
              <a:t>Игра №3 «Поймай – скаж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Цель: </a:t>
            </a:r>
            <a:r>
              <a:rPr b="0" lang="ru-RU" sz="1800" spc="-1" strike="noStrike">
                <a:solidFill>
                  <a:srgbClr val="000000"/>
                </a:solidFill>
                <a:latin typeface="Arial"/>
              </a:rPr>
              <a:t>Закрепить знания о профессиях взрослы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териал и оборудование:</a:t>
            </a:r>
            <a:r>
              <a:rPr b="0" lang="ru-RU" sz="1800" spc="-1" strike="noStrike">
                <a:solidFill>
                  <a:srgbClr val="000000"/>
                </a:solidFill>
                <a:latin typeface="Arial"/>
              </a:rPr>
              <a:t> мя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од игр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ети становятся в круг, ведущий, бросая мяч детям, называет профессию. Поймавший мяч бросает его ведущему, называя, что делает человек этой професс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разец: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рач – лечи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удожник – рису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ар – вари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жарный – туши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отник – строга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Рисунок 1" descr="D:\Users\User\Desktop\1.jpg"/>
          <p:cNvPicPr/>
          <p:nvPr/>
        </p:nvPicPr>
        <p:blipFill>
          <a:blip r:embed="rId1"/>
          <a:srcRect l="31871" t="0" r="38602" b="47922"/>
          <a:stretch/>
        </p:blipFill>
        <p:spPr>
          <a:xfrm>
            <a:off x="6516720" y="3500280"/>
            <a:ext cx="1752480" cy="231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11-15T05:05:26Z</dcterms:created>
  <dc:creator>User</dc:creator>
  <dc:description/>
  <dc:language>en-US</dc:language>
  <cp:lastModifiedBy>User</cp:lastModifiedBy>
  <dcterms:modified xsi:type="dcterms:W3CDTF">2024-06-18T07:24:05Z</dcterms:modified>
  <cp:revision>119</cp:revision>
  <dc:subject/>
  <dc:title>Слайд 1</dc:title>
</cp:coreProperties>
</file>