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9BB-CFF1-4759-896E-19C23F40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C4A-D5CB-4184-BBD0-8B79542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0F7-B20A-4C91-B2D7-F643C6E3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2EE-380C-40B6-83A6-A3D12B0C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CA7-F5A0-42B2-BFE4-AFC04114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E6DE-0B69-495F-A4A9-FC9A758B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03D0-AB4B-4D22-B0C1-410ABCB7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492-AA79-492A-9BCA-A99820FC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144C-FF1B-480C-AF42-7188BC13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175-770E-4432-BA37-98452AF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469E-DACE-4C1F-997B-60324BF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B1A-DA3C-4535-8C4C-0485911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BE8E-BE6F-4A4B-A0A5-39A1420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010-39E9-447A-A592-5B428D4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8A8A-204C-4CF7-B021-722269C1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5D3C-7F8A-4CF6-81A0-3F505557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FBE9-1D84-46F8-B375-BB2CD6E8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80B9-4E74-43AE-9EEB-440603AC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952C-E673-4AB9-BFBD-7A1EB63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C1F1-F7DB-4BA1-8357-CA27C7B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ABA6-0E00-465C-BDCF-34F42EC9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92E0-9E14-484F-A6E2-163E49F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E60-509A-4C7E-9AE6-8735E6C4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6B3D-5DB2-49BD-98D5-06D24984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C415-20F8-40F4-A36D-A1EECBC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9DCA-735A-46D6-B2F0-616D6682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2F28-2720-460F-8706-9FF7945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3404-ECAF-41FE-8807-6E8234AC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DF6E-9B02-408C-B587-7C84F03C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0C06-3583-4111-B812-E7412C68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164E-D4F2-40DC-9252-09EB06DD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98AB-7B70-4BA4-88CC-5945202F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E58D-F914-40F1-8A51-2F156A73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848-ABDA-4B4F-B7A9-69AB64B9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9423-119B-454C-9460-6067BB6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88BE-DF1E-4BB1-AD79-9D35B059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C309-FB9C-4A78-8263-A47E840A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3069-B654-40B2-943E-91B4B17B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1226-76A2-4081-9BFA-70FF44A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43B7-CB79-4266-B507-9F1210BD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05C2-03BF-4B44-8FD3-5EA0021D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94F2-EE3E-4B84-8CC0-E51C9249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CA2E-98A3-4B1C-B822-8AA24411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42A0-F643-43CE-AE7B-B88BF2FB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C82-7867-45B5-86E8-A5C33CF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44A3-8684-4B53-9BF8-03CF692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1572-E717-42B7-A499-D6AEA3F4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588D-6B9C-4BA3-8736-D8D54A2C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9BBB-3668-42BB-9A64-8A507687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E25A-B560-4B41-B02E-11C8C031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14BD-48F9-430C-AF2A-5288E71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66F0-4439-457D-AFB8-E25200D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C4848-9AC8-402E-9023-38B93F4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F9E5-5B9F-40A3-8342-05D2758A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3E2D-8A79-4671-9678-168CC530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3EB-D46A-46F8-B950-6866E3BB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34BC-6134-497A-9995-ABE6BBB2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556-A328-49B2-97FF-0735B8E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78D-A62B-4AA4-9CE7-7A82294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B9D-D45E-40E9-97BC-B632173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739-E7F0-4CF9-A8A2-DF8542DD8A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EDC6-6B20-45D3-8B07-37183F07F8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2591-DF89-413A-A084-8EB749121A0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913-6293-4922-A668-E0903F33A06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778-94AB-47A2-A806-431DE1AF70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826920" y="1268280"/>
            <a:ext cx="6985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Муниципальное бюджет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Станция юных тех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Yu Gothic UI"/>
                <a:ea typeface="Yu Gothic UI"/>
              </a:rPr>
              <a:t>Творческое объеди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«МИР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00"/>
                </a:solidFill>
                <a:uFillTx/>
                <a:latin typeface="Alef"/>
                <a:ea typeface="Yu Gothic UI"/>
              </a:rPr>
              <a:t>ПРЕЗЕНТАЦИЯ 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Yu Gothic UI"/>
                <a:ea typeface="Yu Gothic UI"/>
              </a:rPr>
              <a:t>№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00"/>
                </a:solidFill>
                <a:latin typeface="Yu Gothic UI"/>
                <a:ea typeface="Yu Gothic UI"/>
              </a:rPr>
              <a:t>«ЭКСКУРСИИ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Yu Gothic UI"/>
                <a:ea typeface="Yu Gothic UI"/>
              </a:rPr>
              <a:t>АВТОР:  педагог ТИХОНОВА Е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971640" y="119700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Verdana"/>
              </a:rPr>
              <a:t>УЧЕБНАЯ ЭКСКУРСИЯ  -  форма организации учебно – воспитательного процесса, позволяющая проводить наблюдения и изучение различных  профессий  на различных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Verdana"/>
              </a:rPr>
              <a:t>ЭКСКУРСИЯ  как живая, непосредственная форма общения развивает эмоциональную отзывчивость, закладывает основы нравственного об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6" descr="Picture background"/>
          <p:cNvPicPr/>
          <p:nvPr/>
        </p:nvPicPr>
        <p:blipFill>
          <a:blip r:embed="rId1"/>
          <a:stretch/>
        </p:blipFill>
        <p:spPr>
          <a:xfrm>
            <a:off x="4211640" y="3357720"/>
            <a:ext cx="4618080" cy="30636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468360" y="549360"/>
            <a:ext cx="8207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Экскурсия = промышленный тури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 последние годы во всем мире бурно развивается промышленный туризм, который называют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«экономикой впечатл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Термин впервые был упомянут в 1999 году экономистами Джозефом Пейн и Джеймсом Гилмор в книге «Экономика впечатл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187280" y="1557360"/>
            <a:ext cx="6480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КСКУРС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наглядный метод получения определенных знаний, воспитания путем посещений по заранее разработанной теме (музей, библиотека, магазин, пожарная часть, цех сетей и подстанций градообразующего предприятия ФГУП «ПО «МАЯК», поликлиника, хлебзавод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187280" y="1700280"/>
            <a:ext cx="63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лжительность экскурсии должна составлять 45 – 9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кскурсии желательно проводить в первой половине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рганизации экскурсии необходимо соблюдать технику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826920" y="1341360"/>
            <a:ext cx="7417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Verdana"/>
              </a:rPr>
              <a:t>По организационной структуре экскурсия должна состоять из 3 ча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Вводная часть 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(доставка транспортом до предприятия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Экскурсия по предприятию 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(экскурсовод проводит экскурсию по самому предприятию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Заключительная часть 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(возвращение обучающихся с предприятия в учрежд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1187280" y="1197000"/>
            <a:ext cx="691380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Verdana"/>
              </a:rPr>
              <a:t>По содержанию  экскурсия соединяет в себе 5 бл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торический (обучающиеся получают краткую информацию об истории предприятия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хнический (обучающиеся получают информацию о технологических особенностях данного производства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Экономический (обучающиеся получают краткую информацию об экономических показателях предприятия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нтерактивный (обучающимся предлагают «попробовать» себя на производств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фориентационный (обучающиеся  получают информацию о перспективах развития данного предприятия, какие специалисты требуются, какими качествами нужно обладать для работы, информация о высших и средних специальных учебных заведениях, готовящих специалистов для работы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826920" y="1341360"/>
            <a:ext cx="70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Промышленный туризм (экскурсия) составленный в соответствии с вышеназванным стандартом, будет интересным, зрелищным и доступным дл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333300"/>
                </a:solidFill>
                <a:latin typeface="Verdana"/>
              </a:rPr>
              <a:t>Для предприятия такие экскурсии будут решать не только маркетинговые задачи, а для детей способствуют решению кадровой задачи, благодаря профориентационной и интерактивной составляющ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826920" y="184464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Verdana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06-18T07:23:33Z</dcterms:modified>
  <cp:revision>114</cp:revision>
  <dc:subject/>
  <dc:title>Слайд 1</dc:title>
</cp:coreProperties>
</file>