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4BE-44B9-4F36-BABA-5A013E47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495-F0C0-45D6-B395-3246517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CB8-6251-44EF-8C17-B1B08A5A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CC3-54F1-4B44-9A88-FF4A9E78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CD22-1136-4BE9-B2AC-89DEC57C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08C-E1AD-48DD-987F-9C1A74AC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BBED-64A4-44E1-A026-2982B7F9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D067-5201-4035-8D35-8EAB0D8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A4B7-53DA-4FED-8E3B-1727B3E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B742-82DD-49D3-95B4-93EFAFB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326-DDF1-4AEF-97DC-D0B1B93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E5D-D13B-430A-A9CC-AA82662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9C51-586E-4EB4-8F40-3CABB76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0A4-8377-4E40-932D-A8C3816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2228-4600-46CA-AD1F-90A7191A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A4E-C992-444C-AA19-F1FDF0A4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D85-9405-424A-A119-1FD677BB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7944-A506-4274-AB3E-62158DFF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3C37-6CDF-4C72-A9AF-7954771D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7D6E-7883-4455-9135-16DB48A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B096-A276-438A-99F4-E5FA6D7C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FE63-735C-4BD2-B250-7C88255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76D-E20D-46CB-A6BC-358A3AE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1E1C-2249-438F-A242-202156B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A337-D200-4E58-B9AF-36019C9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F0C8-0603-43C8-8E27-1F85680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4FDD-6591-442E-9427-422E16C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4CFE-C99E-459E-9F69-3E28CC16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0E48-FB39-488C-A814-C9A0AACD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D244-9014-42E4-95D9-FFAA676E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0B80-7149-472A-8897-E7927380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2544-830C-4549-8999-F4ADF2F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F3CA-AA9E-44CA-BD27-F66EFC40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B61-07DA-47F9-B5FD-9BC828A7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AD42-5E60-4059-BB7E-20D0DFB2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C664-8016-4094-87B2-BDB1E61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ABF4-F184-4490-AE4F-2B7B6CB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6D05-97B4-4A32-B95D-FB84AFBD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8BD1-D461-41AC-A0CD-822BC5B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8320-A0CA-473D-944C-9A0E7CA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F2CC-6B58-42C4-8237-81A04CEE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CAC3-3458-40C9-8272-6E1F719A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F6342-455E-4D8C-A5CE-D1F647EE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9E53-62B6-44C5-87FC-5F9E2865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638-3483-43DC-8CE8-6B97AADA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32B0-13BA-4149-A23D-E4E07620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1F29-D305-4446-95A7-3E83778B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A2C6-CC5E-4A88-8169-1358C0A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3AD6-5CB4-47F4-88BE-FBC56B0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F9EE-E3D4-43AF-B299-ED3AA9D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E279-DA8D-4846-9B66-A2905BB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28740-5634-4755-ACA6-9D330C5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6919-C9B5-4A44-A81E-17227FA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8222-C43C-4735-84A6-E9BF8E5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2724-D19C-4F17-9B1A-04EAC51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34D-00EC-4E73-AB6B-EC3B57C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BE3D-859B-4666-BDA3-F7F02A09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1BA-E4B9-495B-B4EE-3A02D93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551-4B1B-4A17-8C4B-2E0F05E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E73-4EB4-4A67-BF60-74F52DA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132C-D9E3-481D-9D60-F796864716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CF9-23C2-42A1-8633-CDE53CE249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961-D562-4F4F-94EE-EE71618196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F0F-F9BE-4A8D-911B-C5BC4BEE46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ABF2-30CF-45F3-A82B-ADCE3DE8B3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468360" y="549360"/>
            <a:ext cx="8351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Муниципальное бюджет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«Станция юных техни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0141b"/>
                </a:solidFill>
                <a:uFillTx/>
                <a:latin typeface="Verdana"/>
              </a:rPr>
              <a:t>Творческое объединение: «МИР ПРОФЕССИЙ</a:t>
            </a: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резентация №1«Вводное заня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к дополнительной </a:t>
            </a: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общеобразов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общеразвивающей програм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141b"/>
                </a:solidFill>
                <a:latin typeface="Arial Unicode MS"/>
                <a:ea typeface="Arial Unicode MS"/>
              </a:rPr>
              <a:t>«Мир професс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Verdana"/>
              </a:rPr>
              <a:t>АВТОР: ТИХОНОВА Е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7" descr="https://mykaleidoscope.ru/x/uploads/posts/2022-09/1663602814_51-mykaleidoscope-ru-p-interes-k-professii-krasivo-58.jpg"/>
          <p:cNvPicPr/>
          <p:nvPr/>
        </p:nvPicPr>
        <p:blipFill>
          <a:blip r:embed="rId1"/>
          <a:srcRect l="0" t="0" r="67312" b="49641"/>
          <a:stretch/>
        </p:blipFill>
        <p:spPr>
          <a:xfrm>
            <a:off x="4643280" y="3573360"/>
            <a:ext cx="1656000" cy="28004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" descr="https://mykaleidoscope.ru/x/uploads/posts/2022-09/1663602814_51-mykaleidoscope-ru-p-interes-k-professii-krasivo-58.jpg"/>
          <p:cNvPicPr/>
          <p:nvPr/>
        </p:nvPicPr>
        <p:blipFill>
          <a:blip r:embed="rId2"/>
          <a:srcRect l="0" t="49641" r="67152" b="0"/>
          <a:stretch/>
        </p:blipFill>
        <p:spPr>
          <a:xfrm>
            <a:off x="611280" y="3429000"/>
            <a:ext cx="15303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" descr="https://mykaleidoscope.ru/x/uploads/posts/2022-09/1663602814_51-mykaleidoscope-ru-p-interes-k-professii-krasivo-58.jpg"/>
          <p:cNvPicPr/>
          <p:nvPr/>
        </p:nvPicPr>
        <p:blipFill>
          <a:blip r:embed="rId3"/>
          <a:srcRect l="32852" t="49761" r="30609" b="0"/>
          <a:stretch/>
        </p:blipFill>
        <p:spPr>
          <a:xfrm>
            <a:off x="6804000" y="3213000"/>
            <a:ext cx="1817640" cy="3333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" descr="https://mykaleidoscope.ru/x/uploads/posts/2022-09/1663602814_51-mykaleidoscope-ru-p-interes-k-professii-krasivo-58.jpg"/>
          <p:cNvPicPr/>
          <p:nvPr/>
        </p:nvPicPr>
        <p:blipFill>
          <a:blip r:embed="rId4"/>
          <a:srcRect l="69714" t="50003" r="0" b="0"/>
          <a:stretch/>
        </p:blipFill>
        <p:spPr>
          <a:xfrm>
            <a:off x="2843280" y="3573360"/>
            <a:ext cx="1322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539640" y="476280"/>
            <a:ext cx="8136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</a:rPr>
              <a:t>Формы аттестаци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Творческий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Презен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</a:rPr>
              <a:t>Результаты участия в конкур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2" descr="D:\Users\User\Desktop\ПРЕЗЕНТАЦИИ МИР ПРОФЕССИЙ\эмблема мир профессий\1.jpg"/>
          <p:cNvPicPr/>
          <p:nvPr/>
        </p:nvPicPr>
        <p:blipFill>
          <a:blip r:embed="rId1"/>
          <a:stretch/>
        </p:blipFill>
        <p:spPr>
          <a:xfrm>
            <a:off x="5508720" y="4149720"/>
            <a:ext cx="31924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324000" y="333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" descr="https://mykaleidoscope.ru/x/uploads/posts/2022-09/1663602814_51-mykaleidoscope-ru-p-interes-k-professii-krasivo-58.jpg"/>
          <p:cNvPicPr/>
          <p:nvPr/>
        </p:nvPicPr>
        <p:blipFill>
          <a:blip r:embed="rId1"/>
          <a:srcRect l="0" t="0" r="67312" b="49641"/>
          <a:stretch/>
        </p:blipFill>
        <p:spPr>
          <a:xfrm>
            <a:off x="7308720" y="404640"/>
            <a:ext cx="1513080" cy="31100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" descr="https://mykaleidoscope.ru/x/uploads/posts/2022-09/1663602814_51-mykaleidoscope-ru-p-interes-k-professii-krasivo-58.jpg"/>
          <p:cNvPicPr/>
          <p:nvPr/>
        </p:nvPicPr>
        <p:blipFill>
          <a:blip r:embed="rId2"/>
          <a:srcRect l="30933" t="0" r="32213" b="49521"/>
          <a:stretch/>
        </p:blipFill>
        <p:spPr>
          <a:xfrm>
            <a:off x="4356000" y="1052640"/>
            <a:ext cx="1971720" cy="3600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https://mykaleidoscope.ru/x/uploads/posts/2022-09/1663602814_51-mykaleidoscope-ru-p-interes-k-professii-krasivo-58.jpg"/>
          <p:cNvPicPr/>
          <p:nvPr/>
        </p:nvPicPr>
        <p:blipFill>
          <a:blip r:embed="rId3"/>
          <a:srcRect l="65376" t="0" r="0" b="49641"/>
          <a:stretch/>
        </p:blipFill>
        <p:spPr>
          <a:xfrm>
            <a:off x="324000" y="404640"/>
            <a:ext cx="1726920" cy="3353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" descr="https://mykaleidoscope.ru/x/uploads/posts/2022-09/1663602814_51-mykaleidoscope-ru-p-interes-k-professii-krasivo-58.jpg"/>
          <p:cNvPicPr/>
          <p:nvPr/>
        </p:nvPicPr>
        <p:blipFill>
          <a:blip r:embed="rId4"/>
          <a:srcRect l="0" t="49641" r="67152" b="0"/>
          <a:stretch/>
        </p:blipFill>
        <p:spPr>
          <a:xfrm>
            <a:off x="1619280" y="3429000"/>
            <a:ext cx="1473120" cy="30099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https://mykaleidoscope.ru/x/uploads/posts/2022-09/1663602814_51-mykaleidoscope-ru-p-interes-k-professii-krasivo-58.jpg"/>
          <p:cNvPicPr/>
          <p:nvPr/>
        </p:nvPicPr>
        <p:blipFill>
          <a:blip r:embed="rId5"/>
          <a:srcRect l="32852" t="49761" r="30609" b="0"/>
          <a:stretch/>
        </p:blipFill>
        <p:spPr>
          <a:xfrm>
            <a:off x="6227640" y="3284640"/>
            <a:ext cx="1700280" cy="31176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" descr="https://mykaleidoscope.ru/x/uploads/posts/2022-09/1663602814_51-mykaleidoscope-ru-p-interes-k-professii-krasivo-58.jpg"/>
          <p:cNvPicPr/>
          <p:nvPr/>
        </p:nvPicPr>
        <p:blipFill>
          <a:blip r:embed="rId6"/>
          <a:srcRect l="69714" t="50003" r="0" b="0"/>
          <a:stretch/>
        </p:blipFill>
        <p:spPr>
          <a:xfrm>
            <a:off x="2771640" y="1268280"/>
            <a:ext cx="158436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468360" y="333360"/>
            <a:ext cx="8280360" cy="35229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Цель: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4425d"/>
                </a:solidFill>
                <a:latin typeface="Comic Sans MS"/>
                <a:ea typeface="BatangChe"/>
              </a:rPr>
              <a:t>познакомить обучающихся с содержанием и планом работы в учебном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4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659640" y="4437000"/>
            <a:ext cx="18446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95280" y="110232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Дополнительная обще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общеразвивающая 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«Мир професс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Направленность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художе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Возраст обучающихс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7  – 14 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Срок реализации программы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2   года, 64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Уровень осво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ба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Форма реализации:</a:t>
            </a: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Verdana"/>
                <a:ea typeface="Times New Roman"/>
              </a:rPr>
              <a:t>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3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659640" y="4437000"/>
            <a:ext cx="18446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468360" y="404640"/>
            <a:ext cx="81360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83f04"/>
                </a:solidFill>
                <a:latin typeface="Arial"/>
              </a:rPr>
              <a:t>Программа «Мир професс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83f04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783f04"/>
                </a:solidFill>
                <a:latin typeface="Arial"/>
              </a:rPr>
              <a:t>направлена на расширение кругозора  школьников и подростков по профориентации и создание условий для формирования личностных кач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2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5940360" y="3645000"/>
            <a:ext cx="2495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539640" y="765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f04"/>
                </a:solidFill>
                <a:latin typeface="Comic Sans MS"/>
                <a:ea typeface="BatangChe"/>
              </a:rPr>
              <a:t>Цель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611280" y="13413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создание условий для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у обучающихся познаватель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Arial"/>
              </a:rPr>
              <a:t>к миру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4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5940360" y="3645000"/>
            <a:ext cx="2495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539640" y="549360"/>
            <a:ext cx="806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Задачи программы «Мир профессий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468360" y="113580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формировать представление о различных проф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познакомить с историей появления основ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мета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формировать интерес к профессиям через встречи с представителями различных професс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развивать самостоятельность, ответственность у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личнос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воспитывать уважительное отношение к человеку – професси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Arial"/>
                <a:ea typeface="Times New Roman"/>
              </a:rPr>
              <a:t>воспитывать целеустремленность, настойчивость в достижении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476280"/>
            <a:ext cx="828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468360" y="113904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предме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знания об основных и наиболее востребованных професс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метапредмет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навыки работы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получат навыки общения со специалистами различ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f04"/>
                </a:solidFill>
                <a:uFillTx/>
                <a:latin typeface="Arial"/>
                <a:ea typeface="Times New Roman"/>
              </a:rPr>
              <a:t>личнос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уважительно относятся к людям – профессиона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f04"/>
                </a:solidFill>
                <a:latin typeface="Arial"/>
                <a:ea typeface="Times New Roman"/>
              </a:rPr>
              <a:t>дети стали более целеустремленнее и настойчив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3" descr="D:\Users\User\Desktop\ПРЕЗЕНТАЦИИ МИР ПРОФЕССИЙ\эмблема мир профессий\4.jpg"/>
          <p:cNvPicPr/>
          <p:nvPr/>
        </p:nvPicPr>
        <p:blipFill>
          <a:blip r:embed="rId1"/>
          <a:stretch/>
        </p:blipFill>
        <p:spPr>
          <a:xfrm>
            <a:off x="680400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68360" y="620640"/>
            <a:ext cx="8136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Темы программы 1 года обучения: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Вводн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збука профессий от А до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лас профессий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Конкурсы, игры, 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тес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Итогов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D:\Users\User\Desktop\ПРЕЗЕНТАЦИИ МИР ПРОФЕССИЙ\эмблема мир профессий\1.jpg"/>
          <p:cNvPicPr/>
          <p:nvPr/>
        </p:nvPicPr>
        <p:blipFill>
          <a:blip r:embed="rId1"/>
          <a:stretch/>
        </p:blipFill>
        <p:spPr>
          <a:xfrm>
            <a:off x="5219640" y="4076640"/>
            <a:ext cx="3192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468360" y="476280"/>
            <a:ext cx="8136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783f04"/>
                </a:solidFill>
                <a:uFillTx/>
                <a:latin typeface="Comic Sans MS"/>
                <a:ea typeface="BatangChe"/>
              </a:rPr>
              <a:t>Темы программы 2 года обучения:</a:t>
            </a:r>
            <a:r>
              <a:rPr b="0" lang="ru-RU" sz="34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Вводн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Знакомство с профессиями разны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лас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Профессии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Конкурсы, игры, 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Аттес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83f0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f04"/>
                </a:solidFill>
                <a:latin typeface="Comic Sans MS"/>
                <a:ea typeface="BatangChe"/>
              </a:rPr>
              <a:t>Итоговое за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2" descr="D:\Users\User\Desktop\ПРЕЗЕНТАЦИИ МИР ПРОФЕССИЙ\эмблема мир профессий\7.jpg"/>
          <p:cNvPicPr/>
          <p:nvPr/>
        </p:nvPicPr>
        <p:blipFill>
          <a:blip r:embed="rId1"/>
          <a:stretch/>
        </p:blipFill>
        <p:spPr>
          <a:xfrm>
            <a:off x="6300720" y="4292640"/>
            <a:ext cx="18432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05-28T04:29:43Z</dcterms:modified>
  <cp:revision>115</cp:revision>
  <dc:subject/>
  <dc:title>Слайд 1</dc:title>
</cp:coreProperties>
</file>