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D142-1A43-4A4E-8C45-F63025B5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32B6-68A5-4897-BA6A-8B1A1A81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3708-F615-4271-96EF-03A42990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5CF8-E9CB-4101-AD05-00EEF12C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9AA4-EED4-4848-A32B-BD08C52F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7A13-14FC-437F-ACE7-C11EA707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ABBF-BC03-413E-82FD-CD791C3E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2A61-B249-442B-B90E-3569916A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96A3-EAB6-4EAA-9F92-9B262569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8EA6-93A2-4548-9968-E8BB6D25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32FB-3984-448B-9F0A-E36A59CB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D922-4495-4CA0-A506-35E0908A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767F-9102-4CC8-A386-0BD94CE4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3DFA-1827-416B-83A3-FCDFE6CB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EBF0-625A-428E-A32A-A8F5EDAC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4334-64FC-4328-9904-F2C24B4A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011E-0512-4A70-B369-9F078669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04B5A-73F1-41AA-8F63-963CDC2A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50AAA-1748-431A-AEB3-A728C12F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6968C-6AC2-4A13-A810-E8137E43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D23C9-52C2-4F80-8E4B-73694C71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D2E1A-D5F8-4250-82CE-ADC7CDAE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CD87-D884-4A26-AE39-2F9307FB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B8B6C-8AD7-4A66-9B10-5E51E75B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32F6A-1DC4-4EF4-A463-460EBD3A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A8882-29EB-4E51-B814-BCE0DEBF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084C0-3A98-4CE4-B488-8B028911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DA589-5E10-4083-82F0-793E220A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0C165-518D-4416-9B63-69CB18AF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E0ACB-549F-4888-B349-78401ADF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52C02-ECFE-44EF-89BD-E7EDBADE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6EBCF-D2E0-4898-8EF9-2360EF80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EF72D-4ADF-4A5F-B97F-244B9B39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B0BC-DB58-4CCE-8748-0144DFA2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2BDF1-C02F-453B-AABE-875AFE96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CA52C-599D-4F5D-A921-BCD1729D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FF5AB-29DF-40F2-8161-FFF5C262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FE9BE-EC68-4BBE-A80A-790BDAC3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9F92A-5BDB-4072-8B51-52961F11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88C16-47A7-46F3-94C6-5C6B4D6D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83F84-0D4B-4068-B1B1-C769ACE1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E95CC-0047-44F9-9EA9-4F454922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10119-9700-484A-BF94-68BE3696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149D0-1929-408D-B815-B901137E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9409-7BDB-4FD1-8DDE-CF99642C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7A414-E044-494E-A48E-EC80C467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BED1B-9C59-4F80-8DE3-E1E85BAA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A59FD-03C7-4BCD-891A-3235C2DC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0C653-0E83-4D9A-84E0-5C9A75C4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F3499-FAD0-4A45-8976-E3BBD0ED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0F6C8-4144-4264-B9C4-44C40D0C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B6ABD-F40A-40F2-9A86-025A1C5B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D67B2-C5AB-4728-915D-7CF64410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50754-1372-43D6-A430-CE093338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C70DD-37D5-4EF8-9DC5-C938254D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7157-26F2-4E9C-801A-78B149A1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EB7ED-50C9-402F-B2A5-7B48BFFD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1127-50E3-456C-B917-A2EFF807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29B4-C933-434D-9E43-B9AF5C1B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6FD6-D622-47D8-B197-8594A8FF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6A36-C0D4-4371-986F-5B49963450C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0C20-A69D-4CC4-9480-F767DD592DA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489A-EB06-4D07-9544-5A221EB11AE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4354-BE71-4650-87A5-D9E15117C7D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342C-CD2C-456A-AAC2-20E4D677ADC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TextBox 9"/>
          <p:cNvSpPr/>
          <p:nvPr/>
        </p:nvSpPr>
        <p:spPr>
          <a:xfrm>
            <a:off x="826920" y="1268280"/>
            <a:ext cx="7274160" cy="36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Yu Gothic UI"/>
                <a:ea typeface="Yu Gothic UI"/>
              </a:rPr>
              <a:t>Муниципальное бюджет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Yu Gothic UI"/>
                <a:ea typeface="Yu Gothic UI"/>
              </a:rPr>
              <a:t>дополнительного образ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Yu Gothic UI"/>
                <a:ea typeface="Yu Gothic UI"/>
              </a:rPr>
              <a:t>«Станция юных техников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Yu Gothic UI"/>
                <a:ea typeface="Yu Gothic UI"/>
              </a:rPr>
              <a:t>Творческое объедин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00"/>
                </a:solidFill>
                <a:uFillTx/>
                <a:latin typeface="Yu Gothic UI"/>
                <a:ea typeface="Yu Gothic UI"/>
              </a:rPr>
              <a:t>«МИР ПРОФЕСС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333300"/>
                </a:solidFill>
                <a:uFillTx/>
                <a:latin typeface="Alef"/>
                <a:ea typeface="Yu Gothic UI"/>
              </a:rPr>
              <a:t>ПРЕЗЕНТАЦИЯ </a:t>
            </a:r>
            <a:r>
              <a:rPr b="1" lang="ru-RU" sz="3500" spc="-1" strike="noStrike" u="sng">
                <a:solidFill>
                  <a:srgbClr val="333300"/>
                </a:solidFill>
                <a:uFillTx/>
                <a:latin typeface="Yu Gothic UI"/>
                <a:ea typeface="Yu Gothic UI"/>
              </a:rPr>
              <a:t>№7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3300"/>
                </a:solidFill>
                <a:latin typeface="Yu Gothic UI"/>
                <a:ea typeface="Yu Gothic UI"/>
              </a:rPr>
              <a:t>«АТТЕСТАЦИЯ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Yu Gothic UI"/>
                <a:ea typeface="Yu Gothic UI"/>
              </a:rPr>
              <a:t>АВТОР:  педагог ТИХОНОВА Е.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1116000" y="1413000"/>
            <a:ext cx="66960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аждый критерий оценивается по трём уровням: средний, выше среднего, высок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ритерии оценки результат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ценка качества освоения обучающимися программ выявляет  уровень их теоретических и практических умений и навы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Критерии  оценки уровня теоретической подготовки обучающих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ответствие уровня теоретических знаний программным требования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широта кругоз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Критерии  оценки уровня практической подготовки обучающих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ответствие уровня развития практических умений и навыков программным требования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ачество выполнения практического зад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2"/>
          <p:cNvSpPr/>
          <p:nvPr/>
        </p:nvSpPr>
        <p:spPr>
          <a:xfrm>
            <a:off x="1187280" y="1341360"/>
            <a:ext cx="640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ритерии оценки уровня развития и воспитанности учащих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ультура повед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ворческое отношение к выполнению практического зад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ккуратность и ответственность в раб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критерий оценивается по трем уровням: высокий, средний, низ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Уровни освоения  образовательной программы  обучающими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 100%  -   80% -высок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 79 %  -  50% - сред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иже 49%  -  низ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3" descr="Picture background"/>
          <p:cNvPicPr/>
          <p:nvPr/>
        </p:nvPicPr>
        <p:blipFill>
          <a:blip r:embed="rId1"/>
          <a:srcRect l="1819" t="1410" r="1944" b="23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2"/>
          <p:cNvSpPr/>
          <p:nvPr/>
        </p:nvSpPr>
        <p:spPr>
          <a:xfrm>
            <a:off x="1476360" y="184464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Verdana"/>
              </a:rPr>
              <a:t>СПАСИБ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Verdana"/>
              </a:rPr>
              <a:t>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Verdana"/>
              </a:rPr>
              <a:t>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5" descr="Picture background"/>
          <p:cNvPicPr/>
          <p:nvPr/>
        </p:nvPicPr>
        <p:blipFill>
          <a:blip r:embed="rId1"/>
          <a:srcRect l="1819" t="1410" r="1944" b="23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2"/>
          <p:cNvSpPr/>
          <p:nvPr/>
        </p:nvSpPr>
        <p:spPr>
          <a:xfrm>
            <a:off x="971640" y="119700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1403280" y="1125360"/>
            <a:ext cx="65534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00"/>
                </a:solidFill>
                <a:latin typeface="Verdana"/>
              </a:rPr>
              <a:t>Аттестация обучающихся</a:t>
            </a:r>
            <a:r>
              <a:rPr b="0" lang="ru-RU" sz="2200" spc="-1" strike="noStrike">
                <a:solidFill>
                  <a:srgbClr val="333300"/>
                </a:solidFill>
                <a:latin typeface="Verdan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00"/>
                </a:solidFill>
                <a:latin typeface="Verdana"/>
              </a:rPr>
              <a:t>- это подтверждение знаний и умений обучающегос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00"/>
                </a:solidFill>
                <a:latin typeface="Verdana"/>
              </a:rPr>
              <a:t>С её помощью обучающиеся демонстрируют свои теоретические и практические знания, навыки и умения, сформированные в течение обучения по дополнительной общеобразовательной общеразвивающей программ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4" descr="Picture background"/>
          <p:cNvPicPr/>
          <p:nvPr/>
        </p:nvPicPr>
        <p:blipFill>
          <a:blip r:embed="rId1"/>
          <a:stretch/>
        </p:blipFill>
        <p:spPr>
          <a:xfrm>
            <a:off x="324000" y="351000"/>
            <a:ext cx="8496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2"/>
          <p:cNvSpPr/>
          <p:nvPr/>
        </p:nvSpPr>
        <p:spPr>
          <a:xfrm>
            <a:off x="468360" y="549360"/>
            <a:ext cx="8207280" cy="56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СПОСОБЫ ПРОВЕРКИ ЗН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и проверка знаний и умений производится путем текущи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блюден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обучающимися. Они осуществляются на протяжении всего процесса обучения без выделения для них специального времени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екущие наблюд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водятся на любом этапе процесса усвоения. В ходе текущих наблюдений постепенно накапливаются данные о каждом, характеризующие как его достижения, так и упущения в работе. Эффективность образовательного процесса оценивается по сформированности духовно-нравственных качеств личности, высокому уровню мотивации обучающихся к техническому творчеству, по уровню развития творческих способностей, по активности участия в соревнованиях, конкурсах, по стилю работы и профессиональному самоопределению ребё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10" descr="Picture background"/>
          <p:cNvPicPr/>
          <p:nvPr/>
        </p:nvPicPr>
        <p:blipFill>
          <a:blip r:embed="rId1"/>
          <a:stretch/>
        </p:blipFill>
        <p:spPr>
          <a:xfrm>
            <a:off x="6588000" y="4653000"/>
            <a:ext cx="199872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3" descr="Picture background"/>
          <p:cNvPicPr/>
          <p:nvPr/>
        </p:nvPicPr>
        <p:blipFill>
          <a:blip r:embed="rId1"/>
          <a:srcRect l="1819" t="1410" r="1944" b="23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"/>
          <p:cNvSpPr/>
          <p:nvPr/>
        </p:nvSpPr>
        <p:spPr>
          <a:xfrm>
            <a:off x="1258920" y="1341360"/>
            <a:ext cx="69134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им из способов относительно объективного диагностического контроля является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естировани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овые задания используются для проведения текущего и промежуточного контр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межуточная   аттестация (участие в конкурсах, тестировани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ключительным этапом образовательного процесса по программе «Мир профессий» является промежуточная  аттестация воспитанников детского объединения в конце обучения. Цель  аттестации – выявление уровня развития способностей и личностных качеств ребенка и их соответствия прогнозируемым результатам образовательной программы. Подведение итогов организовано так, чтобы учащиеся испытали удовлетворение от проделанной работы, от преодоления возникших трудностей и познания ново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"/>
          <p:cNvSpPr/>
          <p:nvPr/>
        </p:nvSpPr>
        <p:spPr>
          <a:xfrm>
            <a:off x="1187280" y="1700280"/>
            <a:ext cx="63374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ормы аттестаци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рос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естировани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ворческий проект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зентац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зультаты участия в конкурса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1187280" y="1341360"/>
            <a:ext cx="655344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роки проведения аттест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кущий контроль успеваемости является составляющей внутренней системы качества образования в учреж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ценка качества освоения обучающимися дополнительной общеобразовательной общеразвивающей программы выявляет уровень достижения личностных, метапредметных и предметных результатов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1042920" y="1341360"/>
            <a:ext cx="66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ритерии оценки предметных результато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уровень теоретической подготовки: соответствие уровня теоретических знаний программным требованиям, широта кругозора в данной  образовательной области, свобода восприятия теоретической информации, осмысленность и свобода использования специальной терминолог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уровень практической подготовки обучающихся: соответствие уровня развития практических умений и навыков программным требованиям, свобода владения специальными навыками, качество выполнения практического задания, технологичность практическ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TextBox 2"/>
          <p:cNvSpPr/>
          <p:nvPr/>
        </p:nvSpPr>
        <p:spPr>
          <a:xfrm>
            <a:off x="1332000" y="1773360"/>
            <a:ext cx="619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ритерии оценки личностных результат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наличие мотивации к занятиям, участие в играх, конкурсах, творческих  проектах   и воспитательных мероприят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ритерии оценки метапредметных результат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уровень развития регулятивных, познавательных и коммуникативных способностей  обучающего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1-15T05:05:26Z</dcterms:created>
  <dc:creator>User</dc:creator>
  <dc:description/>
  <dc:language>en-US</dc:language>
  <cp:lastModifiedBy>User</cp:lastModifiedBy>
  <dcterms:modified xsi:type="dcterms:W3CDTF">2024-06-18T08:14:51Z</dcterms:modified>
  <cp:revision>123</cp:revision>
  <dc:subject/>
  <dc:title>Слайд 1</dc:title>
</cp:coreProperties>
</file>