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7791-09D6-48F1-84A4-6F2ABB670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92A0-75B8-4717-B9E3-8E21B19D5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8B3-CAE6-48B8-AB2B-A8C64AF9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58D-BDB9-48F6-B83B-BEAB5120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C92-37FD-4B98-B4E2-0B1585B3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2C1-D113-447B-BF4B-C78209B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F05D-4345-47F4-BC19-B4BC1B16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764D-F36C-4F99-A284-2F07E25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9F27-F6AE-4B09-A8CF-A36E1C1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7C17-A8AE-45EC-BAA9-E135F69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47D3-5A48-48AC-B6B8-9D8D8361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9C5-E958-4A6A-88B1-8C45954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C27-7CE2-4E23-B837-5270D94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0C9-FCA5-4927-B055-C2CBBF0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6E6E-7BE0-49EC-B673-A90E31F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1431-8C7C-47AA-825A-8BE5230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24A7-6F51-4083-9973-E611A1C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C5C8-0B59-4C35-8598-2D749890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4BF7-93F1-41CA-9937-855D597F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3EB3C-5968-4F3C-AAC8-326425E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88373-D8DB-4891-AD9D-5D7F210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F2327-29C4-4C68-AE77-D9CB9AF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CA6A1-D923-4E48-BE88-3E835889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1D172-3474-4D3D-BDE5-4DC0E991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230-A7ED-439F-BC9F-B64E103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12DA2-18BF-4AC2-A562-C6556541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DFE93-BC00-4CE3-8E8F-3F66ECF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26DFD-F0EE-4F9E-A437-962D066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81BFB-9936-4281-97B3-F58E019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7AF3A-1BD7-4449-9C14-866B78A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6728-02B5-46AF-9A34-761F23E6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121F4-2A26-44CD-8C9E-DB1434D8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86D7-9CFD-42CA-ADA8-341E8DC6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CA7B-6C53-4D6F-8CAB-4EE0079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E31D-4586-41B1-BEC4-67E46E78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BB6-C7D0-4890-8B0C-6082327F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D9E0-D63B-4E81-9650-3234821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A136-760A-45B8-ACEE-47812601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5E3F-0784-45CF-9F42-0FF397F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FB25-3F0E-4393-9CC9-E21DE7E4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485AD-0D24-4A41-925B-0F94E25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063C-5BEC-4670-A01F-EC3526D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3250-371F-4564-927C-1BFC486C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4E91-BA83-4505-8017-761FB687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256D-2F2D-45FA-8860-586A9994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C821B-D8B5-4509-A75B-E66BEE9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64C-7342-4EAB-BA46-372AD80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A5B3C-68A0-428E-A0E4-1FE9B23C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EE3C1-F73C-42A9-B792-CCD47F9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C3676-BDBB-42B2-9F0B-D320AB7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28084-1549-4F0E-91A2-1CAC3A0E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63620-A17D-48C4-9E01-3F508FB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5B84D-0F5D-4824-99B4-BE6E14A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868D6-90BA-426F-A688-B92AB4F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AA699-3188-49A9-BAAA-274B67A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E97E8-3431-4836-9CB7-C557BDF7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60AEB-CF47-40F0-A41B-C0B9558B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329-A526-45E2-A9E5-8B4A433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357DB-2BC4-489F-801C-1BC986FC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314A7-E9BD-408D-AD55-E8616C4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7F18B-6E7E-45EA-B747-58007947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445BA-E852-469A-99B0-DF5ECB5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202B6-95C0-46F4-BA92-F323A15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E5326-F11A-4E01-B3AD-472EBDFD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E4967-2858-4704-B235-4085529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C913E-05C7-4768-82C8-2F588E3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1D719-56D0-4EAD-9502-B5A5CAD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D791C-7C9B-4E0A-A666-FD5C404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F02-CD67-4D11-862F-CEE73318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CB019-81CA-4C2C-8338-539EE16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ABE4E-8D13-4C32-9E2E-63CEAD03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819C0-91FF-46C1-97E5-F366FE28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900B9-8E3F-42AF-B388-EE83960D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549EC-6E3E-4C47-B779-BFEEC6FE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F785D-710E-4ED6-8C15-0C3348E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306D7-C318-4D4F-B0E5-0C41942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ECE19-DA01-4068-B73C-8F5D1DD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79AB3-392A-49BD-86B8-45753F6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2171E-206C-4672-990A-DD364F8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403-844F-49C9-B90C-5C06E0D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9151C-9477-4841-A4E6-F4EFEEB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364753-BC62-4EEE-8CAD-68AF3391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30142-5D66-4B37-9C8C-34B0535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F2542-C0E9-4F31-B6D8-4EF739CA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1BE10-47E7-48CD-9524-B3EB129E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16E-BE4B-4E1C-ACE5-A32FA5C9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A48-8D65-4F77-9675-BD9B066394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E20-C864-4322-A9CA-48D9E7DE797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9321-9CC8-4D4C-A8EF-42386B420F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65D-C5C0-4357-A55D-9E41F6C025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77D1-F0B4-4D5D-8138-186C486C35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2A1-2535-42E1-99A4-B18B07FBB4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C696-BD6D-4CF9-B38A-D470C29672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3"/>
          <p:cNvSpPr/>
          <p:nvPr/>
        </p:nvSpPr>
        <p:spPr>
          <a:xfrm>
            <a:off x="1979640" y="404640"/>
            <a:ext cx="69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МБУ ДО «Станция юных тех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Unicode MS"/>
                <a:ea typeface="Arial Unicode MS"/>
              </a:rPr>
              <a:t>Творческое объедин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«МИР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Unicode MS"/>
                <a:ea typeface="Arial Unicode MS"/>
              </a:rPr>
              <a:t>Автор – состави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педагог Тихон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286000" y="3068640"/>
            <a:ext cx="6607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Century Schoolbook"/>
                <a:ea typeface="Arial Unicode MS"/>
              </a:rPr>
              <a:t>Презентация №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«ПРОФЕССИИ БУДУЩЕГ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к дополнительной общеобразовательной общеразвивающей программе 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  <a:ea typeface="Arial Unicode MS"/>
              </a:rPr>
              <a:t>«Мир професс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ksH29daVHj8"/>
          <p:cNvPicPr/>
          <p:nvPr/>
        </p:nvPicPr>
        <p:blipFill>
          <a:blip r:embed="rId1"/>
          <a:stretch/>
        </p:blipFill>
        <p:spPr>
          <a:xfrm>
            <a:off x="250920" y="189000"/>
            <a:ext cx="155556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ЕЛЬСКОМ ХОЗЯЙ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АГРОКИБЕРНЕТИК (АГРОИНФОРМАТИК)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ГМО – АГРОНО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ИНЖЕНЕР ПО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3D</a:t>
            </a: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 ПЕЧАТИ ПРОДУКТ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СЕЛЬСКОХОЗЯЙСТВЕННЫЙ ЭК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ЦИФРОВОЙ ПАСЕЧНИК</a:t>
            </a:r>
            <a:br>
              <a:rPr sz="31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ЛОГИСТИКЕ И ТРАНСПОРТЕ:</a:t>
            </a:r>
            <a:br>
              <a:rPr sz="3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ПРОЕКТИРОВЩИК НОВЫХ ВИДОВ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ФЕССИОНАЛЬНЫЙ ПИЛОТ ДРОН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ЮРИСТ В СФЕРЕ БЕСПИЛАТНОГО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ОПЕРАТОР КРОСС – ЛОГИСТИК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ИНЖЕНЕР БЕСПИЛОТНОЙ АВИАЦ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СТРОИТЕЛЬ «УМНЫХ» ДОРОГ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МЕХАНИК АВТОНОМНОГО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МЕНЕДЖЕР ГИБКИХ ЦЕПОЧЕК ПОСТАВОК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69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ЭНЕРГЕТИКЕ И РЕСУРСАХ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СПЕЦИАЛИСТ ПО АЛЬТЕРНАТИВНЫМ И ВОЗОБНОВЛЯЕМЫМ ВИДАМ ЭНЕРГИ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МЕТЕОЭНЕРГЕТ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ДИЗАЙНЕР НОСИМЫХ ЭНЕРГОУСТРОЙСТ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ЭКОАНАЛИТИК В ДОБЫВАЮЩИХ ОТРАСЛЯХ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РАЗРАБОТЧИК СИСТЕМ ЭНЕРГОПОТРЕБЛ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ЭЛЕКТРОЗАПРАВЩИК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ТРОИТЕЛЬСТВЕ:</a:t>
            </a:r>
            <a:br>
              <a:rPr sz="3100"/>
            </a:br>
            <a:br>
              <a:rPr sz="31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BIM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– ПРОЕКТИРОВЩ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ЕКТИРОВЩИК ИНФРАСТРУКТУРЫ «УМНОГО» ДОМ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ПЕЦИАЛИСТ ПО ПЕРЕСТРОЙКЕ , УСИЛЕНИЮ СТАРЫХ  СТРОИТЕЛЬНЫХ КОНСТРУКЦ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ПРОЕКТИРОВЩИК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ПЕЧАТИ В СТРОИТЕЛЬСТВ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АРХИТЕКТОР «ЗЕЛЕНЫХ» ГОРОДОВ </a:t>
            </a: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ЛЕГКОЙ ПРОМЫШЛЕННОСТИ:</a:t>
            </a:r>
            <a:br>
              <a:rPr sz="3100"/>
            </a:b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ТЕХНОСТИЛИСТ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ПРОЕКТИРОВЩИК НОВЫХ ТКАН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ПЕЦИАЛИСТ ПО ПЕРЕРАБОТКЕ ОДЕЖДЫ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49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ОЦИАЛЬНОЙ СФЕРЕ:</a:t>
            </a:r>
            <a:br>
              <a:rPr sz="31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МЕДИАТОР СОЦИАЛЬНЫХ ПРОЕК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СПЕЦИАЛИСТ ПО АДАПТАЦИИ ЛЮДЕЙ  С ОВЗ  К РАБОТЕ В ИНТЕРНЕТ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СОЦИАЛЬНЫЙ МОДЕРАТОР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СПЕЦИАЛИСТ ПО АДАПТАЦИИ МИГРАН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СПЕЦИАЛИСТ ПО КРАУДСОРСИНГУ ОБЩЕСТВЕННЫХ ПРОБЛЕ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ПРОЕКТИРОВЩИК ДОСТУПНОЙ СРЕДЫ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КОНСУЛЬТАНТ ДОЛГОЖИТЕЛ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РЕИНТЕГРАТО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ПОМОЩНИК ПО ПРИНЯТИЮ РЕШЕНИЙ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351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СФЕРЕ БЕЗОПАСНОСТИ:</a:t>
            </a:r>
            <a:br>
              <a:rPr sz="31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СПЕЦИАЛИСТ ПО КИБЕРБЕЗОПАС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КИБЕРСЛЕДОВАТЕЛЬ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ПРОЕКТИРОВЩИК ЛИЧНОЙ БЕЗОПАС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МЕНЕДЖЕР НЕПРЕРЫВНОСТИ БИЗНЕС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АНАЛИТИК ПОВЕДЕНИЯ В СОЦСЕТЯХ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СПЕЦИАЛИСТ МЕМОРИАЛИС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7. КРИМИНАЛИСТ – АНАЛИТИК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8. ЭТИЧНЫЙ ХАКЕР ИЛИ ПЕНТЕСТРЕР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БИЗНЕСЕ И ФИНАНСАХ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МУЛЬТИВАЛЮТНЫЙ ПЕРЕВОДЧ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ОПЕРАЦИОНИСТ МУЛЬТИВАЛЮТНОГО БАНК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ОЦЕНЩИК ИНТЕЛЛЕКТУАЛЬНОЙ СОБСТВЕННОСТ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РАЗРАБОТЧИК ПЕРСОНАЛЬНОГО ПЕНСИОННОГО ПЛАН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МЕНЕДЖЕР ФОНДА ПО ИНВЕСТИЦИИ В ТАЛАНТЛИВЫХ ЛЮДЕ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ТРЕНДВОТЧЕР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7. КОРПОРАТИВНЫЙ АНТРОП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8. ТАЙМ – МЕНЕДЖЕР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9. ВИРТУАЛЬНЫЙ АДВОКА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0. КОНСУЛЬТАНТ ПО ЦИФРОВЫМ ВАЛЮТА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1. БЛОКЧЕЙН  - АНАЛИТИК ТАЛАНТ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2. ПЕРСОНАЛИЗИРОВАННЫЙ МАРКЕТОЛОГ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3. МЕНЕДЖЕР ИННОВАЦИ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4. МЕНЕДЖЕР МАГАЗИНА СМЕШАННОЙ  РЕАЛЬНОСТИ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, СВЯЗАННЫЕ С ДЕТСКИМИ ТОВАРАМИ И СЕРВИСАМИ:</a:t>
            </a:r>
            <a:br>
              <a:rPr sz="3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ЭКСПЕРТ ПО ОБРАЗУ БУДУЩЕГО РЕБЕН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АРХИТЕКТОР ТРАНСМЕДИЙНЫХ ПРОДУК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ПРОЕКТИРОВЩИК ДЕТСКОЙ РОБОТОТЕХНИК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4247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ОБРАЗОВАНИИ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. УЧИТЕЛЬ РЕБЕНКА РАННЕГО ВОЗРАСТ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РАЗРАБОТЧИК ОБРАЗОВАТЕЛЬНОЙ ТРАЕКТОР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ИГРОМАСТЕ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АВТОР ОБРАЗОВАТЕЛЬНЫХ КУРСОВ НА БАЗЕ 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ПЕРСОНАЛЬНЫЙ ГИД ПО ОБРАЗОВАНИЮ И КАРЬЕРНОМУ РОСТУ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ТРЕНЕР ПО МАЙНД  - ФИТНЕСУ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ЭКСПЕРТ ПО ПОИСКУ И РАЗВИТИЮ ТАЛАН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КООРДИНАТОР ОБРАЗОВАТЕЛЬНОЙ ОНЛАЙН – ПЛАТФОРМЫ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ПРЕПОДАВАТЕЛЬ ПО 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ОПТИМИЗАТОР ПАМЯТ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1. КОНСУЛЬТАНЬ ПО НЕПРЕРЫВНОМУ ОБРАЗОВАНИЮ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ПРОФЕССИИ БУДУЩЕГО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— ЭТО ПРОФЕССИИ НА СТЫКЕ НЕСКОЛЬКИХ ДИСЦИПЛИН, КОТОРЫЕ ПОЯВЯТСЯ ЧЕРЕЗ 15–20 ЛЕТ. ОНИ ДОПОЛНЯТ ИЛИ ЗАМЕНЯТ УЖЕ СУЩЕСТВУЮЩИЕ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ПРИМЕР, ВОДИТЕЛЕЙ ГРУЗОВИКОВ ГДЕ-ТО ЗАМЕНЯТ БЕСПИЛОТНЫМ ТРАНСПОРТОМ. МАШИНА БУДЕТ ЕЗДИТЬ САМА, А ЧЕЛОВЕК СТАНЕТ РАЗРАБАТЫВАТЬ, КОНТРОЛИРОВАТЬ И ОБСЛУЖИВАТЬ ЭТОТ ТРАНСПОРТ. ШИРОКО РАЗОВЬЕТСЯ ПРОФЕССИЯ ОПЕРАТОРА ДРОНОВ, А СФЕРА ЮРИСПРУДЕНЦИИ РАСШИРИТСЯ НА БЕСПИЛОТНЫЙ ТРАНСПОРТ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9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МАСС – МЕДИА:</a:t>
            </a:r>
            <a:br>
              <a:rPr sz="3100"/>
            </a:b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ИНФОСТИЛИСТ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ДИЗАЙНЕР ВИРТУАЛЬНЫХ МИР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ИНЖЕНЕР ДОПОЛНЕННОЙ И ВИРТУАЛЬНОЙ РЕАЛЬНОСТИ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МЕДИАПОЛИЦЕЙСК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РАЗРАБОТЧИК МЕДИАПРОГРАМ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МЕНЕДЖЕР КРОСС  – КУЛЬТУРНОЙ КОММУНИКАЦИ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ДИЗАЙНЕР ЭМОЦ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РАЗРАБОТЧИК ПУТЕШЕСТВИЙ ДОПОЛНЕННОЙ РЕАЛЬНОСТ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ДИЗАЙНЕР ТАКТИЛЬНЫХ ТЕХНОЛОГ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МЕДИА – РЕМИКСЕР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КУЛЬТУРЕ И ИСКУС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КУРАТОР КОЛЛЕКТИВНОГО ТВОРЧЕСТВ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АРТ – ОЦЕНЩИК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ТРЕНЕР ТВОРЧЕСКИХ СОСТОЯНИЙ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</a:t>
            </a:r>
            <a:r>
              <a:rPr b="0" lang="en-US" sz="2200" spc="-1" strike="noStrike">
                <a:solidFill>
                  <a:srgbClr val="575f6d"/>
                </a:solidFill>
                <a:latin typeface="Century Schoolbook"/>
              </a:rPr>
              <a:t> SCIENCE-</a:t>
            </a: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ХУДОЖНИК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ТУРИЗМЕ И ГОСТЕПРИИМСТВЕ:</a:t>
            </a:r>
            <a:br>
              <a:rPr sz="3100"/>
            </a:b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РЕЖИССЕР ИНДИВИДУАЛЬНЫХ ТУР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РАЗРАБОТЧИК ИНТЕЛЛЕКТУАЛЬНЫХ ТУРИСТИЧЕСКИХ СИСТЕМ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БРЕНД – МЕНЕДЖЕР ПРОСТРАНСТВ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НОСТАЛЬГИСТ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РОЕВЫЙ ХУДОЖНИК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</a:t>
            </a:r>
            <a:br>
              <a:rPr sz="3100"/>
            </a:b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В КОСМОСЕ:</a:t>
            </a:r>
            <a:br>
              <a:rPr sz="31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ПИЛОТ КОММЕРЧЕСКИХ КОСМИЧЕСКИХ КОРАБЛЕЙ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ГИД В СФЕРЕ КОСМИЧЕСКОГО ТУРИЗМА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ИНЖЕНЕР СИСТЕМ ЖИЗНЕОБЕСПЕЧ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КОСМОГЕ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УЗКИЕ СПЕЦИАЛИСТЫ В СФЕРЕ КОСМОСА 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539640" y="2349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пасибо за вним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Желаю Вам творческих успе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ЧТО ВХОДИТ В ПЕРЕЧЕНЬ ПРОФЕССИЙ БУДУЩЕГО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ЧТОБЫ РАЗОБРАТЬСЯ В ПРОФЕССИЯХ БУДУЩЕГО, НУЖНО ИХ ИЗУЧИТЬ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ПРОАНАЛИЗИРОВАЛИ ПРОГНОЗЫ ФУТУРОЛОГОВ И ИССЛЕДОВАТЕЛЕЙ ПО ВСЕМУ МИРУ, СОСТАВИЛИ СВОЙ СПИСОК 150 ПРОФЕССИЙ БУДУЩЕГО. 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 НЕГО ВОШЛИ РЕАЛИСТИЧНЫЕ ПРОФЕССИИ, КОТОРЫЕ УЖЕ ПОЯВИЛИСЬ ИЛИ В БЛИЖАЙШЕЕ ВРЕМЯ ПОЯВЯТСЯ В 19 ОТРАСЛЯХ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ОТРАСЛИ:</a:t>
            </a:r>
            <a:br>
              <a:rPr sz="16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. МЕДИЦИН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2. ЭКОЛОГИЯ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3. ИНФОРМАЦИОННЫЕ ТЕХНОЛОГИИ (</a:t>
            </a: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IT)</a:t>
            </a: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4. БИОТЕХНОЛОГИИ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5. РОБОТОТЕХНИК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6. СЕЛЬСКОЕ ХОЗЯЙ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7. ТРАНСПОРТ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8. ЭНЕРГЕТИКА И РЕСУР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9. СТРОИТЕЛЬ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0. ЛЕГКАЯ ПРОМЫШЛЕННОСТЬ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1. СОЦИАЛЬНАЯ СФЕР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2. БЕЗОПАСНОСТЬ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3. БИЗНЕС И ФИНАН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4. ДЕТСКИЕ ТОВАРЫ И СЕРВИСЫ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5. ОБРАЗОВАНИЕ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6. МАСС – МЕДИА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7. КУЛЬТУРА И ИСКУС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8. ТУРИЗМ И ГОСТЕПРИИМСТВО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19. КОСМОС.</a:t>
            </a:r>
            <a:br>
              <a:rPr sz="16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МЕДИЦИНЕ:</a:t>
            </a:r>
            <a:br>
              <a:rPr sz="2700"/>
            </a:br>
            <a:br>
              <a:rPr sz="27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. ОНЛАЙН - ТЕРАПЕВТ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 2. ЭКСПЕРТ ПО ПЕРСОНИФИЦИРОВАННОЙ МЕДИЦИНЕ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3. БИОЭТИК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4. РАЗРАБОТЧИК КИБЕРПРОТЕЗОВ И ИМПЛАНТОВ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5. СПЕЦИАЛИСТ ПО ИМПЛАНТАМ МОЗГА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6. МЕДИЦИНСКИЙ МАРКЕТОЛОГ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7. ИНЖЕНЕР ГЕНЕТИК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8. СПЕЦИАЛИСТ ПО БИОХАКИНГУ И ПРОГРАММИРУЕМОМУ ЗДОРОВЬЮ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9. ОПЕРАТОР МЕДИЦИНСКИХ РОБОТОВ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0. МОЛЕКУЛЯРНЫЙ ДИЕТОЛОГ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1. КОНСУЛЬТАНТ ПО ЗДОРОВОЙ СТАРОСТИ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2. ВИРТУАЛЬНЫЙ ХИРУРГ 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3. ПСИХОЛОГ ДЛЯ КИБОРГОВ 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entury Schoolbook"/>
              </a:rPr>
              <a:t>14. НАНОМЕДИЦИНСКИЙ ИНЖЕНЕР </a:t>
            </a:r>
            <a:endParaRPr b="0" lang="en-US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694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ЭКОЛОГИИ:</a:t>
            </a:r>
            <a:br>
              <a:rPr sz="2900"/>
            </a:b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СПЕЦИАЛИСТ ПО УМЕНЬШЕНИЮ ЭКОЛОГИЧЕСКОГО СЛЕД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ЭЛЕКТРОПРОВОДН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ИНЖЕНЕР «ЗЕЛЕНОГО» ТРАНСПОРТА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СПЕЦИАЛИСТ ПО ПЕРЕРАБОТКЕ (РЕЦИКЛИНГ – ТЕХНОЛОГ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ГОРОДСКОЙ САДОВОД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ЭКОВОЖАТЫ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7. ЭКОАУДИТО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8. АГРОЭКОЛОГИЧЕСКИЙ ФЕРМЕР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9. СПЕЦИАЛИСТ ПО ПРЕОДОЛЕНИЮ  СИСТЕМНЫХ ЭКОЛОГИЧЕСКИХ КАТАСТРОФ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0. ПРОГНОЗИСТ ЗЕМЛЕТРЯСЕНИЙ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69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ИНФОРМАЦИОННЫХ ТЕХНОЛОГИЯХ:</a:t>
            </a:r>
            <a:br>
              <a:rPr sz="29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ПРОПОВЕДНИК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2. ДАТА – ЖУРНАЛИСТ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3. РУКОВОДИТЕЛЬ ЦИФРОВОЙ ТРАНСФОРМАЦИИ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4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АРХИТЕКТО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5. ЦИФРОВОЙ ЛИНГВИСТ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6. СПЕЦИАЛИСТ ПО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T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- И ИИ ЭТИК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7. УТИЛИЗАТОР ЦИФРОВОГО МУСОРА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8. КОНСУЛЬТАНТ ПО БЕЗОПАСНОСТИ ЛИЧНОГО ПРОФИЛЯ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9. ЗЕРОКОДЕ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0. ПРОЕКТИРОВЩИК НЕЙРОИНТЕРФЕЙС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1. АУДИТОР АЛГОРИТМ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2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AI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– ТРЕНЕР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3. БРОКЕР ДАННЫХ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4. ИНТЕРПРЕТАТОР АЛГОРИТМ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5. ИНЖЕНЕР КВАНТОВЫХ КОМПЬЮТЕРО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16.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HADOWTECH-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МЕНЕДЖЕР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  </a:t>
            </a:r>
            <a:br>
              <a:rPr sz="22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БИОТЕХНОЛОГИЯХ:</a:t>
            </a:r>
            <a:br>
              <a:rPr sz="31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1. БИОФАРМАКОЛОГ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2. ИНЖЕНЕР В ОБЛАСТИ СИНТЕТИЧЕСКОЙ БИОЛОГИИ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3. ПРОЕКТИРОВЩИК КИБЕРОРГАНИЗМ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4. СПЕЦИАЛИСТ ПО ВОЗРОЖДЕНИЮ ВЫМЕРШИХ ВИД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5. СОЗДАТЕЛЬ ОРГАНОВ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6. ЭСТЕТИК 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2060"/>
                </a:solidFill>
                <a:uFillTx/>
                <a:latin typeface="Century Schoolbook"/>
              </a:rPr>
              <a:t>ПРОФЕССИИ БУДУЩЕГО В РОБОТОТЕХНИКЕ:</a:t>
            </a:r>
            <a:br>
              <a:rPr sz="3400"/>
            </a:br>
            <a:br>
              <a:rPr sz="28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1. РАЗРАБОТЧИК РОБОТ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2. ЮРИСТ В СФЕРЕ  РОБОТОТЕХНИК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3. ОПЕРАТОР РОБОТИЗИРОВАННЫХ СИСТЕМ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4. ИНЖЕНЕР – КОМПОЗИТЧИК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5. МЕНЕДЖЕР ПО МАШИННО – ЧЕЛОВЕЧЕСКОЙ РАБОТ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6. МЕНЕДЖЕР ПО ПРОЕКТИРОВАНИЮ УМНОГО ДОМ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5-28T07:18:23Z</dcterms:modified>
  <cp:revision>1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42178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