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E5B-D9E5-4117-A537-17B87BB65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C058-63A1-44F3-989F-DBF366ADC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544-7C40-40DB-AD4E-90F4AFD8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112-1616-46A7-9E61-ADED9358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2A1-4966-4965-8A5B-976FC33D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193-7CC5-43B5-A005-715F8FC1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67B-857D-42F2-BDF6-CD373A6D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119-7A70-4A00-BCA3-C3C6A96E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D58-C696-4343-A911-1ED71CF3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EFC-1E03-4688-BEE2-F62F4CA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108-003B-4D61-AC9B-6E1AEBAC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CC9-925E-4034-9667-CCB78D6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E0A-4346-48F5-9610-3252B30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BC2-DBE1-4F8B-AF51-7911BA1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3D9-D13F-48FF-8F97-1D40918A9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050920" y="1844640"/>
            <a:ext cx="50421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바탕"/>
                <a:ea typeface="바탕"/>
              </a:rPr>
              <a:t>МБУ ДО «СЮ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바탕"/>
                <a:ea typeface="바탕"/>
              </a:rPr>
              <a:t>Творческое объеди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바탕"/>
                <a:ea typeface="바탕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바탕"/>
                <a:ea typeface="바탕"/>
              </a:rPr>
              <a:t>«Мир професси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바탕"/>
                <a:ea typeface="바탕"/>
              </a:rPr>
              <a:t>Педагог: Тихонова Е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바탕"/>
                <a:ea typeface="바탕"/>
              </a:rPr>
              <a:t>Презентаци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바탕"/>
                <a:ea typeface="바탕"/>
              </a:rPr>
              <a:t>«АЗБУК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바탕"/>
                <a:ea typeface="바탕"/>
              </a:rPr>
              <a:t>ПРОФЕССИЙ от А до 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195640" y="1844640"/>
            <a:ext cx="453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е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п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268360" y="1989000"/>
            <a:ext cx="44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хир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268360" y="1844640"/>
            <a:ext cx="446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ф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ор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95640" y="191628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э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2195640" y="198900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ри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й инсп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по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340000" y="1700280"/>
            <a:ext cx="43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п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95640" y="1989000"/>
            <a:ext cx="47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П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кмах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пор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195640" y="1844640"/>
            <a:ext cx="453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268360" y="1844640"/>
            <a:ext cx="424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п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2050920" y="2349360"/>
            <a:ext cx="475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ев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68360" y="2276640"/>
            <a:ext cx="46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entury"/>
              </a:rPr>
              <a:t>БУКВА «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н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во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б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124000" y="1844640"/>
            <a:ext cx="46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2050920" y="1844640"/>
            <a:ext cx="49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Ф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2771640" y="1844640"/>
            <a:ext cx="417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еогра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2050920" y="1773360"/>
            <a:ext cx="47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ю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2195640" y="1916280"/>
            <a:ext cx="46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Ч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й детек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ильщик обу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2268360" y="1773360"/>
            <a:ext cx="44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ф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268360" y="2349360"/>
            <a:ext cx="46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Щ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ов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бён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ёточ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340000" y="18446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Э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68360" y="1484280"/>
            <a:ext cx="43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вел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т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484360" y="2205000"/>
            <a:ext cx="468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хтсм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ер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ви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Рисунок 4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Users\User\Desktop\АЗБУКА ПРОФЕССИЙ\АЗБУКА ПРОФЕССИЙ\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2195640" y="1916280"/>
            <a:ext cx="46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Б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кетбо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2195640" y="234936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Домашнее задание:  нарисовать рисунок по теме: «Моя будущая професс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268360" y="1844640"/>
            <a:ext cx="43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х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2268360" y="1989000"/>
            <a:ext cx="45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268360" y="1916280"/>
            <a:ext cx="43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иж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й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к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340000" y="184464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Ж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к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нгл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ян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268360" y="1916280"/>
            <a:ext cx="46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Ж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к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нгл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ян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:\Users\User\Desktop\АЗБУКА ПРОФЕССИЙ\АЗБУКА ПРОФЕССИЙ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24000" y="1916280"/>
            <a:ext cx="46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ВА «З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ой тех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опер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4T08:52:17Z</dcterms:created>
  <dc:creator>User</dc:creator>
  <dc:description/>
  <dc:language>en-US</dc:language>
  <cp:lastModifiedBy>User</cp:lastModifiedBy>
  <dcterms:modified xsi:type="dcterms:W3CDTF">2024-06-18T07:19:12Z</dcterms:modified>
  <cp:revision>24</cp:revision>
  <dc:subject/>
  <dc:title>Слайд 1</dc:title>
</cp:coreProperties>
</file>