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50EF-A44C-4CA1-88D0-DF8A1E813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ED6B-9883-4733-A982-CA4C4371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BF84-AAC6-43EE-95F1-B750F30C7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3655-4C7B-4084-90A7-378656032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A8F4-E674-45BD-95BD-FB1CF0935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2530-7BDB-436A-B38F-A3FEF9CA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7363-EBDA-4385-AA63-B0F9146A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4EB0-787A-470C-9C84-CA8CBE47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6A7B-FA3E-4F8E-888C-53CAD603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D3DD-461A-48D6-9A6B-55D714B0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D8862-3C8D-4495-8802-7CA62D33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1CFA-F5BC-493A-8176-A49D91A7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D266-9AE0-4CFF-B9C7-789A44D7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4E585-C1C2-4C7A-BD86-2F46F132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EF28-BC7B-4564-B503-19FC8DA7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00CA4-6CB5-4F07-AD23-0AED61BBB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468BE-293A-4700-B0C3-2B1C8986A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005C93-94E5-47F3-AE55-999062800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EB5043-3C08-4779-8A80-F2AFB48E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A67A81-AB20-435F-844E-E1DFC760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1E9EFA-6D8E-47F8-AF42-86D20DED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86C005-FD3A-48EB-B856-54A5A3DA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C64C-C332-4736-9408-64A9294F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5EB006-1E2E-49B3-A188-CBA4404B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D74D1C-E551-4F26-A214-26A667A5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1BA8AD-751F-4A23-ACA6-71B2D52C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CF484E-CD36-405F-87B6-8FC5CEA6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0DBCD4-74EA-422B-B5F6-5494CBC9C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9A299E-1FBC-4AFF-9DE4-73328F381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19BD1F-1843-42CF-A462-B90C763FC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A781D-A598-41AE-AC1E-68FD18705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7D0BC-2C20-4A24-8F81-A7789B46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7D4DD-CEE5-4D9A-ADA8-FC18E4A3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E701-674B-4EB0-8C7A-4987BD85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B050D-0AB9-4534-B74F-27502D32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0C196-859D-47E9-B49B-BBF787B3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E55CC-99BD-4D10-B333-B8595603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FE2C3-8561-4E82-BFD9-12224FE1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7B64D-1FF6-41D6-93EB-3256C182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BAFCF-027F-4048-9603-FBCFD02B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4E849-7E81-4417-B02D-472296C5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42895-3392-4BF3-812E-AADF5C24E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7F54D-1B70-49A7-A92A-716EEE3F4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5034-A63C-493F-BDF0-E96EB640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555D-F34B-4355-80DE-7E3D1AC9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10B8-4BD5-484C-8204-FD999BB0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A9D9-1C2D-4DB9-88A6-2DE7CAC5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9949-8BF1-4433-9DCF-3257A7F4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CE30-4E5D-4B3D-AA70-96A365975E83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8390-8BD3-4ABC-95E8-647E27566C62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C326-F3AB-4D6E-8A98-6FC1A5481AD1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FAA5-5BDE-4946-B872-DE5846DBACDD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Рисунок 1" descr="D:\Users\User\Desktop\2023-2024\ПРЕЗЕНТАЦИИ ШАБЛОНЫ\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TextBox 2"/>
          <p:cNvSpPr/>
          <p:nvPr/>
        </p:nvSpPr>
        <p:spPr>
          <a:xfrm>
            <a:off x="1332000" y="404640"/>
            <a:ext cx="7416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Georgia"/>
                <a:ea typeface="Andalus"/>
              </a:rPr>
              <a:t>МБУ ДО «Станция юных техников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00"/>
                </a:solidFill>
                <a:uFillTx/>
                <a:latin typeface="Georgia"/>
                <a:ea typeface="Andalus"/>
              </a:rPr>
              <a:t>Творческое объединение</a:t>
            </a:r>
            <a:r>
              <a:rPr b="0" lang="ru-RU" sz="2000" spc="-1" strike="noStrike">
                <a:solidFill>
                  <a:srgbClr val="003300"/>
                </a:solidFill>
                <a:latin typeface="Georgia"/>
                <a:ea typeface="Andalus"/>
              </a:rPr>
              <a:t>:</a:t>
            </a:r>
            <a:r>
              <a:rPr b="1" lang="ru-RU" sz="2000" spc="-1" strike="noStrike">
                <a:solidFill>
                  <a:srgbClr val="003300"/>
                </a:solidFill>
                <a:latin typeface="Georgia"/>
                <a:ea typeface="Andalus"/>
              </a:rPr>
              <a:t> «Мир професс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00"/>
                </a:solidFill>
                <a:uFillTx/>
                <a:latin typeface="Georgia"/>
                <a:ea typeface="Andalus"/>
              </a:rPr>
              <a:t>Автор – составитель: </a:t>
            </a:r>
            <a:r>
              <a:rPr b="1" lang="ru-RU" sz="2000" spc="-1" strike="noStrike">
                <a:solidFill>
                  <a:srgbClr val="003300"/>
                </a:solidFill>
                <a:latin typeface="Georgia"/>
                <a:ea typeface="Andalus"/>
              </a:rPr>
              <a:t>педагог Е.А.Тихоно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Georgia"/>
                <a:ea typeface="Andalus"/>
              </a:rPr>
              <a:t>ПРЕЗЕНТАЦ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8000"/>
                </a:solidFill>
                <a:latin typeface="Georgia"/>
                <a:ea typeface="Andalus"/>
              </a:rPr>
              <a:t>«8 ПРОФЕССИЙ БУДУЩЕГО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Рисунок 8" descr="https://quizterra.com/files/storage/2019/01/22/dN9hbE0gLKL3gRF7NhBzbvENs3dIj7nb.png"/>
          <p:cNvPicPr/>
          <p:nvPr/>
        </p:nvPicPr>
        <p:blipFill>
          <a:blip r:embed="rId2"/>
          <a:stretch/>
        </p:blipFill>
        <p:spPr>
          <a:xfrm>
            <a:off x="1763640" y="2852640"/>
            <a:ext cx="6235920" cy="360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Рисунок 1" descr="D:\Users\User\Desktop\2023-2024\ПРЕЗЕНТАЦИИ ШАБЛОНЫ\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TextBox 2"/>
          <p:cNvSpPr/>
          <p:nvPr/>
        </p:nvSpPr>
        <p:spPr>
          <a:xfrm>
            <a:off x="5076720" y="476280"/>
            <a:ext cx="3816360" cy="69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ПРОФЕССИИ БУДУЩЕГ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Онлайн‑преподавате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Такой преподаватель будет востребован в школах и вузах, учебных центрах крупных компаний и на образовательных онлайн‑платформах. Кроме того, можно работать на себя и создавать авторские курс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Рисунок 4" descr="https://ussurijsk.ecvdo.ru/assets/images/slider/pedagog-distancionno.jpg"/>
          <p:cNvPicPr/>
          <p:nvPr/>
        </p:nvPicPr>
        <p:blipFill>
          <a:blip r:embed="rId2"/>
          <a:stretch/>
        </p:blipFill>
        <p:spPr>
          <a:xfrm>
            <a:off x="1332000" y="3213000"/>
            <a:ext cx="3311280" cy="324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1" name="Рисунок 5" descr="https://cdn.woodpeckerlearning.com/wp-content/uploads/sites/13/2018/04/12083519/shutterstock_352387466OnlineTeacher.jpg"/>
          <p:cNvPicPr/>
          <p:nvPr/>
        </p:nvPicPr>
        <p:blipFill>
          <a:blip r:embed="rId3"/>
          <a:stretch/>
        </p:blipFill>
        <p:spPr>
          <a:xfrm>
            <a:off x="1403280" y="549360"/>
            <a:ext cx="3168720" cy="2354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Рисунок 1" descr="D:\Users\User\Desktop\2023-2024\ПРЕЗЕНТАЦИИ ШАБЛОНЫ\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TextBox 2"/>
          <p:cNvSpPr/>
          <p:nvPr/>
        </p:nvSpPr>
        <p:spPr>
          <a:xfrm>
            <a:off x="1403280" y="1557360"/>
            <a:ext cx="727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Желаю всем творческих успехов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Рисунок 3" descr="https://quizterra.com/files/storage/2019/01/22/dN9hbE0gLKL3gRF7NhBzbvENs3dIj7nb.png"/>
          <p:cNvPicPr/>
          <p:nvPr/>
        </p:nvPicPr>
        <p:blipFill>
          <a:blip r:embed="rId2"/>
          <a:stretch/>
        </p:blipFill>
        <p:spPr>
          <a:xfrm>
            <a:off x="2627280" y="2924280"/>
            <a:ext cx="4579920" cy="319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Рисунок 1" descr="D:\Users\User\Desktop\2023-2024\ПРЕЗЕНТАЦИИ ШАБЛОНЫ\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TextBox 3"/>
          <p:cNvSpPr/>
          <p:nvPr/>
        </p:nvSpPr>
        <p:spPr>
          <a:xfrm>
            <a:off x="1476360" y="476280"/>
            <a:ext cx="7199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8 профессий будущего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которые заинтересуют вашего ребён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коло 65% сегодняшних школьников будут работать по специальностям, которых пока не существует, считают экспер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ир вокруг нас меняется, чем дальше, тем стремительне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тремительно развивается наука, возникают новые отрасли производства, появляются новые професс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Если хотите, чтобы ребёнок построил успешную карьеру, важно предвосхищать новые тенденции и выбирать специальности, которые будут востребованы завт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Рисунок 4" descr="https://www.solidarnost.org/netcat_files/1447/1492/12_23.jpg"/>
          <p:cNvPicPr/>
          <p:nvPr/>
        </p:nvPicPr>
        <p:blipFill>
          <a:blip r:embed="rId2"/>
          <a:stretch/>
        </p:blipFill>
        <p:spPr>
          <a:xfrm>
            <a:off x="1476360" y="4005360"/>
            <a:ext cx="3152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0" name="Рисунок 5" descr="https://kartinki.pics/uploads/posts/2022-12/1671741432_kartinkin-net-p-professii-budushchego-kartinki-pinterest-23.jpg"/>
          <p:cNvPicPr/>
          <p:nvPr/>
        </p:nvPicPr>
        <p:blipFill>
          <a:blip r:embed="rId3"/>
          <a:stretch/>
        </p:blipFill>
        <p:spPr>
          <a:xfrm>
            <a:off x="5292720" y="4005360"/>
            <a:ext cx="3095640" cy="230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Рисунок 1" descr="D:\Users\User\Desktop\2023-2024\ПРЕЗЕНТАЦИИ ШАБЛОНЫ\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TextBox 2"/>
          <p:cNvSpPr/>
          <p:nvPr/>
        </p:nvSpPr>
        <p:spPr>
          <a:xfrm>
            <a:off x="4284720" y="476280"/>
            <a:ext cx="4319640" cy="57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ПРОФЕССИИ БУДУЩЕГ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Специалист по работ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с данны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Дата‑сайентис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имеет дело с большими объёмами неструктурированной информации — например, банковскими транзакциями, запросами в поисковиках, показаниями метеорологических станций, подборками медицинских анализ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Рисунок 4" descr="https://sun9-40.userapi.com/impg/VVIxsvFkHf3308nAQBl8J5b5OWeREVlfMoredA/MAVwe8PoWhU.jpg?size=900x900&amp;quality=95&amp;sign=5686a3274de054f93efe78908b2cd4fd&amp;c_uniq_tag=BPDLnHf5LcxMQM6hjpcgsn-Kxui5RZlP-MpWPxKSeb0&amp;type=album"/>
          <p:cNvPicPr/>
          <p:nvPr/>
        </p:nvPicPr>
        <p:blipFill>
          <a:blip r:embed="rId2"/>
          <a:stretch/>
        </p:blipFill>
        <p:spPr>
          <a:xfrm>
            <a:off x="971640" y="404640"/>
            <a:ext cx="3168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1" descr="D:\Users\User\Desktop\2023-2024\ПРЕЗЕНТАЦИИ ШАБЛОНЫ\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2"/>
          <p:cNvSpPr/>
          <p:nvPr/>
        </p:nvSpPr>
        <p:spPr>
          <a:xfrm>
            <a:off x="4643280" y="404640"/>
            <a:ext cx="4105440" cy="67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ПРОФЕССИИ БУДУЩЕГ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Игропракти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Если у ребёнка живое воображение и он любит общаться с людьми, есть вероятность, что ему понравится профессия игропракт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Такой специалист создаёт, организует и проводит игры для самых разных целей. Это могут быть обучающие, психологические и мотивационные мероприятия, которые зачастую направлены не просто на развлечение, но и на получение новых навы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Рисунок 3" descr="https://static.wixstatic.com/media/8c3afb_3fefd4a819f046acb88e173c8735b9b3~mv2.jpg"/>
          <p:cNvPicPr/>
          <p:nvPr/>
        </p:nvPicPr>
        <p:blipFill>
          <a:blip r:embed="rId2"/>
          <a:srcRect l="1397" t="2569" r="14184" b="9617"/>
          <a:stretch/>
        </p:blipFill>
        <p:spPr>
          <a:xfrm>
            <a:off x="1258920" y="3573360"/>
            <a:ext cx="2808360" cy="288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7" name="Рисунок 4" descr="https://leader-id.storage.yandexcloud.net/event_photo/280395/623c34880bf8d480585939.jpg"/>
          <p:cNvPicPr/>
          <p:nvPr/>
        </p:nvPicPr>
        <p:blipFill>
          <a:blip r:embed="rId3"/>
          <a:stretch/>
        </p:blipFill>
        <p:spPr>
          <a:xfrm>
            <a:off x="1258920" y="549360"/>
            <a:ext cx="2808360" cy="266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1" descr="D:\Users\User\Desktop\2023-2024\ПРЕЗЕНТАЦИИ ШАБЛОНЫ\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TextBox 2"/>
          <p:cNvSpPr/>
          <p:nvPr/>
        </p:nvSpPr>
        <p:spPr>
          <a:xfrm>
            <a:off x="5003640" y="404640"/>
            <a:ext cx="381636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РОФЕССИИ БУДУЩ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Операто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медицинских робо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Если ребёнок интересуется информатикой и биологией, познакомьте его с работой оператора медицинских роботов. Она даёт отличную возможность соединить обе сферы и реализовать свои знания и талан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оботизированные системы позволяют врачам проводить сложные процедуры с большей гибкостью и контролем, чем при традиционных метод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Рисунок 3" descr="https://pushinka.top/uploads/posts/2023-08/1692610738_pushinka-top-p-meditsinskie-roboti-kartinki-instagram-1.jpg"/>
          <p:cNvPicPr/>
          <p:nvPr/>
        </p:nvPicPr>
        <p:blipFill>
          <a:blip r:embed="rId2"/>
          <a:stretch/>
        </p:blipFill>
        <p:spPr>
          <a:xfrm>
            <a:off x="1403280" y="3500280"/>
            <a:ext cx="3168720" cy="280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1" name="Рисунок 4" descr="https://pushinka.top/uploads/posts/2023-08/1692610695_pushinka-top-p-meditsinskie-roboti-kartinki-instagram-14.jpg"/>
          <p:cNvPicPr/>
          <p:nvPr/>
        </p:nvPicPr>
        <p:blipFill>
          <a:blip r:embed="rId3"/>
          <a:stretch/>
        </p:blipFill>
        <p:spPr>
          <a:xfrm>
            <a:off x="1403280" y="549360"/>
            <a:ext cx="3240000" cy="2512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1" descr="D:\Users\User\Desktop\2023-2024\ПРЕЗЕНТАЦИИ ШАБЛОНЫ\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TextBox 2"/>
          <p:cNvSpPr/>
          <p:nvPr/>
        </p:nvSpPr>
        <p:spPr>
          <a:xfrm>
            <a:off x="5292720" y="333360"/>
            <a:ext cx="338292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ПРОФЕССИИ БУДУЩЕГ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Разработчи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Они востребованы уже сегодня, а в будущем этот тренд будет ра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Такая профессия — отличный вариант для ребёнка с хорошими аналитическими способностями, особенно если он любит проводить время за компьютер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Рисунок 3" descr="https://luxe-host.ru/wp-content/uploads/3/9/4/3948c2cfba607a17612bdc0ad9b9a830.jpeg"/>
          <p:cNvPicPr/>
          <p:nvPr/>
        </p:nvPicPr>
        <p:blipFill>
          <a:blip r:embed="rId2"/>
          <a:stretch/>
        </p:blipFill>
        <p:spPr>
          <a:xfrm>
            <a:off x="1258920" y="765000"/>
            <a:ext cx="3529080" cy="25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5" name="Рисунок 4" descr="https://www.funnyart.club/uploads/posts/2022-10/1666303477_32-www-funnyart-club-p-kartinki-dlya-programmistov-krasivo-37.jpg"/>
          <p:cNvPicPr/>
          <p:nvPr/>
        </p:nvPicPr>
        <p:blipFill>
          <a:blip r:embed="rId3"/>
          <a:stretch/>
        </p:blipFill>
        <p:spPr>
          <a:xfrm>
            <a:off x="1332000" y="3645000"/>
            <a:ext cx="3527280" cy="266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Рисунок 1" descr="D:\Users\User\Desktop\2023-2024\ПРЕЗЕНТАЦИИ ШАБЛОНЫ\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TextBox 2"/>
          <p:cNvSpPr/>
          <p:nvPr/>
        </p:nvSpPr>
        <p:spPr>
          <a:xfrm>
            <a:off x="5003640" y="404640"/>
            <a:ext cx="3745080" cy="67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ПРОФЕССИИ БУДУЩЕГ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Аналитик в сфере информационной безопасн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Данные называют новой нефтью. А если ценность информации так высока, то ни одна компания не застрахована от хакерских атак. Защитить конфиденциальные сведения бизнесу помогает аналитик в сфере информационной безопасности. Он придумывает решения, которые позволяют предотвратить кражу или потерю важных данных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Рисунок 4" descr="https://cdn.profile.ru/wp-content/uploads/2021/12/informacionnaya-bezopasnost.jpg"/>
          <p:cNvPicPr/>
          <p:nvPr/>
        </p:nvPicPr>
        <p:blipFill>
          <a:blip r:embed="rId2"/>
          <a:stretch/>
        </p:blipFill>
        <p:spPr>
          <a:xfrm>
            <a:off x="1258920" y="3573360"/>
            <a:ext cx="345744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9" name="Рисунок 5" descr="https://opora58.ru/wp-content/uploads/2021/08/shutterstock_452997847-2048x1193.jpg"/>
          <p:cNvPicPr/>
          <p:nvPr/>
        </p:nvPicPr>
        <p:blipFill>
          <a:blip r:embed="rId3"/>
          <a:stretch/>
        </p:blipFill>
        <p:spPr>
          <a:xfrm>
            <a:off x="1332000" y="549360"/>
            <a:ext cx="3384360" cy="277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Рисунок 1" descr="D:\Users\User\Desktop\2023-2024\ПРЕЗЕНТАЦИИ ШАБЛОНЫ\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TextBox 2"/>
          <p:cNvSpPr/>
          <p:nvPr/>
        </p:nvSpPr>
        <p:spPr>
          <a:xfrm>
            <a:off x="4788000" y="404640"/>
            <a:ext cx="4032000" cy="65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ПРОФЕССИИ БУДУЩЕГ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Дизайнер виртуальной сред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Творческий ребёнок, который постоянно что‑то придумывает, не обязательно должен быть бедным художником. Присмотритесь вместе с ним к профессии дизайнера виртуальной среды — он создаёт 3D‑миры, в которые пользователи погружаются с помощью специальных устройств. VR‑технологии применяют в обучении, развлекательной индустрии и искусств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Рисунок 3" descr="https://s0.rbk.ru/rbcplus_pics/media/img/8/14/296340205799148.jpg"/>
          <p:cNvPicPr/>
          <p:nvPr/>
        </p:nvPicPr>
        <p:blipFill>
          <a:blip r:embed="rId2"/>
          <a:stretch/>
        </p:blipFill>
        <p:spPr>
          <a:xfrm>
            <a:off x="1403280" y="549360"/>
            <a:ext cx="3240000" cy="273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3" name="Рисунок 4" descr="https://i.pinimg.com/originals/04/9a/ac/049aacd4a4882dd72fc68a954d24fcbb.png"/>
          <p:cNvPicPr/>
          <p:nvPr/>
        </p:nvPicPr>
        <p:blipFill>
          <a:blip r:embed="rId3"/>
          <a:stretch/>
        </p:blipFill>
        <p:spPr>
          <a:xfrm>
            <a:off x="1332000" y="3789360"/>
            <a:ext cx="3240000" cy="237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Рисунок 1" descr="D:\Users\User\Desktop\2023-2024\ПРЕЗЕНТАЦИИ ШАБЛОНЫ\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TextBox 2"/>
          <p:cNvSpPr/>
          <p:nvPr/>
        </p:nvSpPr>
        <p:spPr>
          <a:xfrm>
            <a:off x="5364000" y="404640"/>
            <a:ext cx="3456000" cy="58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ПРОФЕССИИ БУДУЩЕГ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Генный инжене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Эти специалисты буквально меняют организм и вносят в него новые гены, чтобы наделить его характеристиками, которыми тот раньше не обладал. Например, они могут создать новый сорт пшеницы, устойчивый к холодам, или вывести лосося, который растёт в два раза быстрее обычно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Рисунок 3" descr="https://ic.pics.livejournal.com/estelia/523863/1022199/1022199_original.jpg"/>
          <p:cNvPicPr/>
          <p:nvPr/>
        </p:nvPicPr>
        <p:blipFill>
          <a:blip r:embed="rId2"/>
          <a:stretch/>
        </p:blipFill>
        <p:spPr>
          <a:xfrm>
            <a:off x="1332000" y="3645000"/>
            <a:ext cx="3527280" cy="2638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7" name="Рисунок 4" descr="https://nashaplaneta.su/_nw/599/68627390.jpg"/>
          <p:cNvPicPr/>
          <p:nvPr/>
        </p:nvPicPr>
        <p:blipFill>
          <a:blip r:embed="rId3"/>
          <a:stretch/>
        </p:blipFill>
        <p:spPr>
          <a:xfrm>
            <a:off x="1403280" y="620640"/>
            <a:ext cx="345600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11-22T09:41:55Z</dcterms:created>
  <dc:creator>User</dc:creator>
  <dc:description/>
  <dc:language>en-US</dc:language>
  <cp:lastModifiedBy>User</cp:lastModifiedBy>
  <dcterms:modified xsi:type="dcterms:W3CDTF">2024-06-18T07:20:52Z</dcterms:modified>
  <cp:revision>24</cp:revision>
  <dc:subject/>
  <dc:title>Слайд 1</dc:title>
</cp:coreProperties>
</file>