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5.png" ContentType="image/png"/>
  <Override PartName="/ppt/media/image3.png" ContentType="image/png"/>
  <Override PartName="/ppt/media/image4.jpeg" ContentType="image/jpeg"/>
  <Override PartName="/ppt/media/image2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9998-F42C-4F8B-A83F-252BB152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EAE0-883F-4883-89AB-ACA6B8AF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6A91-3FB3-431A-B86E-C8B4B557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C904-6734-4D6D-9ADD-12B0E7021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6F470-8FCA-4851-8EF5-D86F4DE92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9DCE-B3F4-48E9-9175-6F5C3679D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DCC9-17B9-4ED9-8816-BE3A0FA9F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EBDA1-7579-4DAB-9730-4919ADFE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96FBF-7349-45B7-86A2-E387202B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5EB9-D1EF-41A3-93F1-574DC972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423C8-D2F1-4DBE-AA7D-9FD920CD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CFA7-7996-4D0F-8E53-70E5E23D2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60BD-7F7C-4A28-8995-AD73E1A3B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EEA8C-337D-41CB-A217-7999F5D3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87653-5992-45D4-8C1B-5DF3BFE50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281B9-1CD8-4468-B365-1632EEC65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30FB-FA57-47E8-A920-A6D23A742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688856-7B13-4044-A5C2-D777A1EE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237E9-63EC-47A1-843A-8CC492D65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45FC5-0CEB-42C9-A667-76C9D7601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DADC1-4E4F-4462-946F-3A24865B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3E18B-EC33-4D60-9408-3935B0A1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0E46-295D-4049-A521-09055691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B84B2-B273-4F8D-B27D-AF28942A4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641C5-CFCB-4CCA-8907-DFA15AB3E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60F59-CF17-47E9-B567-3DA06FBF3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9BCBDC-4276-439C-820A-F512F0C28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85D00-8A12-4909-B958-3D11E3D45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1966F-681C-4F73-91C8-8AD54479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79B277-6702-4711-9F2C-1FCA0AB2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218E5-9E53-42F0-BDD4-B370878F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F4299-4A11-42D0-9BA5-6D23FB16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B34FED-05AE-4FF0-811E-FAD74AB06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30C3-FFC3-4C9D-A1EF-9CC7DFA6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C74A3-E58F-487F-802E-9B135C7BB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4F7045-3CE8-466A-AE16-82CC90AC9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1ED64-2244-48EA-8D19-AD63567B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7D10A-91CE-4BF1-B114-6131666E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AC5CB-3C18-468A-B8B7-D5D9530BC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5D756-E764-4684-9D49-415DF3CD2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7D22B-A172-4163-9EF4-ED148B11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5F2A9-D8EB-4C9D-9842-4A4F75B5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F89E1-5055-4AC2-9E57-2F66BE228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CBF4E-D308-4B7C-95AE-6FE2A9CF0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1A96B-6945-47B5-8804-08692879B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43BECC-87C4-42C1-B807-614F657B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22ED0-D5BE-4F82-9F74-889DAA9E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5F9889-B277-4DC8-85CE-D221D9F40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45B4F3-022F-4508-9F35-A95121D9C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FC8A0-3EE1-426A-95A4-596CA8BD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B0AEF-A672-4BEE-9307-2E546EB3C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24BFA-2AFF-4A04-BAC3-9F808FD6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5CAFE-F1F6-4374-9A2D-429F06CA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019CE-2C4D-4335-B50A-7DBA33B58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DE5573-6D07-496F-A917-3A34E5124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61FA-1FF4-43E4-B267-925CA9AF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217F3D-EFD8-4075-B342-88C1D351C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C477-E677-4B8F-A09D-55364A2E6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FF175-7E23-47D4-A5AA-C4ECDA923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D044-2DAB-4DED-87E4-46ABCC72E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E576-1D90-4E86-BFF9-3F95E960A78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40A88-37FD-4DDA-BA64-DCD09DBD031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3A4B-5875-4975-8A06-41A8BCA0F43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9F83B-5564-4B3C-8B73-2AD058D816A6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AEB0-EDDD-4549-AE87-D7547B7B305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2"/>
          <p:cNvSpPr/>
          <p:nvPr/>
        </p:nvSpPr>
        <p:spPr>
          <a:xfrm>
            <a:off x="468360" y="549360"/>
            <a:ext cx="8351640" cy="40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Муниципальное бюджетное учрежден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дополнительного образования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«Станция юных техников»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0000"/>
                </a:solidFill>
                <a:latin typeface="Verdana"/>
              </a:rPr>
              <a:t>СЕМИНАР – ПРАКТИКУМ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000099"/>
                </a:solidFill>
                <a:uFillTx/>
                <a:latin typeface="Verdana"/>
              </a:rPr>
              <a:t> </a:t>
            </a:r>
            <a:r>
              <a:rPr b="1" lang="ru-RU" sz="3600" spc="-1" strike="noStrike" u="sng">
                <a:solidFill>
                  <a:srgbClr val="000099"/>
                </a:solidFill>
                <a:uFillTx/>
                <a:latin typeface="Verdana"/>
              </a:rPr>
              <a:t>«ТВОРЧЕСКИЙ ПЕРЕПОЛОХ</a:t>
            </a: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0000"/>
                </a:solidFill>
                <a:latin typeface="Verdana"/>
              </a:rPr>
              <a:t>Поделки в различных техниках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Рисунок 3" descr="Picture background"/>
          <p:cNvPicPr/>
          <p:nvPr/>
        </p:nvPicPr>
        <p:blipFill>
          <a:blip r:embed="rId1"/>
          <a:stretch/>
        </p:blipFill>
        <p:spPr>
          <a:xfrm>
            <a:off x="684360" y="4797360"/>
            <a:ext cx="2305080" cy="153684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4" descr="Picture background"/>
          <p:cNvPicPr/>
          <p:nvPr/>
        </p:nvPicPr>
        <p:blipFill>
          <a:blip r:embed="rId2"/>
          <a:stretch/>
        </p:blipFill>
        <p:spPr>
          <a:xfrm>
            <a:off x="7020000" y="4292640"/>
            <a:ext cx="159552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extBox 1"/>
          <p:cNvSpPr/>
          <p:nvPr/>
        </p:nvSpPr>
        <p:spPr>
          <a:xfrm>
            <a:off x="324000" y="333360"/>
            <a:ext cx="84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Рисунок 2" descr="Picture background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Box 1"/>
          <p:cNvSpPr/>
          <p:nvPr/>
        </p:nvSpPr>
        <p:spPr>
          <a:xfrm>
            <a:off x="468360" y="1268280"/>
            <a:ext cx="7991280" cy="29743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cc"/>
                </a:solidFill>
                <a:latin typeface="Comic Sans MS"/>
                <a:ea typeface="BatangChe"/>
              </a:rPr>
              <a:t> </a:t>
            </a:r>
            <a:r>
              <a:rPr b="1" lang="ru-RU" sz="4500" spc="-1" strike="noStrike">
                <a:solidFill>
                  <a:srgbClr val="000099"/>
                </a:solidFill>
                <a:latin typeface="Verdana"/>
                <a:ea typeface="Verdana"/>
              </a:rPr>
              <a:t>Цель: 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Verdana"/>
                <a:ea typeface="Verdana"/>
              </a:rPr>
              <a:t>ОБОБЩЕНИЕ И ТРАНСЛЯЦИЯ ПЕДАГОГИЧЕСКОГО ОПЫ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3" descr="Picture background"/>
          <p:cNvPicPr/>
          <p:nvPr/>
        </p:nvPicPr>
        <p:blipFill>
          <a:blip r:embed="rId1"/>
          <a:stretch/>
        </p:blipFill>
        <p:spPr>
          <a:xfrm>
            <a:off x="611280" y="476280"/>
            <a:ext cx="2736720" cy="1873080"/>
          </a:xfrm>
          <a:prstGeom prst="rect">
            <a:avLst/>
          </a:prstGeom>
          <a:ln w="0">
            <a:noFill/>
          </a:ln>
        </p:spPr>
      </p:pic>
      <p:pic>
        <p:nvPicPr>
          <p:cNvPr id="225" name="Рисунок 4" descr="Picture background"/>
          <p:cNvPicPr/>
          <p:nvPr/>
        </p:nvPicPr>
        <p:blipFill>
          <a:blip r:embed="rId2"/>
          <a:stretch/>
        </p:blipFill>
        <p:spPr>
          <a:xfrm>
            <a:off x="5940360" y="3789360"/>
            <a:ext cx="2610000" cy="26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1"/>
          <p:cNvSpPr/>
          <p:nvPr/>
        </p:nvSpPr>
        <p:spPr>
          <a:xfrm>
            <a:off x="395280" y="60120"/>
            <a:ext cx="835344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000099"/>
                </a:solidFill>
                <a:latin typeface="Verdana"/>
              </a:rPr>
              <a:t>Мастер – классы: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«Тортик» </a:t>
            </a: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из полимерной глины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«Морской конёк» </a:t>
            </a: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рисование акварелью и фломастерами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Verdana"/>
              </a:rPr>
              <a:t>«Браслет» </a:t>
            </a:r>
            <a:r>
              <a:rPr b="0" lang="ru-RU" sz="3200" spc="-1" strike="noStrike">
                <a:solidFill>
                  <a:srgbClr val="000099"/>
                </a:solidFill>
                <a:latin typeface="Verdana"/>
              </a:rPr>
              <a:t>плетение бисером</a:t>
            </a:r>
            <a:r>
              <a:rPr b="0" lang="ru-RU" sz="3600" spc="-1" strike="noStrike">
                <a:solidFill>
                  <a:srgbClr val="000099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2" descr="Picture background"/>
          <p:cNvPicPr/>
          <p:nvPr/>
        </p:nvPicPr>
        <p:blipFill>
          <a:blip r:embed="rId1"/>
          <a:stretch/>
        </p:blipFill>
        <p:spPr>
          <a:xfrm>
            <a:off x="6443640" y="4724280"/>
            <a:ext cx="2306520" cy="15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1"/>
          <p:cNvSpPr/>
          <p:nvPr/>
        </p:nvSpPr>
        <p:spPr>
          <a:xfrm>
            <a:off x="468360" y="404640"/>
            <a:ext cx="81360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Мастер – класс: «ТОРТИК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из полимерной глин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Arial"/>
              </a:rPr>
              <a:t>педагог Анна Сергеевна Шашкова – </a:t>
            </a: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руководитель объединения </a:t>
            </a:r>
            <a:r>
              <a:rPr b="1" lang="ru-RU" sz="3000" spc="-1" strike="noStrike">
                <a:solidFill>
                  <a:srgbClr val="000099"/>
                </a:solidFill>
                <a:latin typeface="Arial"/>
              </a:rPr>
              <a:t>«ВЕЛИКОЛЕПК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cc"/>
                </a:solidFill>
                <a:uFillTx/>
                <a:latin typeface="Comic Sans MS"/>
                <a:ea typeface="BatangCh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Рисунок 3" descr="Picture background"/>
          <p:cNvPicPr/>
          <p:nvPr/>
        </p:nvPicPr>
        <p:blipFill>
          <a:blip r:embed="rId1"/>
          <a:stretch/>
        </p:blipFill>
        <p:spPr>
          <a:xfrm>
            <a:off x="539640" y="549360"/>
            <a:ext cx="2664000" cy="1942920"/>
          </a:xfrm>
          <a:prstGeom prst="rect">
            <a:avLst/>
          </a:prstGeom>
          <a:ln w="0">
            <a:noFill/>
          </a:ln>
        </p:spPr>
      </p:pic>
      <p:pic>
        <p:nvPicPr>
          <p:cNvPr id="230" name="Рисунок 4" descr="Picture background"/>
          <p:cNvPicPr/>
          <p:nvPr/>
        </p:nvPicPr>
        <p:blipFill>
          <a:blip r:embed="rId2"/>
          <a:srcRect l="4110" t="9907" r="4493" b="5951"/>
          <a:stretch/>
        </p:blipFill>
        <p:spPr>
          <a:xfrm>
            <a:off x="6300720" y="4653000"/>
            <a:ext cx="22320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1"/>
          <p:cNvSpPr/>
          <p:nvPr/>
        </p:nvSpPr>
        <p:spPr>
          <a:xfrm>
            <a:off x="539640" y="1125360"/>
            <a:ext cx="7993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99"/>
                </a:solidFill>
                <a:latin typeface="Arial"/>
              </a:rPr>
              <a:t>Полимерная глина - или пла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 — </a:t>
            </a: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это мягкая и пластичная масса. Очень похожа на пластилин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Рисунок 2" descr="Picture background"/>
          <p:cNvPicPr/>
          <p:nvPr/>
        </p:nvPicPr>
        <p:blipFill>
          <a:blip r:embed="rId1"/>
          <a:stretch/>
        </p:blipFill>
        <p:spPr>
          <a:xfrm>
            <a:off x="6227640" y="4005360"/>
            <a:ext cx="2384640" cy="2185920"/>
          </a:xfrm>
          <a:prstGeom prst="rect">
            <a:avLst/>
          </a:prstGeom>
          <a:ln w="0">
            <a:noFill/>
          </a:ln>
        </p:spPr>
      </p:pic>
      <p:pic>
        <p:nvPicPr>
          <p:cNvPr id="233" name="Рисунок 3" descr="Picture background"/>
          <p:cNvPicPr/>
          <p:nvPr/>
        </p:nvPicPr>
        <p:blipFill>
          <a:blip r:embed="rId2"/>
          <a:stretch/>
        </p:blipFill>
        <p:spPr>
          <a:xfrm>
            <a:off x="611280" y="4005360"/>
            <a:ext cx="244800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Рисунок 4" descr="Picture background"/>
          <p:cNvPicPr/>
          <p:nvPr/>
        </p:nvPicPr>
        <p:blipFill>
          <a:blip r:embed="rId3"/>
          <a:stretch/>
        </p:blipFill>
        <p:spPr>
          <a:xfrm>
            <a:off x="3348000" y="3716280"/>
            <a:ext cx="2664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Прямоугольник 1"/>
          <p:cNvSpPr/>
          <p:nvPr/>
        </p:nvSpPr>
        <p:spPr>
          <a:xfrm>
            <a:off x="539640" y="765000"/>
            <a:ext cx="8136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Прямоугольник 4"/>
          <p:cNvSpPr/>
          <p:nvPr/>
        </p:nvSpPr>
        <p:spPr>
          <a:xfrm>
            <a:off x="468360" y="620640"/>
            <a:ext cx="8136000" cy="44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Arial"/>
              </a:rPr>
              <a:t>Мастер – класс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Arial"/>
              </a:rPr>
              <a:t>«МОРСКОЙ КОНЁК»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рисование акварелью и фломастерам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педаго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Наталья Сергеевна Зарифулина – руководитель объеди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Arial"/>
              </a:rPr>
              <a:t>«АВКВАРЕЛЬ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Рисунок 3" descr=""/>
          <p:cNvPicPr/>
          <p:nvPr/>
        </p:nvPicPr>
        <p:blipFill>
          <a:blip r:embed="rId1"/>
          <a:srcRect l="20835" t="1819" r="24126" b="4655"/>
          <a:stretch/>
        </p:blipFill>
        <p:spPr>
          <a:xfrm>
            <a:off x="7308720" y="4076640"/>
            <a:ext cx="1295640" cy="230508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4" descr=""/>
          <p:cNvPicPr/>
          <p:nvPr/>
        </p:nvPicPr>
        <p:blipFill>
          <a:blip r:embed="rId2"/>
          <a:srcRect l="20828" t="1828" r="24128" b="4654"/>
          <a:stretch/>
        </p:blipFill>
        <p:spPr>
          <a:xfrm>
            <a:off x="324000" y="476280"/>
            <a:ext cx="115236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1"/>
          <p:cNvSpPr/>
          <p:nvPr/>
        </p:nvSpPr>
        <p:spPr>
          <a:xfrm>
            <a:off x="468360" y="476280"/>
            <a:ext cx="82072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Акварель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в переводе с французского слова aquarelle означает “водянистая”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Это такой вид красок, в которых растворителем является вода, в результате чего получаются легкие и полупрозрачные картин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2" descr="5cfb13886a2bf66750c2f9a74029ef23"/>
          <p:cNvPicPr/>
          <p:nvPr/>
        </p:nvPicPr>
        <p:blipFill>
          <a:blip r:embed="rId1"/>
          <a:stretch/>
        </p:blipFill>
        <p:spPr>
          <a:xfrm>
            <a:off x="1042920" y="2852640"/>
            <a:ext cx="3308400" cy="24796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efd3f85481f7312b54ddd19919eae0fd"/>
          <p:cNvPicPr/>
          <p:nvPr/>
        </p:nvPicPr>
        <p:blipFill>
          <a:blip r:embed="rId2"/>
          <a:stretch/>
        </p:blipFill>
        <p:spPr>
          <a:xfrm>
            <a:off x="5724360" y="2781360"/>
            <a:ext cx="300204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Прямоугольник 3"/>
          <p:cNvSpPr/>
          <p:nvPr/>
        </p:nvSpPr>
        <p:spPr>
          <a:xfrm>
            <a:off x="971640" y="620640"/>
            <a:ext cx="7777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Arial"/>
              </a:rPr>
              <a:t>Мастер – класс: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99"/>
                </a:solidFill>
                <a:latin typeface="Arial"/>
              </a:rPr>
              <a:t>«БРАСЛЕТ» 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99"/>
                </a:solidFill>
                <a:latin typeface="Arial"/>
              </a:rPr>
              <a:t>плетение бисер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педагог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Оксана Владимировна Головацкая  – руководитель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99"/>
                </a:solidFill>
                <a:latin typeface="Arial"/>
              </a:rPr>
              <a:t>объединения «КАЛЕЙДОСКОП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Рисунок 2" descr="Picture background"/>
          <p:cNvPicPr/>
          <p:nvPr/>
        </p:nvPicPr>
        <p:blipFill>
          <a:blip r:embed="rId1"/>
          <a:stretch/>
        </p:blipFill>
        <p:spPr>
          <a:xfrm>
            <a:off x="395280" y="549360"/>
            <a:ext cx="1800360" cy="1511280"/>
          </a:xfrm>
          <a:prstGeom prst="rect">
            <a:avLst/>
          </a:prstGeom>
          <a:ln w="0">
            <a:noFill/>
          </a:ln>
        </p:spPr>
      </p:pic>
      <p:pic>
        <p:nvPicPr>
          <p:cNvPr id="244" name="Рисунок 3" descr="Picture background"/>
          <p:cNvPicPr/>
          <p:nvPr/>
        </p:nvPicPr>
        <p:blipFill>
          <a:blip r:embed="rId2"/>
          <a:stretch/>
        </p:blipFill>
        <p:spPr>
          <a:xfrm>
            <a:off x="6659640" y="4508640"/>
            <a:ext cx="2097000" cy="173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Box 1"/>
          <p:cNvSpPr/>
          <p:nvPr/>
        </p:nvSpPr>
        <p:spPr>
          <a:xfrm>
            <a:off x="468360" y="404640"/>
            <a:ext cx="8136000" cy="58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Бисероплетение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– старинный вид рукодели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ри помощи которого можно создавать множество украшений, игрушек, брелоков и прочего, путем нанизывания бусинок со сквозным отверстием на нитку, проволоку или леску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Arial"/>
              </a:rPr>
              <a:t>Бисер</a:t>
            </a: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 – это маленькие бусинки из стекла или других материалов, просверленные насквозь, из которых плетут ожерелья, браслеты и прочие украшения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Рисунок 5" descr="Picture background"/>
          <p:cNvPicPr/>
          <p:nvPr/>
        </p:nvPicPr>
        <p:blipFill>
          <a:blip r:embed="rId1"/>
          <a:stretch/>
        </p:blipFill>
        <p:spPr>
          <a:xfrm>
            <a:off x="5219640" y="4076640"/>
            <a:ext cx="3313080" cy="2160720"/>
          </a:xfrm>
          <a:prstGeom prst="rect">
            <a:avLst/>
          </a:prstGeom>
          <a:ln w="0">
            <a:noFill/>
          </a:ln>
        </p:spPr>
      </p:pic>
      <p:pic>
        <p:nvPicPr>
          <p:cNvPr id="247" name="Рисунок 6" descr="Picture background"/>
          <p:cNvPicPr/>
          <p:nvPr/>
        </p:nvPicPr>
        <p:blipFill>
          <a:blip r:embed="rId2"/>
          <a:stretch/>
        </p:blipFill>
        <p:spPr>
          <a:xfrm>
            <a:off x="1042920" y="4076640"/>
            <a:ext cx="360036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15T05:05:26Z</dcterms:created>
  <dc:creator>User</dc:creator>
  <dc:description/>
  <dc:language>en-US</dc:language>
  <cp:lastModifiedBy>User</cp:lastModifiedBy>
  <dcterms:modified xsi:type="dcterms:W3CDTF">2024-10-10T05:21:01Z</dcterms:modified>
  <cp:revision>128</cp:revision>
  <dc:subject/>
  <dc:title>Слайд 1</dc:title>
</cp:coreProperties>
</file>